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9C53-54A4-4461-B0AD-E393C44E5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2560" y="393048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C91BE-02B2-493A-8FD3-271AC9BEB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25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099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96836-BAFE-4982-A719-92CB79453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8362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2520" y="8362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2560" y="39304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39304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2520" y="39304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1C0A-4234-44F8-A37D-87A5680D6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4360" y="115560"/>
            <a:ext cx="90360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425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3D733-9F05-4F14-9689-7778808AA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099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2560" y="393048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42560" y="393048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25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099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22360" y="8362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2520" y="8362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42560" y="39304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22360" y="39304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2520" y="393048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07D82-5F48-43DA-AB8E-48B287A0E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A0B6-0AED-41C5-84FC-B845FE691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9507-143A-4BBC-8CDB-F9FF95E74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4360" y="115560"/>
            <a:ext cx="90360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5436-644A-494D-85D3-6C9764AF1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25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DABC2-56D9-4B9C-89DD-367AF800F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09960" y="39304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AB358-0ECA-48BE-97D5-7CAF7AEF2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360" y="8784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9960" y="83628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2560" y="393048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761D-6165-4727-864E-F1B276F6C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901"/>
              </a:spcBef>
              <a:buClr>
                <a:srgbClr val="000044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901"/>
              </a:spcBef>
              <a:buClr>
                <a:srgbClr val="000044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0872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370E-9897-4697-909F-1CA002F1DBE3}" type="slidenum">
              <a: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6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HGSｺﾞｼｯｸE"/>
              </a:rPr>
              <a:t>Click to edit the title text format</a:t>
            </a:r>
            <a:endParaRPr b="1" lang="en-US" sz="48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GSｺﾞｼｯｸE"/>
              </a:rPr>
              <a:t>Click to edit the outline text format</a:t>
            </a: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  <a:p>
            <a:pPr lvl="1" marL="45252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2" marL="90504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357560" algn="ctr">
              <a:spcBef>
                <a:spcPts val="499"/>
              </a:spcBef>
              <a:buClr>
                <a:srgbClr val="000044"/>
              </a:buClr>
              <a:buFont typeface="ＭＳ Ｐゴシック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Four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  <a:p>
            <a:pPr lvl="4" marL="1810440" algn="ctr">
              <a:spcBef>
                <a:spcPts val="499"/>
              </a:spcBef>
              <a:buClr>
                <a:srgbClr val="000044"/>
              </a:buClr>
              <a:buFont typeface="ＭＳ Ｐゴシック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Fif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  <a:p>
            <a:pPr lvl="5" marL="1810440">
              <a:spcBef>
                <a:spcPts val="4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Six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  <a:p>
            <a:pPr lvl="6" marL="1810440">
              <a:spcBef>
                <a:spcPts val="4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Seven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0000"/>
                </a:solidFill>
                <a:latin typeface="HGSｺﾞｼｯｸE"/>
              </a:rPr>
              <a:t>アフターコロナ時代に求められる</a:t>
            </a:r>
            <a:br>
              <a:rPr sz="4400"/>
            </a:br>
            <a:r>
              <a:rPr b="1" lang="ja-JP" sz="4400" spc="-1" strike="noStrike">
                <a:solidFill>
                  <a:srgbClr val="ff0000"/>
                </a:solidFill>
                <a:latin typeface="HGSｺﾞｼｯｸE"/>
              </a:rPr>
              <a:t>鉄道イノベーション</a:t>
            </a:r>
            <a:br>
              <a:rPr sz="4400"/>
            </a:br>
            <a:endParaRPr b="1" lang="en-US" sz="44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15960" y="3860280"/>
            <a:ext cx="7772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GSｺﾞｼｯｸE"/>
              </a:rPr>
              <a:t>(</a:t>
            </a:r>
            <a:r>
              <a:rPr b="1" lang="ja-JP" sz="3600" spc="-1" strike="noStrike">
                <a:solidFill>
                  <a:srgbClr val="000000"/>
                </a:solidFill>
                <a:latin typeface="HGSｺﾞｼｯｸE"/>
              </a:rPr>
              <a:t>株</a:t>
            </a:r>
            <a:r>
              <a:rPr b="1" lang="en-US" sz="3600" spc="-1" strike="noStrike">
                <a:solidFill>
                  <a:srgbClr val="000000"/>
                </a:solidFill>
                <a:latin typeface="HGSｺﾞｼｯｸE"/>
              </a:rPr>
              <a:t>)</a:t>
            </a:r>
            <a:r>
              <a:rPr b="1" lang="ja-JP" sz="3600" spc="-1" strike="noStrike">
                <a:solidFill>
                  <a:srgbClr val="000000"/>
                </a:solidFill>
                <a:latin typeface="HGSｺﾞｼｯｸE"/>
              </a:rPr>
              <a:t>ライトレール</a:t>
            </a:r>
            <a:br>
              <a:rPr sz="3200"/>
            </a:br>
            <a:r>
              <a:rPr b="1" lang="ja-JP" sz="3600" spc="-1" strike="noStrike">
                <a:solidFill>
                  <a:srgbClr val="000000"/>
                </a:solidFill>
                <a:latin typeface="HGSｺﾞｼｯｸE"/>
              </a:rPr>
              <a:t>阿 部　 </a:t>
            </a:r>
            <a:r>
              <a:rPr b="1" lang="zh-TW" sz="3600" spc="-1" strike="noStrike">
                <a:solidFill>
                  <a:srgbClr val="000000"/>
                </a:solidFill>
                <a:latin typeface="HGSｺﾞｼｯｸE"/>
              </a:rPr>
              <a:t>等</a:t>
            </a:r>
            <a:endParaRPr b="1" lang="en-US" sz="3600" spc="-1" strike="noStrike">
              <a:solidFill>
                <a:srgbClr val="000000"/>
              </a:solidFill>
              <a:latin typeface="HGSｺﾞｼｯｸE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HGSｺﾞｼｯｸE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HGSｺﾞｼｯｸE"/>
              </a:rPr>
              <a:t>http://www.LRT.co.jp</a:t>
            </a:r>
            <a:br>
              <a:rPr sz="5400"/>
            </a:br>
            <a:endParaRPr b="1" lang="en-US" sz="2800" spc="-1" strike="noStrike">
              <a:solidFill>
                <a:srgbClr val="000000"/>
              </a:solidFill>
              <a:latin typeface="HGSｺﾞｼｯｸE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GSｺﾞｼｯｸE"/>
              </a:rPr>
              <a:t>2020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HGSｺﾞｼｯｸE"/>
              </a:rPr>
              <a:t>5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HGSｺﾞｼｯｸE"/>
              </a:rPr>
              <a:t>23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日</a:t>
            </a:r>
            <a:endParaRPr b="1" lang="en-US" sz="2800" spc="-1" strike="noStrike">
              <a:solidFill>
                <a:srgbClr val="000000"/>
              </a:solidFill>
              <a:latin typeface="HGSｺﾞｼｯｸ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第１期として長岡－糸魚川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4859280" cy="36846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42920" y="4437000"/>
            <a:ext cx="910908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新潟－直江津：１時間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45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前後 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5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以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新潟－金沢：３時間強 ⇒ １時間半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新潟県主催の勉強会にて一緒に検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フル規格では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6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以降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代に繰上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28FA-4F2C-4587-8EB2-D06E69854B06}" type="slidenum">
              <a:t>10</a:t>
            </a:fld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４．羽田新幹線（在来線でなく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ＪＲ東日本の羽田空港アクセ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在来線を田町付近で分岐し休止貨物線を活用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岐箇所で新幹線と交差し大工事かつ単線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東海道新幹線に大井車両基地への分岐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その活用により工事費安くかつ複線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東京－羽田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3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東京駅を東北・上越・北陸新幹線と直通に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羽田と南北海道・東北・上信越・北陸を直結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さらに京浜湾岸部への延伸も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EE605-DA48-4D5D-9661-33740451374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東京駅時刻表</a:t>
            </a: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(</a:t>
            </a: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案</a:t>
            </a: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)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905360" cy="57610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8968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30872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2D82-A796-4407-B4D4-E2CF76FE6A72}" type="slidenum">
              <a: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&lt;number&gt;</a:t>
            </a:fld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B995-FC4C-451A-9EA4-7B7FC4DC80C8}" type="slidenum">
              <a:t>12</a:t>
            </a:fld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５．貨物新幹線（旅客新幹線でなく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旅客用の新幹線ネットワークを貨物でも活用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速達性の向上、自然災害への強靭性の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アフターコロナ時代は地方－大都市の物流増大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線路容量が逼迫している区間以外に展開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初期は函館－大宮ｰ新潟・白山、野中－鹿児島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函館・久喜・白山・野中に在来線との積替え基地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門型クレーンによりコンテナを数分で積替え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青函トンネルの有効活用に貢献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旅客の速度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旅客・貨物の速度差解消により線路容量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CD52-809E-4E88-A3EC-EC8ECCCC72B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4135320" y="4076640"/>
            <a:ext cx="1230480" cy="1073520"/>
            <a:chOff x="4135320" y="4076640"/>
            <a:chExt cx="1230480" cy="1073520"/>
          </a:xfrm>
        </p:grpSpPr>
        <p:sp>
          <p:nvSpPr>
            <p:cNvPr id="354" name="Freeform 840"/>
            <p:cNvSpPr/>
            <p:nvPr/>
          </p:nvSpPr>
          <p:spPr>
            <a:xfrm>
              <a:off x="4135320" y="4541760"/>
              <a:ext cx="843120" cy="270000"/>
            </a:xfrm>
            <a:custGeom>
              <a:avLst/>
              <a:gdLst/>
              <a:ahLst/>
              <a:rect l="l" t="t" r="r" b="b"/>
              <a:pathLst>
                <a:path w="531" h="170">
                  <a:moveTo>
                    <a:pt x="461" y="170"/>
                  </a:moveTo>
                  <a:cubicBezTo>
                    <a:pt x="464" y="158"/>
                    <a:pt x="465" y="117"/>
                    <a:pt x="473" y="101"/>
                  </a:cubicBezTo>
                  <a:cubicBezTo>
                    <a:pt x="481" y="86"/>
                    <a:pt x="499" y="84"/>
                    <a:pt x="510" y="76"/>
                  </a:cubicBezTo>
                  <a:cubicBezTo>
                    <a:pt x="518" y="69"/>
                    <a:pt x="527" y="65"/>
                    <a:pt x="530" y="54"/>
                  </a:cubicBezTo>
                  <a:cubicBezTo>
                    <a:pt x="531" y="45"/>
                    <a:pt x="530" y="24"/>
                    <a:pt x="522" y="16"/>
                  </a:cubicBezTo>
                  <a:cubicBezTo>
                    <a:pt x="512" y="7"/>
                    <a:pt x="499" y="0"/>
                    <a:pt x="477" y="1"/>
                  </a:cubicBezTo>
                  <a:cubicBezTo>
                    <a:pt x="456" y="3"/>
                    <a:pt x="438" y="13"/>
                    <a:pt x="389" y="23"/>
                  </a:cubicBezTo>
                  <a:cubicBezTo>
                    <a:pt x="339" y="32"/>
                    <a:pt x="276" y="47"/>
                    <a:pt x="228" y="54"/>
                  </a:cubicBezTo>
                  <a:cubicBezTo>
                    <a:pt x="180" y="61"/>
                    <a:pt x="138" y="53"/>
                    <a:pt x="100" y="64"/>
                  </a:cubicBezTo>
                  <a:cubicBezTo>
                    <a:pt x="62" y="75"/>
                    <a:pt x="21" y="109"/>
                    <a:pt x="0" y="121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Freeform 841"/>
            <p:cNvSpPr/>
            <p:nvPr/>
          </p:nvSpPr>
          <p:spPr>
            <a:xfrm>
              <a:off x="4861080" y="4791240"/>
              <a:ext cx="504720" cy="206280"/>
            </a:xfrm>
            <a:custGeom>
              <a:avLst/>
              <a:gdLst/>
              <a:ahLst/>
              <a:rect l="l" t="t" r="r" b="b"/>
              <a:pathLst>
                <a:path w="240" h="99">
                  <a:moveTo>
                    <a:pt x="0" y="0"/>
                  </a:moveTo>
                  <a:cubicBezTo>
                    <a:pt x="6" y="21"/>
                    <a:pt x="11" y="41"/>
                    <a:pt x="28" y="54"/>
                  </a:cubicBezTo>
                  <a:cubicBezTo>
                    <a:pt x="44" y="68"/>
                    <a:pt x="77" y="72"/>
                    <a:pt x="102" y="79"/>
                  </a:cubicBezTo>
                  <a:cubicBezTo>
                    <a:pt x="127" y="85"/>
                    <a:pt x="154" y="87"/>
                    <a:pt x="177" y="91"/>
                  </a:cubicBezTo>
                  <a:cubicBezTo>
                    <a:pt x="200" y="94"/>
                    <a:pt x="220" y="96"/>
                    <a:pt x="240" y="99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Rectangle 970"/>
            <p:cNvSpPr/>
            <p:nvPr/>
          </p:nvSpPr>
          <p:spPr>
            <a:xfrm>
              <a:off x="4481640" y="4076640"/>
              <a:ext cx="510480" cy="43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北陸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4194000" y="4600440"/>
              <a:ext cx="369000" cy="357840"/>
              <a:chOff x="4194000" y="4600440"/>
              <a:chExt cx="369000" cy="357840"/>
            </a:xfrm>
          </p:grpSpPr>
          <p:sp>
            <p:nvSpPr>
              <p:cNvPr id="358" name="Rectangle 926"/>
              <p:cNvSpPr/>
              <p:nvPr/>
            </p:nvSpPr>
            <p:spPr>
              <a:xfrm>
                <a:off x="4257360" y="465300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金沢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円/楕円 176"/>
              <p:cNvSpPr/>
              <p:nvPr/>
            </p:nvSpPr>
            <p:spPr>
              <a:xfrm>
                <a:off x="4194000" y="4600440"/>
                <a:ext cx="122400" cy="123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4601880" y="4724280"/>
              <a:ext cx="330480" cy="425880"/>
              <a:chOff x="4601880" y="4724280"/>
              <a:chExt cx="330480" cy="425880"/>
            </a:xfrm>
          </p:grpSpPr>
          <p:sp>
            <p:nvSpPr>
              <p:cNvPr id="361" name="円/楕円 163"/>
              <p:cNvSpPr/>
              <p:nvPr/>
            </p:nvSpPr>
            <p:spPr>
              <a:xfrm>
                <a:off x="4807080" y="4724280"/>
                <a:ext cx="125280" cy="125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Rectangle 926"/>
              <p:cNvSpPr/>
              <p:nvPr/>
            </p:nvSpPr>
            <p:spPr>
              <a:xfrm>
                <a:off x="4601880" y="484488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長野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" name="Group 798"/>
          <p:cNvGrpSpPr/>
          <p:nvPr/>
        </p:nvGrpSpPr>
        <p:grpSpPr>
          <a:xfrm>
            <a:off x="684360" y="404640"/>
            <a:ext cx="8359200" cy="6101640"/>
            <a:chOff x="684360" y="404640"/>
            <a:chExt cx="8359200" cy="6101640"/>
          </a:xfrm>
        </p:grpSpPr>
        <p:sp>
          <p:nvSpPr>
            <p:cNvPr id="364" name="Freeform 790"/>
            <p:cNvSpPr/>
            <p:nvPr/>
          </p:nvSpPr>
          <p:spPr>
            <a:xfrm>
              <a:off x="6390360" y="404640"/>
              <a:ext cx="2653200" cy="2115720"/>
            </a:xfrm>
            <a:custGeom>
              <a:avLst/>
              <a:gdLst/>
              <a:ahLst/>
              <a:rect l="l" t="t" r="r" b="b"/>
              <a:pathLst>
                <a:path w="1262" h="1007">
                  <a:moveTo>
                    <a:pt x="27" y="1006"/>
                  </a:moveTo>
                  <a:cubicBezTo>
                    <a:pt x="36" y="1004"/>
                    <a:pt x="51" y="986"/>
                    <a:pt x="61" y="983"/>
                  </a:cubicBezTo>
                  <a:cubicBezTo>
                    <a:pt x="71" y="980"/>
                    <a:pt x="80" y="986"/>
                    <a:pt x="84" y="982"/>
                  </a:cubicBezTo>
                  <a:cubicBezTo>
                    <a:pt x="87" y="977"/>
                    <a:pt x="81" y="963"/>
                    <a:pt x="82" y="958"/>
                  </a:cubicBezTo>
                  <a:cubicBezTo>
                    <a:pt x="83" y="952"/>
                    <a:pt x="86" y="949"/>
                    <a:pt x="91" y="948"/>
                  </a:cubicBezTo>
                  <a:cubicBezTo>
                    <a:pt x="97" y="947"/>
                    <a:pt x="108" y="950"/>
                    <a:pt x="116" y="947"/>
                  </a:cubicBezTo>
                  <a:cubicBezTo>
                    <a:pt x="124" y="944"/>
                    <a:pt x="132" y="936"/>
                    <a:pt x="139" y="935"/>
                  </a:cubicBezTo>
                  <a:cubicBezTo>
                    <a:pt x="146" y="933"/>
                    <a:pt x="149" y="938"/>
                    <a:pt x="156" y="938"/>
                  </a:cubicBezTo>
                  <a:cubicBezTo>
                    <a:pt x="162" y="938"/>
                    <a:pt x="171" y="932"/>
                    <a:pt x="176" y="935"/>
                  </a:cubicBezTo>
                  <a:cubicBezTo>
                    <a:pt x="181" y="939"/>
                    <a:pt x="181" y="955"/>
                    <a:pt x="185" y="959"/>
                  </a:cubicBezTo>
                  <a:cubicBezTo>
                    <a:pt x="189" y="964"/>
                    <a:pt x="195" y="964"/>
                    <a:pt x="200" y="963"/>
                  </a:cubicBezTo>
                  <a:cubicBezTo>
                    <a:pt x="205" y="963"/>
                    <a:pt x="207" y="956"/>
                    <a:pt x="213" y="956"/>
                  </a:cubicBezTo>
                  <a:cubicBezTo>
                    <a:pt x="219" y="955"/>
                    <a:pt x="232" y="962"/>
                    <a:pt x="237" y="960"/>
                  </a:cubicBezTo>
                  <a:cubicBezTo>
                    <a:pt x="243" y="958"/>
                    <a:pt x="246" y="949"/>
                    <a:pt x="247" y="943"/>
                  </a:cubicBezTo>
                  <a:cubicBezTo>
                    <a:pt x="249" y="937"/>
                    <a:pt x="252" y="933"/>
                    <a:pt x="247" y="926"/>
                  </a:cubicBezTo>
                  <a:cubicBezTo>
                    <a:pt x="242" y="919"/>
                    <a:pt x="224" y="912"/>
                    <a:pt x="218" y="903"/>
                  </a:cubicBezTo>
                  <a:cubicBezTo>
                    <a:pt x="212" y="894"/>
                    <a:pt x="214" y="882"/>
                    <a:pt x="210" y="874"/>
                  </a:cubicBezTo>
                  <a:cubicBezTo>
                    <a:pt x="207" y="867"/>
                    <a:pt x="200" y="865"/>
                    <a:pt x="196" y="858"/>
                  </a:cubicBezTo>
                  <a:cubicBezTo>
                    <a:pt x="192" y="852"/>
                    <a:pt x="196" y="840"/>
                    <a:pt x="188" y="836"/>
                  </a:cubicBezTo>
                  <a:cubicBezTo>
                    <a:pt x="180" y="831"/>
                    <a:pt x="163" y="838"/>
                    <a:pt x="151" y="831"/>
                  </a:cubicBezTo>
                  <a:cubicBezTo>
                    <a:pt x="139" y="825"/>
                    <a:pt x="123" y="808"/>
                    <a:pt x="118" y="798"/>
                  </a:cubicBezTo>
                  <a:cubicBezTo>
                    <a:pt x="112" y="787"/>
                    <a:pt x="106" y="779"/>
                    <a:pt x="110" y="766"/>
                  </a:cubicBezTo>
                  <a:cubicBezTo>
                    <a:pt x="114" y="753"/>
                    <a:pt x="129" y="730"/>
                    <a:pt x="139" y="720"/>
                  </a:cubicBezTo>
                  <a:cubicBezTo>
                    <a:pt x="150" y="710"/>
                    <a:pt x="161" y="708"/>
                    <a:pt x="172" y="707"/>
                  </a:cubicBezTo>
                  <a:cubicBezTo>
                    <a:pt x="182" y="707"/>
                    <a:pt x="193" y="712"/>
                    <a:pt x="201" y="717"/>
                  </a:cubicBezTo>
                  <a:cubicBezTo>
                    <a:pt x="209" y="721"/>
                    <a:pt x="215" y="728"/>
                    <a:pt x="219" y="735"/>
                  </a:cubicBezTo>
                  <a:cubicBezTo>
                    <a:pt x="223" y="742"/>
                    <a:pt x="222" y="747"/>
                    <a:pt x="224" y="754"/>
                  </a:cubicBezTo>
                  <a:cubicBezTo>
                    <a:pt x="227" y="761"/>
                    <a:pt x="234" y="772"/>
                    <a:pt x="236" y="779"/>
                  </a:cubicBezTo>
                  <a:cubicBezTo>
                    <a:pt x="239" y="787"/>
                    <a:pt x="239" y="793"/>
                    <a:pt x="241" y="798"/>
                  </a:cubicBezTo>
                  <a:cubicBezTo>
                    <a:pt x="243" y="802"/>
                    <a:pt x="249" y="806"/>
                    <a:pt x="257" y="803"/>
                  </a:cubicBezTo>
                  <a:cubicBezTo>
                    <a:pt x="264" y="801"/>
                    <a:pt x="278" y="786"/>
                    <a:pt x="287" y="781"/>
                  </a:cubicBezTo>
                  <a:cubicBezTo>
                    <a:pt x="297" y="776"/>
                    <a:pt x="305" y="776"/>
                    <a:pt x="314" y="772"/>
                  </a:cubicBezTo>
                  <a:cubicBezTo>
                    <a:pt x="323" y="768"/>
                    <a:pt x="329" y="759"/>
                    <a:pt x="342" y="756"/>
                  </a:cubicBezTo>
                  <a:cubicBezTo>
                    <a:pt x="356" y="754"/>
                    <a:pt x="366" y="750"/>
                    <a:pt x="387" y="755"/>
                  </a:cubicBezTo>
                  <a:cubicBezTo>
                    <a:pt x="408" y="760"/>
                    <a:pt x="443" y="772"/>
                    <a:pt x="466" y="788"/>
                  </a:cubicBezTo>
                  <a:cubicBezTo>
                    <a:pt x="489" y="805"/>
                    <a:pt x="504" y="834"/>
                    <a:pt x="524" y="854"/>
                  </a:cubicBezTo>
                  <a:cubicBezTo>
                    <a:pt x="544" y="873"/>
                    <a:pt x="569" y="890"/>
                    <a:pt x="587" y="905"/>
                  </a:cubicBezTo>
                  <a:cubicBezTo>
                    <a:pt x="606" y="919"/>
                    <a:pt x="618" y="928"/>
                    <a:pt x="633" y="943"/>
                  </a:cubicBezTo>
                  <a:cubicBezTo>
                    <a:pt x="648" y="958"/>
                    <a:pt x="660" y="981"/>
                    <a:pt x="671" y="994"/>
                  </a:cubicBezTo>
                  <a:cubicBezTo>
                    <a:pt x="681" y="979"/>
                    <a:pt x="681" y="976"/>
                    <a:pt x="685" y="967"/>
                  </a:cubicBezTo>
                  <a:cubicBezTo>
                    <a:pt x="690" y="958"/>
                    <a:pt x="697" y="952"/>
                    <a:pt x="701" y="942"/>
                  </a:cubicBezTo>
                  <a:cubicBezTo>
                    <a:pt x="704" y="932"/>
                    <a:pt x="703" y="916"/>
                    <a:pt x="706" y="908"/>
                  </a:cubicBezTo>
                  <a:cubicBezTo>
                    <a:pt x="709" y="899"/>
                    <a:pt x="717" y="890"/>
                    <a:pt x="725" y="878"/>
                  </a:cubicBezTo>
                  <a:cubicBezTo>
                    <a:pt x="733" y="866"/>
                    <a:pt x="737" y="861"/>
                    <a:pt x="757" y="844"/>
                  </a:cubicBezTo>
                  <a:cubicBezTo>
                    <a:pt x="778" y="828"/>
                    <a:pt x="825" y="788"/>
                    <a:pt x="847" y="777"/>
                  </a:cubicBezTo>
                  <a:cubicBezTo>
                    <a:pt x="868" y="765"/>
                    <a:pt x="875" y="780"/>
                    <a:pt x="885" y="775"/>
                  </a:cubicBezTo>
                  <a:cubicBezTo>
                    <a:pt x="895" y="771"/>
                    <a:pt x="898" y="754"/>
                    <a:pt x="910" y="749"/>
                  </a:cubicBezTo>
                  <a:cubicBezTo>
                    <a:pt x="921" y="745"/>
                    <a:pt x="947" y="746"/>
                    <a:pt x="953" y="749"/>
                  </a:cubicBezTo>
                  <a:cubicBezTo>
                    <a:pt x="959" y="752"/>
                    <a:pt x="942" y="766"/>
                    <a:pt x="944" y="769"/>
                  </a:cubicBezTo>
                  <a:cubicBezTo>
                    <a:pt x="947" y="772"/>
                    <a:pt x="962" y="767"/>
                    <a:pt x="970" y="767"/>
                  </a:cubicBezTo>
                  <a:cubicBezTo>
                    <a:pt x="978" y="768"/>
                    <a:pt x="985" y="770"/>
                    <a:pt x="992" y="772"/>
                  </a:cubicBezTo>
                  <a:cubicBezTo>
                    <a:pt x="999" y="773"/>
                    <a:pt x="1005" y="773"/>
                    <a:pt x="1011" y="775"/>
                  </a:cubicBezTo>
                  <a:cubicBezTo>
                    <a:pt x="1017" y="778"/>
                    <a:pt x="1022" y="788"/>
                    <a:pt x="1026" y="785"/>
                  </a:cubicBezTo>
                  <a:cubicBezTo>
                    <a:pt x="1030" y="784"/>
                    <a:pt x="1029" y="770"/>
                    <a:pt x="1035" y="763"/>
                  </a:cubicBezTo>
                  <a:cubicBezTo>
                    <a:pt x="1040" y="757"/>
                    <a:pt x="1055" y="747"/>
                    <a:pt x="1058" y="748"/>
                  </a:cubicBezTo>
                  <a:cubicBezTo>
                    <a:pt x="1062" y="749"/>
                    <a:pt x="1053" y="767"/>
                    <a:pt x="1054" y="770"/>
                  </a:cubicBezTo>
                  <a:cubicBezTo>
                    <a:pt x="1056" y="773"/>
                    <a:pt x="1065" y="767"/>
                    <a:pt x="1068" y="767"/>
                  </a:cubicBezTo>
                  <a:cubicBezTo>
                    <a:pt x="1071" y="766"/>
                    <a:pt x="1075" y="767"/>
                    <a:pt x="1078" y="767"/>
                  </a:cubicBezTo>
                  <a:cubicBezTo>
                    <a:pt x="1082" y="766"/>
                    <a:pt x="1084" y="763"/>
                    <a:pt x="1089" y="763"/>
                  </a:cubicBezTo>
                  <a:cubicBezTo>
                    <a:pt x="1094" y="762"/>
                    <a:pt x="1099" y="766"/>
                    <a:pt x="1102" y="762"/>
                  </a:cubicBezTo>
                  <a:cubicBezTo>
                    <a:pt x="1104" y="759"/>
                    <a:pt x="1101" y="749"/>
                    <a:pt x="1105" y="745"/>
                  </a:cubicBezTo>
                  <a:cubicBezTo>
                    <a:pt x="1109" y="740"/>
                    <a:pt x="1118" y="735"/>
                    <a:pt x="1126" y="736"/>
                  </a:cubicBezTo>
                  <a:cubicBezTo>
                    <a:pt x="1134" y="737"/>
                    <a:pt x="1145" y="748"/>
                    <a:pt x="1152" y="749"/>
                  </a:cubicBezTo>
                  <a:cubicBezTo>
                    <a:pt x="1159" y="750"/>
                    <a:pt x="1165" y="744"/>
                    <a:pt x="1171" y="743"/>
                  </a:cubicBezTo>
                  <a:cubicBezTo>
                    <a:pt x="1177" y="741"/>
                    <a:pt x="1183" y="743"/>
                    <a:pt x="1187" y="740"/>
                  </a:cubicBezTo>
                  <a:cubicBezTo>
                    <a:pt x="1191" y="736"/>
                    <a:pt x="1192" y="729"/>
                    <a:pt x="1196" y="724"/>
                  </a:cubicBezTo>
                  <a:cubicBezTo>
                    <a:pt x="1201" y="719"/>
                    <a:pt x="1209" y="716"/>
                    <a:pt x="1216" y="713"/>
                  </a:cubicBezTo>
                  <a:cubicBezTo>
                    <a:pt x="1223" y="710"/>
                    <a:pt x="1230" y="704"/>
                    <a:pt x="1240" y="705"/>
                  </a:cubicBezTo>
                  <a:cubicBezTo>
                    <a:pt x="1249" y="706"/>
                    <a:pt x="1256" y="705"/>
                    <a:pt x="1259" y="703"/>
                  </a:cubicBezTo>
                  <a:cubicBezTo>
                    <a:pt x="1262" y="701"/>
                    <a:pt x="1260" y="698"/>
                    <a:pt x="1256" y="695"/>
                  </a:cubicBezTo>
                  <a:cubicBezTo>
                    <a:pt x="1252" y="691"/>
                    <a:pt x="1249" y="696"/>
                    <a:pt x="1243" y="694"/>
                  </a:cubicBezTo>
                  <a:cubicBezTo>
                    <a:pt x="1237" y="692"/>
                    <a:pt x="1236" y="691"/>
                    <a:pt x="1231" y="691"/>
                  </a:cubicBezTo>
                  <a:cubicBezTo>
                    <a:pt x="1227" y="692"/>
                    <a:pt x="1222" y="696"/>
                    <a:pt x="1218" y="697"/>
                  </a:cubicBezTo>
                  <a:cubicBezTo>
                    <a:pt x="1213" y="698"/>
                    <a:pt x="1207" y="695"/>
                    <a:pt x="1203" y="697"/>
                  </a:cubicBezTo>
                  <a:cubicBezTo>
                    <a:pt x="1199" y="700"/>
                    <a:pt x="1197" y="707"/>
                    <a:pt x="1192" y="710"/>
                  </a:cubicBezTo>
                  <a:cubicBezTo>
                    <a:pt x="1186" y="713"/>
                    <a:pt x="1178" y="717"/>
                    <a:pt x="1170" y="715"/>
                  </a:cubicBezTo>
                  <a:cubicBezTo>
                    <a:pt x="1162" y="713"/>
                    <a:pt x="1143" y="703"/>
                    <a:pt x="1142" y="700"/>
                  </a:cubicBezTo>
                  <a:cubicBezTo>
                    <a:pt x="1140" y="696"/>
                    <a:pt x="1155" y="697"/>
                    <a:pt x="1159" y="695"/>
                  </a:cubicBezTo>
                  <a:cubicBezTo>
                    <a:pt x="1163" y="692"/>
                    <a:pt x="1165" y="690"/>
                    <a:pt x="1166" y="684"/>
                  </a:cubicBezTo>
                  <a:cubicBezTo>
                    <a:pt x="1167" y="679"/>
                    <a:pt x="1166" y="669"/>
                    <a:pt x="1163" y="661"/>
                  </a:cubicBezTo>
                  <a:cubicBezTo>
                    <a:pt x="1161" y="653"/>
                    <a:pt x="1153" y="639"/>
                    <a:pt x="1152" y="634"/>
                  </a:cubicBezTo>
                  <a:cubicBezTo>
                    <a:pt x="1150" y="630"/>
                    <a:pt x="1148" y="621"/>
                    <a:pt x="1150" y="619"/>
                  </a:cubicBezTo>
                  <a:cubicBezTo>
                    <a:pt x="1151" y="617"/>
                    <a:pt x="1160" y="617"/>
                    <a:pt x="1163" y="620"/>
                  </a:cubicBezTo>
                  <a:cubicBezTo>
                    <a:pt x="1166" y="623"/>
                    <a:pt x="1167" y="633"/>
                    <a:pt x="1169" y="632"/>
                  </a:cubicBezTo>
                  <a:cubicBezTo>
                    <a:pt x="1172" y="631"/>
                    <a:pt x="1172" y="622"/>
                    <a:pt x="1169" y="618"/>
                  </a:cubicBezTo>
                  <a:cubicBezTo>
                    <a:pt x="1166" y="613"/>
                    <a:pt x="1158" y="611"/>
                    <a:pt x="1154" y="605"/>
                  </a:cubicBezTo>
                  <a:cubicBezTo>
                    <a:pt x="1149" y="599"/>
                    <a:pt x="1144" y="597"/>
                    <a:pt x="1142" y="583"/>
                  </a:cubicBezTo>
                  <a:cubicBezTo>
                    <a:pt x="1141" y="570"/>
                    <a:pt x="1140" y="539"/>
                    <a:pt x="1145" y="525"/>
                  </a:cubicBezTo>
                  <a:cubicBezTo>
                    <a:pt x="1151" y="512"/>
                    <a:pt x="1165" y="510"/>
                    <a:pt x="1175" y="500"/>
                  </a:cubicBezTo>
                  <a:cubicBezTo>
                    <a:pt x="1185" y="490"/>
                    <a:pt x="1200" y="475"/>
                    <a:pt x="1207" y="464"/>
                  </a:cubicBezTo>
                  <a:cubicBezTo>
                    <a:pt x="1214" y="453"/>
                    <a:pt x="1216" y="440"/>
                    <a:pt x="1216" y="434"/>
                  </a:cubicBezTo>
                  <a:cubicBezTo>
                    <a:pt x="1215" y="427"/>
                    <a:pt x="1208" y="424"/>
                    <a:pt x="1204" y="425"/>
                  </a:cubicBezTo>
                  <a:cubicBezTo>
                    <a:pt x="1200" y="427"/>
                    <a:pt x="1197" y="428"/>
                    <a:pt x="1191" y="434"/>
                  </a:cubicBezTo>
                  <a:cubicBezTo>
                    <a:pt x="1185" y="440"/>
                    <a:pt x="1177" y="452"/>
                    <a:pt x="1169" y="460"/>
                  </a:cubicBezTo>
                  <a:cubicBezTo>
                    <a:pt x="1160" y="468"/>
                    <a:pt x="1145" y="473"/>
                    <a:pt x="1135" y="481"/>
                  </a:cubicBezTo>
                  <a:cubicBezTo>
                    <a:pt x="1124" y="488"/>
                    <a:pt x="1118" y="498"/>
                    <a:pt x="1104" y="505"/>
                  </a:cubicBezTo>
                  <a:cubicBezTo>
                    <a:pt x="1091" y="513"/>
                    <a:pt x="1065" y="526"/>
                    <a:pt x="1052" y="525"/>
                  </a:cubicBezTo>
                  <a:cubicBezTo>
                    <a:pt x="1039" y="525"/>
                    <a:pt x="1033" y="507"/>
                    <a:pt x="1027" y="503"/>
                  </a:cubicBezTo>
                  <a:cubicBezTo>
                    <a:pt x="1020" y="499"/>
                    <a:pt x="1016" y="502"/>
                    <a:pt x="1011" y="501"/>
                  </a:cubicBezTo>
                  <a:cubicBezTo>
                    <a:pt x="1006" y="500"/>
                    <a:pt x="999" y="501"/>
                    <a:pt x="996" y="496"/>
                  </a:cubicBezTo>
                  <a:cubicBezTo>
                    <a:pt x="993" y="492"/>
                    <a:pt x="995" y="483"/>
                    <a:pt x="993" y="475"/>
                  </a:cubicBezTo>
                  <a:cubicBezTo>
                    <a:pt x="992" y="467"/>
                    <a:pt x="985" y="449"/>
                    <a:pt x="982" y="449"/>
                  </a:cubicBezTo>
                  <a:cubicBezTo>
                    <a:pt x="979" y="448"/>
                    <a:pt x="981" y="466"/>
                    <a:pt x="978" y="472"/>
                  </a:cubicBezTo>
                  <a:cubicBezTo>
                    <a:pt x="976" y="478"/>
                    <a:pt x="970" y="484"/>
                    <a:pt x="967" y="483"/>
                  </a:cubicBezTo>
                  <a:cubicBezTo>
                    <a:pt x="964" y="482"/>
                    <a:pt x="960" y="470"/>
                    <a:pt x="960" y="464"/>
                  </a:cubicBezTo>
                  <a:cubicBezTo>
                    <a:pt x="961" y="458"/>
                    <a:pt x="971" y="449"/>
                    <a:pt x="969" y="445"/>
                  </a:cubicBezTo>
                  <a:cubicBezTo>
                    <a:pt x="965" y="441"/>
                    <a:pt x="949" y="442"/>
                    <a:pt x="943" y="440"/>
                  </a:cubicBezTo>
                  <a:cubicBezTo>
                    <a:pt x="937" y="437"/>
                    <a:pt x="929" y="425"/>
                    <a:pt x="925" y="425"/>
                  </a:cubicBezTo>
                  <a:cubicBezTo>
                    <a:pt x="922" y="424"/>
                    <a:pt x="925" y="432"/>
                    <a:pt x="923" y="435"/>
                  </a:cubicBezTo>
                  <a:cubicBezTo>
                    <a:pt x="921" y="437"/>
                    <a:pt x="921" y="441"/>
                    <a:pt x="915" y="440"/>
                  </a:cubicBezTo>
                  <a:cubicBezTo>
                    <a:pt x="908" y="439"/>
                    <a:pt x="888" y="430"/>
                    <a:pt x="886" y="426"/>
                  </a:cubicBezTo>
                  <a:cubicBezTo>
                    <a:pt x="883" y="422"/>
                    <a:pt x="910" y="427"/>
                    <a:pt x="902" y="416"/>
                  </a:cubicBezTo>
                  <a:cubicBezTo>
                    <a:pt x="893" y="404"/>
                    <a:pt x="855" y="377"/>
                    <a:pt x="834" y="358"/>
                  </a:cubicBezTo>
                  <a:cubicBezTo>
                    <a:pt x="812" y="339"/>
                    <a:pt x="791" y="318"/>
                    <a:pt x="777" y="300"/>
                  </a:cubicBezTo>
                  <a:cubicBezTo>
                    <a:pt x="762" y="283"/>
                    <a:pt x="758" y="267"/>
                    <a:pt x="748" y="253"/>
                  </a:cubicBezTo>
                  <a:cubicBezTo>
                    <a:pt x="738" y="240"/>
                    <a:pt x="723" y="234"/>
                    <a:pt x="716" y="219"/>
                  </a:cubicBezTo>
                  <a:cubicBezTo>
                    <a:pt x="709" y="203"/>
                    <a:pt x="709" y="184"/>
                    <a:pt x="702" y="171"/>
                  </a:cubicBezTo>
                  <a:cubicBezTo>
                    <a:pt x="696" y="157"/>
                    <a:pt x="682" y="149"/>
                    <a:pt x="676" y="139"/>
                  </a:cubicBezTo>
                  <a:cubicBezTo>
                    <a:pt x="670" y="130"/>
                    <a:pt x="669" y="125"/>
                    <a:pt x="666" y="117"/>
                  </a:cubicBezTo>
                  <a:cubicBezTo>
                    <a:pt x="663" y="110"/>
                    <a:pt x="663" y="100"/>
                    <a:pt x="659" y="94"/>
                  </a:cubicBezTo>
                  <a:cubicBezTo>
                    <a:pt x="655" y="89"/>
                    <a:pt x="649" y="84"/>
                    <a:pt x="644" y="80"/>
                  </a:cubicBezTo>
                  <a:cubicBezTo>
                    <a:pt x="640" y="76"/>
                    <a:pt x="638" y="82"/>
                    <a:pt x="632" y="70"/>
                  </a:cubicBezTo>
                  <a:cubicBezTo>
                    <a:pt x="625" y="59"/>
                    <a:pt x="612" y="19"/>
                    <a:pt x="604" y="13"/>
                  </a:cubicBezTo>
                  <a:cubicBezTo>
                    <a:pt x="597" y="6"/>
                    <a:pt x="593" y="26"/>
                    <a:pt x="586" y="29"/>
                  </a:cubicBezTo>
                  <a:cubicBezTo>
                    <a:pt x="580" y="33"/>
                    <a:pt x="569" y="36"/>
                    <a:pt x="563" y="33"/>
                  </a:cubicBezTo>
                  <a:cubicBezTo>
                    <a:pt x="557" y="30"/>
                    <a:pt x="555" y="15"/>
                    <a:pt x="551" y="10"/>
                  </a:cubicBezTo>
                  <a:cubicBezTo>
                    <a:pt x="547" y="6"/>
                    <a:pt x="543" y="0"/>
                    <a:pt x="538" y="5"/>
                  </a:cubicBezTo>
                  <a:cubicBezTo>
                    <a:pt x="533" y="10"/>
                    <a:pt x="525" y="31"/>
                    <a:pt x="522" y="40"/>
                  </a:cubicBezTo>
                  <a:cubicBezTo>
                    <a:pt x="518" y="50"/>
                    <a:pt x="519" y="54"/>
                    <a:pt x="519" y="62"/>
                  </a:cubicBezTo>
                  <a:cubicBezTo>
                    <a:pt x="519" y="70"/>
                    <a:pt x="524" y="81"/>
                    <a:pt x="523" y="88"/>
                  </a:cubicBezTo>
                  <a:cubicBezTo>
                    <a:pt x="521" y="95"/>
                    <a:pt x="507" y="91"/>
                    <a:pt x="508" y="105"/>
                  </a:cubicBezTo>
                  <a:cubicBezTo>
                    <a:pt x="510" y="118"/>
                    <a:pt x="530" y="153"/>
                    <a:pt x="532" y="170"/>
                  </a:cubicBezTo>
                  <a:cubicBezTo>
                    <a:pt x="534" y="187"/>
                    <a:pt x="522" y="194"/>
                    <a:pt x="520" y="206"/>
                  </a:cubicBezTo>
                  <a:cubicBezTo>
                    <a:pt x="519" y="217"/>
                    <a:pt x="526" y="227"/>
                    <a:pt x="523" y="236"/>
                  </a:cubicBezTo>
                  <a:cubicBezTo>
                    <a:pt x="521" y="245"/>
                    <a:pt x="510" y="251"/>
                    <a:pt x="505" y="261"/>
                  </a:cubicBezTo>
                  <a:cubicBezTo>
                    <a:pt x="500" y="270"/>
                    <a:pt x="499" y="284"/>
                    <a:pt x="494" y="294"/>
                  </a:cubicBezTo>
                  <a:cubicBezTo>
                    <a:pt x="489" y="303"/>
                    <a:pt x="477" y="308"/>
                    <a:pt x="475" y="318"/>
                  </a:cubicBezTo>
                  <a:cubicBezTo>
                    <a:pt x="471" y="327"/>
                    <a:pt x="480" y="335"/>
                    <a:pt x="477" y="350"/>
                  </a:cubicBezTo>
                  <a:cubicBezTo>
                    <a:pt x="473" y="365"/>
                    <a:pt x="463" y="395"/>
                    <a:pt x="451" y="408"/>
                  </a:cubicBezTo>
                  <a:cubicBezTo>
                    <a:pt x="438" y="421"/>
                    <a:pt x="411" y="420"/>
                    <a:pt x="400" y="429"/>
                  </a:cubicBezTo>
                  <a:cubicBezTo>
                    <a:pt x="390" y="439"/>
                    <a:pt x="392" y="456"/>
                    <a:pt x="389" y="466"/>
                  </a:cubicBezTo>
                  <a:cubicBezTo>
                    <a:pt x="386" y="476"/>
                    <a:pt x="387" y="482"/>
                    <a:pt x="384" y="487"/>
                  </a:cubicBezTo>
                  <a:cubicBezTo>
                    <a:pt x="381" y="493"/>
                    <a:pt x="374" y="501"/>
                    <a:pt x="375" y="509"/>
                  </a:cubicBezTo>
                  <a:cubicBezTo>
                    <a:pt x="376" y="518"/>
                    <a:pt x="386" y="529"/>
                    <a:pt x="388" y="538"/>
                  </a:cubicBezTo>
                  <a:cubicBezTo>
                    <a:pt x="390" y="548"/>
                    <a:pt x="391" y="560"/>
                    <a:pt x="388" y="566"/>
                  </a:cubicBezTo>
                  <a:cubicBezTo>
                    <a:pt x="385" y="573"/>
                    <a:pt x="373" y="583"/>
                    <a:pt x="360" y="586"/>
                  </a:cubicBezTo>
                  <a:cubicBezTo>
                    <a:pt x="347" y="588"/>
                    <a:pt x="319" y="584"/>
                    <a:pt x="309" y="580"/>
                  </a:cubicBezTo>
                  <a:cubicBezTo>
                    <a:pt x="300" y="576"/>
                    <a:pt x="305" y="564"/>
                    <a:pt x="302" y="560"/>
                  </a:cubicBezTo>
                  <a:cubicBezTo>
                    <a:pt x="300" y="556"/>
                    <a:pt x="300" y="554"/>
                    <a:pt x="294" y="555"/>
                  </a:cubicBezTo>
                  <a:cubicBezTo>
                    <a:pt x="288" y="555"/>
                    <a:pt x="274" y="562"/>
                    <a:pt x="267" y="561"/>
                  </a:cubicBezTo>
                  <a:cubicBezTo>
                    <a:pt x="260" y="560"/>
                    <a:pt x="255" y="554"/>
                    <a:pt x="252" y="549"/>
                  </a:cubicBezTo>
                  <a:cubicBezTo>
                    <a:pt x="248" y="544"/>
                    <a:pt x="250" y="537"/>
                    <a:pt x="246" y="533"/>
                  </a:cubicBezTo>
                  <a:cubicBezTo>
                    <a:pt x="241" y="528"/>
                    <a:pt x="229" y="527"/>
                    <a:pt x="224" y="523"/>
                  </a:cubicBezTo>
                  <a:cubicBezTo>
                    <a:pt x="219" y="518"/>
                    <a:pt x="218" y="510"/>
                    <a:pt x="215" y="506"/>
                  </a:cubicBezTo>
                  <a:cubicBezTo>
                    <a:pt x="212" y="502"/>
                    <a:pt x="205" y="499"/>
                    <a:pt x="200" y="501"/>
                  </a:cubicBezTo>
                  <a:cubicBezTo>
                    <a:pt x="195" y="503"/>
                    <a:pt x="192" y="512"/>
                    <a:pt x="185" y="516"/>
                  </a:cubicBezTo>
                  <a:cubicBezTo>
                    <a:pt x="177" y="520"/>
                    <a:pt x="163" y="521"/>
                    <a:pt x="161" y="528"/>
                  </a:cubicBezTo>
                  <a:cubicBezTo>
                    <a:pt x="159" y="534"/>
                    <a:pt x="166" y="543"/>
                    <a:pt x="172" y="553"/>
                  </a:cubicBezTo>
                  <a:cubicBezTo>
                    <a:pt x="177" y="563"/>
                    <a:pt x="184" y="572"/>
                    <a:pt x="188" y="579"/>
                  </a:cubicBezTo>
                  <a:cubicBezTo>
                    <a:pt x="191" y="586"/>
                    <a:pt x="194" y="590"/>
                    <a:pt x="191" y="594"/>
                  </a:cubicBezTo>
                  <a:cubicBezTo>
                    <a:pt x="188" y="598"/>
                    <a:pt x="175" y="601"/>
                    <a:pt x="171" y="606"/>
                  </a:cubicBezTo>
                  <a:cubicBezTo>
                    <a:pt x="166" y="610"/>
                    <a:pt x="163" y="616"/>
                    <a:pt x="159" y="621"/>
                  </a:cubicBezTo>
                  <a:cubicBezTo>
                    <a:pt x="155" y="626"/>
                    <a:pt x="152" y="637"/>
                    <a:pt x="148" y="641"/>
                  </a:cubicBezTo>
                  <a:cubicBezTo>
                    <a:pt x="143" y="646"/>
                    <a:pt x="139" y="647"/>
                    <a:pt x="132" y="646"/>
                  </a:cubicBezTo>
                  <a:cubicBezTo>
                    <a:pt x="125" y="646"/>
                    <a:pt x="114" y="638"/>
                    <a:pt x="105" y="639"/>
                  </a:cubicBezTo>
                  <a:cubicBezTo>
                    <a:pt x="95" y="639"/>
                    <a:pt x="85" y="641"/>
                    <a:pt x="76" y="649"/>
                  </a:cubicBezTo>
                  <a:cubicBezTo>
                    <a:pt x="66" y="657"/>
                    <a:pt x="59" y="670"/>
                    <a:pt x="51" y="684"/>
                  </a:cubicBezTo>
                  <a:cubicBezTo>
                    <a:pt x="43" y="698"/>
                    <a:pt x="36" y="721"/>
                    <a:pt x="28" y="732"/>
                  </a:cubicBezTo>
                  <a:cubicBezTo>
                    <a:pt x="20" y="743"/>
                    <a:pt x="4" y="740"/>
                    <a:pt x="2" y="751"/>
                  </a:cubicBezTo>
                  <a:cubicBezTo>
                    <a:pt x="0" y="762"/>
                    <a:pt x="8" y="786"/>
                    <a:pt x="16" y="798"/>
                  </a:cubicBezTo>
                  <a:cubicBezTo>
                    <a:pt x="24" y="809"/>
                    <a:pt x="44" y="809"/>
                    <a:pt x="50" y="820"/>
                  </a:cubicBezTo>
                  <a:cubicBezTo>
                    <a:pt x="56" y="830"/>
                    <a:pt x="52" y="852"/>
                    <a:pt x="51" y="861"/>
                  </a:cubicBezTo>
                  <a:cubicBezTo>
                    <a:pt x="49" y="871"/>
                    <a:pt x="45" y="869"/>
                    <a:pt x="42" y="875"/>
                  </a:cubicBezTo>
                  <a:cubicBezTo>
                    <a:pt x="39" y="882"/>
                    <a:pt x="36" y="894"/>
                    <a:pt x="32" y="900"/>
                  </a:cubicBezTo>
                  <a:cubicBezTo>
                    <a:pt x="28" y="905"/>
                    <a:pt x="29" y="909"/>
                    <a:pt x="24" y="913"/>
                  </a:cubicBezTo>
                  <a:cubicBezTo>
                    <a:pt x="19" y="917"/>
                    <a:pt x="8" y="923"/>
                    <a:pt x="4" y="929"/>
                  </a:cubicBezTo>
                  <a:cubicBezTo>
                    <a:pt x="0" y="935"/>
                    <a:pt x="6" y="943"/>
                    <a:pt x="6" y="950"/>
                  </a:cubicBezTo>
                  <a:cubicBezTo>
                    <a:pt x="6" y="957"/>
                    <a:pt x="2" y="965"/>
                    <a:pt x="2" y="971"/>
                  </a:cubicBezTo>
                  <a:cubicBezTo>
                    <a:pt x="2" y="978"/>
                    <a:pt x="0" y="984"/>
                    <a:pt x="4" y="989"/>
                  </a:cubicBezTo>
                  <a:cubicBezTo>
                    <a:pt x="8" y="995"/>
                    <a:pt x="17" y="1007"/>
                    <a:pt x="27" y="1006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Freeform 791"/>
            <p:cNvSpPr/>
            <p:nvPr/>
          </p:nvSpPr>
          <p:spPr>
            <a:xfrm>
              <a:off x="1432800" y="2497320"/>
              <a:ext cx="5604840" cy="3559320"/>
            </a:xfrm>
            <a:custGeom>
              <a:avLst/>
              <a:gdLst/>
              <a:ahLst/>
              <a:rect l="l" t="t" r="r" b="b"/>
              <a:pathLst>
                <a:path w="2666" h="1694">
                  <a:moveTo>
                    <a:pt x="2539" y="0"/>
                  </a:moveTo>
                  <a:cubicBezTo>
                    <a:pt x="2549" y="0"/>
                    <a:pt x="2552" y="16"/>
                    <a:pt x="2567" y="27"/>
                  </a:cubicBezTo>
                  <a:cubicBezTo>
                    <a:pt x="2577" y="33"/>
                    <a:pt x="2583" y="43"/>
                    <a:pt x="2593" y="49"/>
                  </a:cubicBezTo>
                  <a:cubicBezTo>
                    <a:pt x="2604" y="55"/>
                    <a:pt x="2627" y="54"/>
                    <a:pt x="2632" y="61"/>
                  </a:cubicBezTo>
                  <a:cubicBezTo>
                    <a:pt x="2637" y="68"/>
                    <a:pt x="2626" y="80"/>
                    <a:pt x="2623" y="89"/>
                  </a:cubicBezTo>
                  <a:cubicBezTo>
                    <a:pt x="2620" y="99"/>
                    <a:pt x="2616" y="106"/>
                    <a:pt x="2613" y="115"/>
                  </a:cubicBezTo>
                  <a:cubicBezTo>
                    <a:pt x="2610" y="125"/>
                    <a:pt x="2610" y="135"/>
                    <a:pt x="2606" y="147"/>
                  </a:cubicBezTo>
                  <a:cubicBezTo>
                    <a:pt x="2603" y="158"/>
                    <a:pt x="2598" y="172"/>
                    <a:pt x="2595" y="185"/>
                  </a:cubicBezTo>
                  <a:cubicBezTo>
                    <a:pt x="2592" y="199"/>
                    <a:pt x="2590" y="216"/>
                    <a:pt x="2593" y="229"/>
                  </a:cubicBezTo>
                  <a:cubicBezTo>
                    <a:pt x="2595" y="241"/>
                    <a:pt x="2604" y="251"/>
                    <a:pt x="2610" y="261"/>
                  </a:cubicBezTo>
                  <a:cubicBezTo>
                    <a:pt x="2615" y="271"/>
                    <a:pt x="2619" y="278"/>
                    <a:pt x="2623" y="286"/>
                  </a:cubicBezTo>
                  <a:cubicBezTo>
                    <a:pt x="2627" y="294"/>
                    <a:pt x="2632" y="299"/>
                    <a:pt x="2634" y="307"/>
                  </a:cubicBezTo>
                  <a:cubicBezTo>
                    <a:pt x="2636" y="315"/>
                    <a:pt x="2637" y="330"/>
                    <a:pt x="2639" y="339"/>
                  </a:cubicBezTo>
                  <a:cubicBezTo>
                    <a:pt x="2641" y="348"/>
                    <a:pt x="2645" y="342"/>
                    <a:pt x="2647" y="353"/>
                  </a:cubicBezTo>
                  <a:cubicBezTo>
                    <a:pt x="2649" y="364"/>
                    <a:pt x="2647" y="380"/>
                    <a:pt x="2650" y="390"/>
                  </a:cubicBezTo>
                  <a:cubicBezTo>
                    <a:pt x="2652" y="400"/>
                    <a:pt x="2660" y="403"/>
                    <a:pt x="2660" y="414"/>
                  </a:cubicBezTo>
                  <a:cubicBezTo>
                    <a:pt x="2661" y="426"/>
                    <a:pt x="2660" y="431"/>
                    <a:pt x="2658" y="443"/>
                  </a:cubicBezTo>
                  <a:cubicBezTo>
                    <a:pt x="2657" y="454"/>
                    <a:pt x="2664" y="469"/>
                    <a:pt x="2665" y="477"/>
                  </a:cubicBezTo>
                  <a:cubicBezTo>
                    <a:pt x="2666" y="485"/>
                    <a:pt x="2665" y="484"/>
                    <a:pt x="2665" y="489"/>
                  </a:cubicBezTo>
                  <a:cubicBezTo>
                    <a:pt x="2665" y="495"/>
                    <a:pt x="2664" y="504"/>
                    <a:pt x="2663" y="511"/>
                  </a:cubicBezTo>
                  <a:cubicBezTo>
                    <a:pt x="2661" y="519"/>
                    <a:pt x="2658" y="532"/>
                    <a:pt x="2656" y="539"/>
                  </a:cubicBezTo>
                  <a:cubicBezTo>
                    <a:pt x="2653" y="547"/>
                    <a:pt x="2649" y="549"/>
                    <a:pt x="2647" y="556"/>
                  </a:cubicBezTo>
                  <a:cubicBezTo>
                    <a:pt x="2645" y="564"/>
                    <a:pt x="2649" y="575"/>
                    <a:pt x="2644" y="579"/>
                  </a:cubicBezTo>
                  <a:cubicBezTo>
                    <a:pt x="2639" y="582"/>
                    <a:pt x="2625" y="577"/>
                    <a:pt x="2622" y="580"/>
                  </a:cubicBezTo>
                  <a:cubicBezTo>
                    <a:pt x="2618" y="583"/>
                    <a:pt x="2621" y="593"/>
                    <a:pt x="2621" y="598"/>
                  </a:cubicBezTo>
                  <a:cubicBezTo>
                    <a:pt x="2621" y="602"/>
                    <a:pt x="2617" y="609"/>
                    <a:pt x="2616" y="614"/>
                  </a:cubicBezTo>
                  <a:cubicBezTo>
                    <a:pt x="2615" y="618"/>
                    <a:pt x="2617" y="626"/>
                    <a:pt x="2615" y="631"/>
                  </a:cubicBezTo>
                  <a:cubicBezTo>
                    <a:pt x="2613" y="635"/>
                    <a:pt x="2607" y="632"/>
                    <a:pt x="2604" y="634"/>
                  </a:cubicBezTo>
                  <a:cubicBezTo>
                    <a:pt x="2600" y="636"/>
                    <a:pt x="2601" y="641"/>
                    <a:pt x="2596" y="646"/>
                  </a:cubicBezTo>
                  <a:cubicBezTo>
                    <a:pt x="2591" y="651"/>
                    <a:pt x="2589" y="650"/>
                    <a:pt x="2585" y="653"/>
                  </a:cubicBezTo>
                  <a:cubicBezTo>
                    <a:pt x="2580" y="657"/>
                    <a:pt x="2583" y="665"/>
                    <a:pt x="2579" y="669"/>
                  </a:cubicBezTo>
                  <a:cubicBezTo>
                    <a:pt x="2576" y="673"/>
                    <a:pt x="2551" y="658"/>
                    <a:pt x="2544" y="663"/>
                  </a:cubicBezTo>
                  <a:cubicBezTo>
                    <a:pt x="2538" y="668"/>
                    <a:pt x="2547" y="685"/>
                    <a:pt x="2547" y="692"/>
                  </a:cubicBezTo>
                  <a:cubicBezTo>
                    <a:pt x="2546" y="699"/>
                    <a:pt x="2546" y="705"/>
                    <a:pt x="2540" y="707"/>
                  </a:cubicBezTo>
                  <a:cubicBezTo>
                    <a:pt x="2534" y="710"/>
                    <a:pt x="2520" y="706"/>
                    <a:pt x="2515" y="708"/>
                  </a:cubicBezTo>
                  <a:cubicBezTo>
                    <a:pt x="2509" y="710"/>
                    <a:pt x="2505" y="689"/>
                    <a:pt x="2502" y="692"/>
                  </a:cubicBezTo>
                  <a:cubicBezTo>
                    <a:pt x="2498" y="696"/>
                    <a:pt x="2498" y="715"/>
                    <a:pt x="2495" y="726"/>
                  </a:cubicBezTo>
                  <a:cubicBezTo>
                    <a:pt x="2492" y="736"/>
                    <a:pt x="2485" y="737"/>
                    <a:pt x="2481" y="742"/>
                  </a:cubicBezTo>
                  <a:cubicBezTo>
                    <a:pt x="2478" y="747"/>
                    <a:pt x="2478" y="755"/>
                    <a:pt x="2475" y="760"/>
                  </a:cubicBezTo>
                  <a:cubicBezTo>
                    <a:pt x="2473" y="764"/>
                    <a:pt x="2464" y="766"/>
                    <a:pt x="2465" y="770"/>
                  </a:cubicBezTo>
                  <a:cubicBezTo>
                    <a:pt x="2466" y="775"/>
                    <a:pt x="2478" y="778"/>
                    <a:pt x="2479" y="785"/>
                  </a:cubicBezTo>
                  <a:cubicBezTo>
                    <a:pt x="2480" y="791"/>
                    <a:pt x="2472" y="793"/>
                    <a:pt x="2470" y="799"/>
                  </a:cubicBezTo>
                  <a:cubicBezTo>
                    <a:pt x="2467" y="806"/>
                    <a:pt x="2472" y="827"/>
                    <a:pt x="2470" y="835"/>
                  </a:cubicBezTo>
                  <a:cubicBezTo>
                    <a:pt x="2467" y="842"/>
                    <a:pt x="2457" y="845"/>
                    <a:pt x="2453" y="844"/>
                  </a:cubicBezTo>
                  <a:cubicBezTo>
                    <a:pt x="2449" y="843"/>
                    <a:pt x="2448" y="832"/>
                    <a:pt x="2444" y="826"/>
                  </a:cubicBezTo>
                  <a:cubicBezTo>
                    <a:pt x="2441" y="820"/>
                    <a:pt x="2435" y="813"/>
                    <a:pt x="2429" y="808"/>
                  </a:cubicBezTo>
                  <a:cubicBezTo>
                    <a:pt x="2424" y="804"/>
                    <a:pt x="2424" y="801"/>
                    <a:pt x="2420" y="798"/>
                  </a:cubicBezTo>
                  <a:cubicBezTo>
                    <a:pt x="2415" y="796"/>
                    <a:pt x="2389" y="806"/>
                    <a:pt x="2383" y="804"/>
                  </a:cubicBezTo>
                  <a:cubicBezTo>
                    <a:pt x="2378" y="803"/>
                    <a:pt x="2392" y="788"/>
                    <a:pt x="2386" y="790"/>
                  </a:cubicBezTo>
                  <a:cubicBezTo>
                    <a:pt x="2380" y="792"/>
                    <a:pt x="2370" y="799"/>
                    <a:pt x="2366" y="805"/>
                  </a:cubicBezTo>
                  <a:cubicBezTo>
                    <a:pt x="2362" y="812"/>
                    <a:pt x="2365" y="816"/>
                    <a:pt x="2361" y="827"/>
                  </a:cubicBezTo>
                  <a:cubicBezTo>
                    <a:pt x="2358" y="839"/>
                    <a:pt x="2334" y="840"/>
                    <a:pt x="2327" y="856"/>
                  </a:cubicBezTo>
                  <a:cubicBezTo>
                    <a:pt x="2322" y="872"/>
                    <a:pt x="2327" y="909"/>
                    <a:pt x="2325" y="926"/>
                  </a:cubicBezTo>
                  <a:cubicBezTo>
                    <a:pt x="2324" y="943"/>
                    <a:pt x="2317" y="955"/>
                    <a:pt x="2316" y="965"/>
                  </a:cubicBezTo>
                  <a:cubicBezTo>
                    <a:pt x="2316" y="976"/>
                    <a:pt x="2322" y="980"/>
                    <a:pt x="2322" y="988"/>
                  </a:cubicBezTo>
                  <a:cubicBezTo>
                    <a:pt x="2321" y="997"/>
                    <a:pt x="2318" y="1007"/>
                    <a:pt x="2313" y="1018"/>
                  </a:cubicBezTo>
                  <a:cubicBezTo>
                    <a:pt x="2309" y="1029"/>
                    <a:pt x="2303" y="1042"/>
                    <a:pt x="2294" y="1055"/>
                  </a:cubicBezTo>
                  <a:cubicBezTo>
                    <a:pt x="2286" y="1069"/>
                    <a:pt x="2287" y="1096"/>
                    <a:pt x="2278" y="1109"/>
                  </a:cubicBezTo>
                  <a:cubicBezTo>
                    <a:pt x="2269" y="1123"/>
                    <a:pt x="2254" y="1142"/>
                    <a:pt x="2242" y="1153"/>
                  </a:cubicBezTo>
                  <a:cubicBezTo>
                    <a:pt x="2229" y="1163"/>
                    <a:pt x="2216" y="1157"/>
                    <a:pt x="2203" y="1173"/>
                  </a:cubicBezTo>
                  <a:cubicBezTo>
                    <a:pt x="2190" y="1189"/>
                    <a:pt x="2172" y="1231"/>
                    <a:pt x="2164" y="1247"/>
                  </a:cubicBezTo>
                  <a:cubicBezTo>
                    <a:pt x="2155" y="1263"/>
                    <a:pt x="2157" y="1264"/>
                    <a:pt x="2152" y="1273"/>
                  </a:cubicBezTo>
                  <a:cubicBezTo>
                    <a:pt x="2148" y="1283"/>
                    <a:pt x="2138" y="1289"/>
                    <a:pt x="2137" y="1304"/>
                  </a:cubicBezTo>
                  <a:cubicBezTo>
                    <a:pt x="2137" y="1319"/>
                    <a:pt x="2147" y="1348"/>
                    <a:pt x="2152" y="1364"/>
                  </a:cubicBezTo>
                  <a:cubicBezTo>
                    <a:pt x="2156" y="1380"/>
                    <a:pt x="2159" y="1390"/>
                    <a:pt x="2163" y="1400"/>
                  </a:cubicBezTo>
                  <a:cubicBezTo>
                    <a:pt x="2167" y="1411"/>
                    <a:pt x="2175" y="1419"/>
                    <a:pt x="2177" y="1424"/>
                  </a:cubicBezTo>
                  <a:cubicBezTo>
                    <a:pt x="2178" y="1429"/>
                    <a:pt x="2173" y="1429"/>
                    <a:pt x="2170" y="1432"/>
                  </a:cubicBezTo>
                  <a:cubicBezTo>
                    <a:pt x="2167" y="1435"/>
                    <a:pt x="2170" y="1439"/>
                    <a:pt x="2164" y="1440"/>
                  </a:cubicBezTo>
                  <a:cubicBezTo>
                    <a:pt x="2157" y="1440"/>
                    <a:pt x="2142" y="1435"/>
                    <a:pt x="2130" y="1435"/>
                  </a:cubicBezTo>
                  <a:cubicBezTo>
                    <a:pt x="2118" y="1436"/>
                    <a:pt x="2111" y="1443"/>
                    <a:pt x="2098" y="1455"/>
                  </a:cubicBezTo>
                  <a:cubicBezTo>
                    <a:pt x="2084" y="1467"/>
                    <a:pt x="2059" y="1491"/>
                    <a:pt x="2049" y="1508"/>
                  </a:cubicBezTo>
                  <a:cubicBezTo>
                    <a:pt x="2039" y="1525"/>
                    <a:pt x="2046" y="1534"/>
                    <a:pt x="2041" y="1542"/>
                  </a:cubicBezTo>
                  <a:cubicBezTo>
                    <a:pt x="2036" y="1550"/>
                    <a:pt x="2030" y="1553"/>
                    <a:pt x="2021" y="1556"/>
                  </a:cubicBezTo>
                  <a:cubicBezTo>
                    <a:pt x="2012" y="1559"/>
                    <a:pt x="1994" y="1561"/>
                    <a:pt x="1985" y="1563"/>
                  </a:cubicBezTo>
                  <a:cubicBezTo>
                    <a:pt x="1976" y="1565"/>
                    <a:pt x="1975" y="1569"/>
                    <a:pt x="1969" y="1571"/>
                  </a:cubicBezTo>
                  <a:cubicBezTo>
                    <a:pt x="1962" y="1573"/>
                    <a:pt x="1953" y="1573"/>
                    <a:pt x="1946" y="1576"/>
                  </a:cubicBezTo>
                  <a:cubicBezTo>
                    <a:pt x="1938" y="1579"/>
                    <a:pt x="1927" y="1587"/>
                    <a:pt x="1916" y="1584"/>
                  </a:cubicBezTo>
                  <a:cubicBezTo>
                    <a:pt x="1905" y="1581"/>
                    <a:pt x="1905" y="1568"/>
                    <a:pt x="1905" y="1556"/>
                  </a:cubicBezTo>
                  <a:cubicBezTo>
                    <a:pt x="1905" y="1544"/>
                    <a:pt x="1915" y="1526"/>
                    <a:pt x="1916" y="1514"/>
                  </a:cubicBezTo>
                  <a:cubicBezTo>
                    <a:pt x="1918" y="1502"/>
                    <a:pt x="1911" y="1492"/>
                    <a:pt x="1914" y="1486"/>
                  </a:cubicBezTo>
                  <a:cubicBezTo>
                    <a:pt x="1918" y="1480"/>
                    <a:pt x="1930" y="1482"/>
                    <a:pt x="1938" y="1477"/>
                  </a:cubicBezTo>
                  <a:cubicBezTo>
                    <a:pt x="1946" y="1473"/>
                    <a:pt x="1945" y="1469"/>
                    <a:pt x="1950" y="1464"/>
                  </a:cubicBezTo>
                  <a:cubicBezTo>
                    <a:pt x="1955" y="1459"/>
                    <a:pt x="1963" y="1464"/>
                    <a:pt x="1969" y="1460"/>
                  </a:cubicBezTo>
                  <a:cubicBezTo>
                    <a:pt x="1976" y="1457"/>
                    <a:pt x="1981" y="1448"/>
                    <a:pt x="1987" y="1440"/>
                  </a:cubicBezTo>
                  <a:cubicBezTo>
                    <a:pt x="1993" y="1431"/>
                    <a:pt x="2008" y="1419"/>
                    <a:pt x="2005" y="1413"/>
                  </a:cubicBezTo>
                  <a:cubicBezTo>
                    <a:pt x="2003" y="1408"/>
                    <a:pt x="1981" y="1408"/>
                    <a:pt x="1972" y="1407"/>
                  </a:cubicBezTo>
                  <a:cubicBezTo>
                    <a:pt x="1962" y="1405"/>
                    <a:pt x="1955" y="1405"/>
                    <a:pt x="1947" y="1406"/>
                  </a:cubicBezTo>
                  <a:cubicBezTo>
                    <a:pt x="1938" y="1406"/>
                    <a:pt x="1926" y="1402"/>
                    <a:pt x="1919" y="1409"/>
                  </a:cubicBezTo>
                  <a:cubicBezTo>
                    <a:pt x="1912" y="1415"/>
                    <a:pt x="1913" y="1434"/>
                    <a:pt x="1906" y="1445"/>
                  </a:cubicBezTo>
                  <a:cubicBezTo>
                    <a:pt x="1900" y="1456"/>
                    <a:pt x="1890" y="1454"/>
                    <a:pt x="1887" y="1459"/>
                  </a:cubicBezTo>
                  <a:cubicBezTo>
                    <a:pt x="1883" y="1463"/>
                    <a:pt x="1888" y="1464"/>
                    <a:pt x="1888" y="1468"/>
                  </a:cubicBezTo>
                  <a:cubicBezTo>
                    <a:pt x="1888" y="1472"/>
                    <a:pt x="1885" y="1478"/>
                    <a:pt x="1886" y="1484"/>
                  </a:cubicBezTo>
                  <a:cubicBezTo>
                    <a:pt x="1886" y="1489"/>
                    <a:pt x="1887" y="1498"/>
                    <a:pt x="1888" y="1503"/>
                  </a:cubicBezTo>
                  <a:cubicBezTo>
                    <a:pt x="1888" y="1507"/>
                    <a:pt x="1888" y="1510"/>
                    <a:pt x="1886" y="1512"/>
                  </a:cubicBezTo>
                  <a:cubicBezTo>
                    <a:pt x="1884" y="1514"/>
                    <a:pt x="1881" y="1519"/>
                    <a:pt x="1877" y="1517"/>
                  </a:cubicBezTo>
                  <a:cubicBezTo>
                    <a:pt x="1874" y="1515"/>
                    <a:pt x="1874" y="1506"/>
                    <a:pt x="1864" y="1499"/>
                  </a:cubicBezTo>
                  <a:cubicBezTo>
                    <a:pt x="1854" y="1492"/>
                    <a:pt x="1840" y="1474"/>
                    <a:pt x="1827" y="1470"/>
                  </a:cubicBezTo>
                  <a:cubicBezTo>
                    <a:pt x="1813" y="1467"/>
                    <a:pt x="1790" y="1476"/>
                    <a:pt x="1781" y="1480"/>
                  </a:cubicBezTo>
                  <a:cubicBezTo>
                    <a:pt x="1771" y="1484"/>
                    <a:pt x="1775" y="1489"/>
                    <a:pt x="1769" y="1497"/>
                  </a:cubicBezTo>
                  <a:cubicBezTo>
                    <a:pt x="1763" y="1505"/>
                    <a:pt x="1760" y="1504"/>
                    <a:pt x="1753" y="1510"/>
                  </a:cubicBezTo>
                  <a:cubicBezTo>
                    <a:pt x="1746" y="1517"/>
                    <a:pt x="1746" y="1550"/>
                    <a:pt x="1738" y="1564"/>
                  </a:cubicBezTo>
                  <a:cubicBezTo>
                    <a:pt x="1731" y="1577"/>
                    <a:pt x="1703" y="1582"/>
                    <a:pt x="1694" y="1589"/>
                  </a:cubicBezTo>
                  <a:cubicBezTo>
                    <a:pt x="1685" y="1596"/>
                    <a:pt x="1693" y="1605"/>
                    <a:pt x="1685" y="1605"/>
                  </a:cubicBezTo>
                  <a:cubicBezTo>
                    <a:pt x="1676" y="1606"/>
                    <a:pt x="1659" y="1599"/>
                    <a:pt x="1655" y="1593"/>
                  </a:cubicBezTo>
                  <a:cubicBezTo>
                    <a:pt x="1652" y="1586"/>
                    <a:pt x="1659" y="1575"/>
                    <a:pt x="1663" y="1567"/>
                  </a:cubicBezTo>
                  <a:cubicBezTo>
                    <a:pt x="1667" y="1558"/>
                    <a:pt x="1666" y="1537"/>
                    <a:pt x="1669" y="1528"/>
                  </a:cubicBezTo>
                  <a:cubicBezTo>
                    <a:pt x="1672" y="1519"/>
                    <a:pt x="1681" y="1523"/>
                    <a:pt x="1687" y="1519"/>
                  </a:cubicBezTo>
                  <a:cubicBezTo>
                    <a:pt x="1692" y="1514"/>
                    <a:pt x="1687" y="1510"/>
                    <a:pt x="1692" y="1503"/>
                  </a:cubicBezTo>
                  <a:cubicBezTo>
                    <a:pt x="1696" y="1496"/>
                    <a:pt x="1705" y="1497"/>
                    <a:pt x="1704" y="1493"/>
                  </a:cubicBezTo>
                  <a:cubicBezTo>
                    <a:pt x="1704" y="1489"/>
                    <a:pt x="1693" y="1484"/>
                    <a:pt x="1689" y="1479"/>
                  </a:cubicBezTo>
                  <a:cubicBezTo>
                    <a:pt x="1685" y="1474"/>
                    <a:pt x="1683" y="1467"/>
                    <a:pt x="1677" y="1465"/>
                  </a:cubicBezTo>
                  <a:cubicBezTo>
                    <a:pt x="1671" y="1462"/>
                    <a:pt x="1659" y="1461"/>
                    <a:pt x="1652" y="1463"/>
                  </a:cubicBezTo>
                  <a:cubicBezTo>
                    <a:pt x="1645" y="1466"/>
                    <a:pt x="1638" y="1471"/>
                    <a:pt x="1634" y="1477"/>
                  </a:cubicBezTo>
                  <a:cubicBezTo>
                    <a:pt x="1629" y="1484"/>
                    <a:pt x="1627" y="1496"/>
                    <a:pt x="1623" y="1502"/>
                  </a:cubicBezTo>
                  <a:cubicBezTo>
                    <a:pt x="1619" y="1508"/>
                    <a:pt x="1615" y="1505"/>
                    <a:pt x="1607" y="1509"/>
                  </a:cubicBezTo>
                  <a:cubicBezTo>
                    <a:pt x="1600" y="1513"/>
                    <a:pt x="1586" y="1521"/>
                    <a:pt x="1573" y="1531"/>
                  </a:cubicBezTo>
                  <a:cubicBezTo>
                    <a:pt x="1560" y="1541"/>
                    <a:pt x="1546" y="1562"/>
                    <a:pt x="1537" y="1568"/>
                  </a:cubicBezTo>
                  <a:cubicBezTo>
                    <a:pt x="1529" y="1575"/>
                    <a:pt x="1527" y="1572"/>
                    <a:pt x="1524" y="1567"/>
                  </a:cubicBezTo>
                  <a:cubicBezTo>
                    <a:pt x="1519" y="1565"/>
                    <a:pt x="1515" y="1558"/>
                    <a:pt x="1509" y="1554"/>
                  </a:cubicBezTo>
                  <a:cubicBezTo>
                    <a:pt x="1504" y="1550"/>
                    <a:pt x="1495" y="1548"/>
                    <a:pt x="1490" y="1544"/>
                  </a:cubicBezTo>
                  <a:cubicBezTo>
                    <a:pt x="1484" y="1540"/>
                    <a:pt x="1484" y="1534"/>
                    <a:pt x="1475" y="1531"/>
                  </a:cubicBezTo>
                  <a:cubicBezTo>
                    <a:pt x="1467" y="1528"/>
                    <a:pt x="1445" y="1527"/>
                    <a:pt x="1440" y="1523"/>
                  </a:cubicBezTo>
                  <a:cubicBezTo>
                    <a:pt x="1436" y="1519"/>
                    <a:pt x="1443" y="1516"/>
                    <a:pt x="1437" y="1513"/>
                  </a:cubicBezTo>
                  <a:cubicBezTo>
                    <a:pt x="1432" y="1510"/>
                    <a:pt x="1426" y="1505"/>
                    <a:pt x="1421" y="1506"/>
                  </a:cubicBezTo>
                  <a:cubicBezTo>
                    <a:pt x="1417" y="1507"/>
                    <a:pt x="1416" y="1516"/>
                    <a:pt x="1411" y="1517"/>
                  </a:cubicBezTo>
                  <a:cubicBezTo>
                    <a:pt x="1405" y="1519"/>
                    <a:pt x="1397" y="1515"/>
                    <a:pt x="1389" y="1514"/>
                  </a:cubicBezTo>
                  <a:cubicBezTo>
                    <a:pt x="1381" y="1512"/>
                    <a:pt x="1373" y="1524"/>
                    <a:pt x="1363" y="1524"/>
                  </a:cubicBezTo>
                  <a:cubicBezTo>
                    <a:pt x="1352" y="1525"/>
                    <a:pt x="1347" y="1517"/>
                    <a:pt x="1335" y="1513"/>
                  </a:cubicBezTo>
                  <a:cubicBezTo>
                    <a:pt x="1323" y="1509"/>
                    <a:pt x="1305" y="1512"/>
                    <a:pt x="1302" y="1509"/>
                  </a:cubicBezTo>
                  <a:cubicBezTo>
                    <a:pt x="1299" y="1505"/>
                    <a:pt x="1315" y="1496"/>
                    <a:pt x="1319" y="1493"/>
                  </a:cubicBezTo>
                  <a:cubicBezTo>
                    <a:pt x="1323" y="1490"/>
                    <a:pt x="1324" y="1491"/>
                    <a:pt x="1328" y="1491"/>
                  </a:cubicBezTo>
                  <a:cubicBezTo>
                    <a:pt x="1331" y="1492"/>
                    <a:pt x="1334" y="1496"/>
                    <a:pt x="1339" y="1497"/>
                  </a:cubicBezTo>
                  <a:cubicBezTo>
                    <a:pt x="1344" y="1498"/>
                    <a:pt x="1353" y="1501"/>
                    <a:pt x="1356" y="1498"/>
                  </a:cubicBezTo>
                  <a:cubicBezTo>
                    <a:pt x="1358" y="1494"/>
                    <a:pt x="1359" y="1482"/>
                    <a:pt x="1354" y="1476"/>
                  </a:cubicBezTo>
                  <a:cubicBezTo>
                    <a:pt x="1349" y="1471"/>
                    <a:pt x="1326" y="1477"/>
                    <a:pt x="1319" y="1474"/>
                  </a:cubicBezTo>
                  <a:cubicBezTo>
                    <a:pt x="1311" y="1470"/>
                    <a:pt x="1309" y="1464"/>
                    <a:pt x="1307" y="1455"/>
                  </a:cubicBezTo>
                  <a:cubicBezTo>
                    <a:pt x="1304" y="1446"/>
                    <a:pt x="1306" y="1426"/>
                    <a:pt x="1304" y="1422"/>
                  </a:cubicBezTo>
                  <a:cubicBezTo>
                    <a:pt x="1302" y="1419"/>
                    <a:pt x="1299" y="1428"/>
                    <a:pt x="1295" y="1435"/>
                  </a:cubicBezTo>
                  <a:cubicBezTo>
                    <a:pt x="1292" y="1443"/>
                    <a:pt x="1286" y="1469"/>
                    <a:pt x="1281" y="1469"/>
                  </a:cubicBezTo>
                  <a:cubicBezTo>
                    <a:pt x="1277" y="1469"/>
                    <a:pt x="1269" y="1449"/>
                    <a:pt x="1268" y="1436"/>
                  </a:cubicBezTo>
                  <a:cubicBezTo>
                    <a:pt x="1267" y="1423"/>
                    <a:pt x="1280" y="1396"/>
                    <a:pt x="1277" y="1390"/>
                  </a:cubicBezTo>
                  <a:cubicBezTo>
                    <a:pt x="1274" y="1383"/>
                    <a:pt x="1261" y="1393"/>
                    <a:pt x="1249" y="1396"/>
                  </a:cubicBezTo>
                  <a:cubicBezTo>
                    <a:pt x="1238" y="1400"/>
                    <a:pt x="1225" y="1398"/>
                    <a:pt x="1218" y="1403"/>
                  </a:cubicBezTo>
                  <a:cubicBezTo>
                    <a:pt x="1211" y="1407"/>
                    <a:pt x="1213" y="1413"/>
                    <a:pt x="1206" y="1422"/>
                  </a:cubicBezTo>
                  <a:cubicBezTo>
                    <a:pt x="1200" y="1432"/>
                    <a:pt x="1189" y="1443"/>
                    <a:pt x="1188" y="1453"/>
                  </a:cubicBezTo>
                  <a:cubicBezTo>
                    <a:pt x="1188" y="1463"/>
                    <a:pt x="1195" y="1470"/>
                    <a:pt x="1203" y="1482"/>
                  </a:cubicBezTo>
                  <a:cubicBezTo>
                    <a:pt x="1212" y="1494"/>
                    <a:pt x="1231" y="1505"/>
                    <a:pt x="1240" y="1514"/>
                  </a:cubicBezTo>
                  <a:cubicBezTo>
                    <a:pt x="1248" y="1522"/>
                    <a:pt x="1253" y="1528"/>
                    <a:pt x="1253" y="1533"/>
                  </a:cubicBezTo>
                  <a:cubicBezTo>
                    <a:pt x="1254" y="1538"/>
                    <a:pt x="1246" y="1536"/>
                    <a:pt x="1244" y="1543"/>
                  </a:cubicBezTo>
                  <a:cubicBezTo>
                    <a:pt x="1242" y="1550"/>
                    <a:pt x="1241" y="1561"/>
                    <a:pt x="1236" y="1563"/>
                  </a:cubicBezTo>
                  <a:cubicBezTo>
                    <a:pt x="1231" y="1565"/>
                    <a:pt x="1219" y="1560"/>
                    <a:pt x="1212" y="1557"/>
                  </a:cubicBezTo>
                  <a:cubicBezTo>
                    <a:pt x="1204" y="1555"/>
                    <a:pt x="1204" y="1547"/>
                    <a:pt x="1193" y="1547"/>
                  </a:cubicBezTo>
                  <a:cubicBezTo>
                    <a:pt x="1181" y="1547"/>
                    <a:pt x="1154" y="1558"/>
                    <a:pt x="1142" y="1560"/>
                  </a:cubicBezTo>
                  <a:cubicBezTo>
                    <a:pt x="1129" y="1562"/>
                    <a:pt x="1124" y="1560"/>
                    <a:pt x="1117" y="1558"/>
                  </a:cubicBezTo>
                  <a:cubicBezTo>
                    <a:pt x="1110" y="1557"/>
                    <a:pt x="1105" y="1552"/>
                    <a:pt x="1101" y="1553"/>
                  </a:cubicBezTo>
                  <a:cubicBezTo>
                    <a:pt x="1097" y="1554"/>
                    <a:pt x="1094" y="1559"/>
                    <a:pt x="1092" y="1566"/>
                  </a:cubicBezTo>
                  <a:cubicBezTo>
                    <a:pt x="1090" y="1574"/>
                    <a:pt x="1082" y="1569"/>
                    <a:pt x="1079" y="1575"/>
                  </a:cubicBezTo>
                  <a:cubicBezTo>
                    <a:pt x="1077" y="1581"/>
                    <a:pt x="1079" y="1598"/>
                    <a:pt x="1076" y="1605"/>
                  </a:cubicBezTo>
                  <a:cubicBezTo>
                    <a:pt x="1074" y="1611"/>
                    <a:pt x="1062" y="1611"/>
                    <a:pt x="1058" y="1614"/>
                  </a:cubicBezTo>
                  <a:cubicBezTo>
                    <a:pt x="1054" y="1616"/>
                    <a:pt x="1057" y="1618"/>
                    <a:pt x="1052" y="1620"/>
                  </a:cubicBezTo>
                  <a:cubicBezTo>
                    <a:pt x="1047" y="1622"/>
                    <a:pt x="1039" y="1622"/>
                    <a:pt x="1034" y="1627"/>
                  </a:cubicBezTo>
                  <a:cubicBezTo>
                    <a:pt x="1029" y="1632"/>
                    <a:pt x="1024" y="1643"/>
                    <a:pt x="1020" y="1650"/>
                  </a:cubicBezTo>
                  <a:cubicBezTo>
                    <a:pt x="1016" y="1658"/>
                    <a:pt x="1015" y="1666"/>
                    <a:pt x="1010" y="1671"/>
                  </a:cubicBezTo>
                  <a:cubicBezTo>
                    <a:pt x="1004" y="1675"/>
                    <a:pt x="1001" y="1675"/>
                    <a:pt x="989" y="1678"/>
                  </a:cubicBezTo>
                  <a:cubicBezTo>
                    <a:pt x="976" y="1682"/>
                    <a:pt x="949" y="1694"/>
                    <a:pt x="935" y="1692"/>
                  </a:cubicBezTo>
                  <a:cubicBezTo>
                    <a:pt x="921" y="1689"/>
                    <a:pt x="915" y="1673"/>
                    <a:pt x="905" y="1664"/>
                  </a:cubicBezTo>
                  <a:cubicBezTo>
                    <a:pt x="895" y="1654"/>
                    <a:pt x="880" y="1645"/>
                    <a:pt x="877" y="1636"/>
                  </a:cubicBezTo>
                  <a:cubicBezTo>
                    <a:pt x="873" y="1627"/>
                    <a:pt x="885" y="1617"/>
                    <a:pt x="882" y="1610"/>
                  </a:cubicBezTo>
                  <a:cubicBezTo>
                    <a:pt x="879" y="1603"/>
                    <a:pt x="865" y="1603"/>
                    <a:pt x="858" y="1593"/>
                  </a:cubicBezTo>
                  <a:cubicBezTo>
                    <a:pt x="852" y="1584"/>
                    <a:pt x="845" y="1561"/>
                    <a:pt x="845" y="1549"/>
                  </a:cubicBezTo>
                  <a:cubicBezTo>
                    <a:pt x="844" y="1538"/>
                    <a:pt x="855" y="1532"/>
                    <a:pt x="858" y="1526"/>
                  </a:cubicBezTo>
                  <a:cubicBezTo>
                    <a:pt x="860" y="1519"/>
                    <a:pt x="856" y="1513"/>
                    <a:pt x="858" y="1509"/>
                  </a:cubicBezTo>
                  <a:cubicBezTo>
                    <a:pt x="861" y="1505"/>
                    <a:pt x="869" y="1507"/>
                    <a:pt x="873" y="1500"/>
                  </a:cubicBezTo>
                  <a:cubicBezTo>
                    <a:pt x="878" y="1492"/>
                    <a:pt x="870" y="1475"/>
                    <a:pt x="870" y="1466"/>
                  </a:cubicBezTo>
                  <a:cubicBezTo>
                    <a:pt x="869" y="1458"/>
                    <a:pt x="864" y="1452"/>
                    <a:pt x="870" y="1449"/>
                  </a:cubicBezTo>
                  <a:cubicBezTo>
                    <a:pt x="875" y="1446"/>
                    <a:pt x="891" y="1452"/>
                    <a:pt x="901" y="1449"/>
                  </a:cubicBezTo>
                  <a:cubicBezTo>
                    <a:pt x="911" y="1446"/>
                    <a:pt x="921" y="1440"/>
                    <a:pt x="930" y="1434"/>
                  </a:cubicBezTo>
                  <a:cubicBezTo>
                    <a:pt x="939" y="1427"/>
                    <a:pt x="938" y="1411"/>
                    <a:pt x="944" y="1403"/>
                  </a:cubicBezTo>
                  <a:cubicBezTo>
                    <a:pt x="950" y="1396"/>
                    <a:pt x="965" y="1393"/>
                    <a:pt x="966" y="1388"/>
                  </a:cubicBezTo>
                  <a:cubicBezTo>
                    <a:pt x="967" y="1383"/>
                    <a:pt x="955" y="1378"/>
                    <a:pt x="950" y="1376"/>
                  </a:cubicBezTo>
                  <a:cubicBezTo>
                    <a:pt x="944" y="1373"/>
                    <a:pt x="943" y="1370"/>
                    <a:pt x="938" y="1369"/>
                  </a:cubicBezTo>
                  <a:cubicBezTo>
                    <a:pt x="934" y="1369"/>
                    <a:pt x="932" y="1373"/>
                    <a:pt x="924" y="1374"/>
                  </a:cubicBezTo>
                  <a:cubicBezTo>
                    <a:pt x="915" y="1374"/>
                    <a:pt x="899" y="1377"/>
                    <a:pt x="889" y="1371"/>
                  </a:cubicBezTo>
                  <a:cubicBezTo>
                    <a:pt x="878" y="1365"/>
                    <a:pt x="869" y="1347"/>
                    <a:pt x="860" y="1338"/>
                  </a:cubicBezTo>
                  <a:cubicBezTo>
                    <a:pt x="851" y="1329"/>
                    <a:pt x="840" y="1325"/>
                    <a:pt x="830" y="1318"/>
                  </a:cubicBezTo>
                  <a:cubicBezTo>
                    <a:pt x="819" y="1311"/>
                    <a:pt x="809" y="1300"/>
                    <a:pt x="799" y="1296"/>
                  </a:cubicBezTo>
                  <a:cubicBezTo>
                    <a:pt x="788" y="1292"/>
                    <a:pt x="778" y="1296"/>
                    <a:pt x="766" y="1295"/>
                  </a:cubicBezTo>
                  <a:cubicBezTo>
                    <a:pt x="754" y="1294"/>
                    <a:pt x="736" y="1289"/>
                    <a:pt x="726" y="1291"/>
                  </a:cubicBezTo>
                  <a:cubicBezTo>
                    <a:pt x="716" y="1292"/>
                    <a:pt x="713" y="1297"/>
                    <a:pt x="707" y="1302"/>
                  </a:cubicBezTo>
                  <a:cubicBezTo>
                    <a:pt x="700" y="1306"/>
                    <a:pt x="697" y="1311"/>
                    <a:pt x="691" y="1314"/>
                  </a:cubicBezTo>
                  <a:cubicBezTo>
                    <a:pt x="686" y="1318"/>
                    <a:pt x="678" y="1322"/>
                    <a:pt x="672" y="1323"/>
                  </a:cubicBezTo>
                  <a:cubicBezTo>
                    <a:pt x="666" y="1323"/>
                    <a:pt x="657" y="1320"/>
                    <a:pt x="648" y="1321"/>
                  </a:cubicBezTo>
                  <a:cubicBezTo>
                    <a:pt x="640" y="1322"/>
                    <a:pt x="624" y="1330"/>
                    <a:pt x="619" y="1326"/>
                  </a:cubicBezTo>
                  <a:cubicBezTo>
                    <a:pt x="615" y="1323"/>
                    <a:pt x="625" y="1306"/>
                    <a:pt x="622" y="1302"/>
                  </a:cubicBezTo>
                  <a:cubicBezTo>
                    <a:pt x="619" y="1298"/>
                    <a:pt x="607" y="1301"/>
                    <a:pt x="600" y="1302"/>
                  </a:cubicBezTo>
                  <a:cubicBezTo>
                    <a:pt x="594" y="1304"/>
                    <a:pt x="589" y="1310"/>
                    <a:pt x="581" y="1309"/>
                  </a:cubicBezTo>
                  <a:cubicBezTo>
                    <a:pt x="573" y="1308"/>
                    <a:pt x="561" y="1300"/>
                    <a:pt x="554" y="1298"/>
                  </a:cubicBezTo>
                  <a:cubicBezTo>
                    <a:pt x="547" y="1297"/>
                    <a:pt x="546" y="1302"/>
                    <a:pt x="541" y="1303"/>
                  </a:cubicBezTo>
                  <a:cubicBezTo>
                    <a:pt x="536" y="1304"/>
                    <a:pt x="529" y="1303"/>
                    <a:pt x="522" y="1305"/>
                  </a:cubicBezTo>
                  <a:cubicBezTo>
                    <a:pt x="516" y="1307"/>
                    <a:pt x="512" y="1312"/>
                    <a:pt x="504" y="1311"/>
                  </a:cubicBezTo>
                  <a:cubicBezTo>
                    <a:pt x="495" y="1310"/>
                    <a:pt x="482" y="1302"/>
                    <a:pt x="471" y="1299"/>
                  </a:cubicBezTo>
                  <a:cubicBezTo>
                    <a:pt x="461" y="1296"/>
                    <a:pt x="449" y="1294"/>
                    <a:pt x="439" y="1294"/>
                  </a:cubicBezTo>
                  <a:cubicBezTo>
                    <a:pt x="430" y="1293"/>
                    <a:pt x="417" y="1298"/>
                    <a:pt x="409" y="1298"/>
                  </a:cubicBezTo>
                  <a:cubicBezTo>
                    <a:pt x="401" y="1299"/>
                    <a:pt x="403" y="1295"/>
                    <a:pt x="391" y="1296"/>
                  </a:cubicBezTo>
                  <a:cubicBezTo>
                    <a:pt x="378" y="1297"/>
                    <a:pt x="343" y="1300"/>
                    <a:pt x="334" y="1297"/>
                  </a:cubicBezTo>
                  <a:cubicBezTo>
                    <a:pt x="325" y="1294"/>
                    <a:pt x="336" y="1284"/>
                    <a:pt x="336" y="1279"/>
                  </a:cubicBezTo>
                  <a:cubicBezTo>
                    <a:pt x="336" y="1273"/>
                    <a:pt x="340" y="1267"/>
                    <a:pt x="336" y="1262"/>
                  </a:cubicBezTo>
                  <a:cubicBezTo>
                    <a:pt x="332" y="1257"/>
                    <a:pt x="321" y="1252"/>
                    <a:pt x="314" y="1251"/>
                  </a:cubicBezTo>
                  <a:cubicBezTo>
                    <a:pt x="307" y="1250"/>
                    <a:pt x="300" y="1255"/>
                    <a:pt x="293" y="1259"/>
                  </a:cubicBezTo>
                  <a:cubicBezTo>
                    <a:pt x="285" y="1263"/>
                    <a:pt x="275" y="1268"/>
                    <a:pt x="271" y="1273"/>
                  </a:cubicBezTo>
                  <a:cubicBezTo>
                    <a:pt x="266" y="1279"/>
                    <a:pt x="268" y="1284"/>
                    <a:pt x="268" y="1291"/>
                  </a:cubicBezTo>
                  <a:cubicBezTo>
                    <a:pt x="267" y="1297"/>
                    <a:pt x="269" y="1306"/>
                    <a:pt x="266" y="1312"/>
                  </a:cubicBezTo>
                  <a:cubicBezTo>
                    <a:pt x="263" y="1318"/>
                    <a:pt x="257" y="1322"/>
                    <a:pt x="251" y="1328"/>
                  </a:cubicBezTo>
                  <a:cubicBezTo>
                    <a:pt x="245" y="1334"/>
                    <a:pt x="236" y="1347"/>
                    <a:pt x="231" y="1348"/>
                  </a:cubicBezTo>
                  <a:cubicBezTo>
                    <a:pt x="227" y="1348"/>
                    <a:pt x="227" y="1337"/>
                    <a:pt x="223" y="1330"/>
                  </a:cubicBezTo>
                  <a:cubicBezTo>
                    <a:pt x="217" y="1324"/>
                    <a:pt x="206" y="1328"/>
                    <a:pt x="200" y="1324"/>
                  </a:cubicBezTo>
                  <a:cubicBezTo>
                    <a:pt x="194" y="1321"/>
                    <a:pt x="190" y="1315"/>
                    <a:pt x="186" y="1311"/>
                  </a:cubicBezTo>
                  <a:cubicBezTo>
                    <a:pt x="181" y="1307"/>
                    <a:pt x="176" y="1305"/>
                    <a:pt x="173" y="1301"/>
                  </a:cubicBezTo>
                  <a:cubicBezTo>
                    <a:pt x="169" y="1296"/>
                    <a:pt x="175" y="1290"/>
                    <a:pt x="171" y="1285"/>
                  </a:cubicBezTo>
                  <a:cubicBezTo>
                    <a:pt x="167" y="1279"/>
                    <a:pt x="156" y="1275"/>
                    <a:pt x="148" y="1273"/>
                  </a:cubicBezTo>
                  <a:cubicBezTo>
                    <a:pt x="141" y="1271"/>
                    <a:pt x="133" y="1275"/>
                    <a:pt x="126" y="1274"/>
                  </a:cubicBezTo>
                  <a:cubicBezTo>
                    <a:pt x="119" y="1273"/>
                    <a:pt x="113" y="1265"/>
                    <a:pt x="106" y="1266"/>
                  </a:cubicBezTo>
                  <a:cubicBezTo>
                    <a:pt x="99" y="1266"/>
                    <a:pt x="96" y="1269"/>
                    <a:pt x="91" y="1269"/>
                  </a:cubicBezTo>
                  <a:cubicBezTo>
                    <a:pt x="85" y="1269"/>
                    <a:pt x="80" y="1266"/>
                    <a:pt x="71" y="1264"/>
                  </a:cubicBezTo>
                  <a:cubicBezTo>
                    <a:pt x="62" y="1263"/>
                    <a:pt x="45" y="1266"/>
                    <a:pt x="39" y="1261"/>
                  </a:cubicBezTo>
                  <a:cubicBezTo>
                    <a:pt x="33" y="1257"/>
                    <a:pt x="41" y="1247"/>
                    <a:pt x="37" y="1240"/>
                  </a:cubicBezTo>
                  <a:cubicBezTo>
                    <a:pt x="32" y="1232"/>
                    <a:pt x="14" y="1232"/>
                    <a:pt x="9" y="1226"/>
                  </a:cubicBezTo>
                  <a:cubicBezTo>
                    <a:pt x="3" y="1220"/>
                    <a:pt x="0" y="1209"/>
                    <a:pt x="2" y="1203"/>
                  </a:cubicBezTo>
                  <a:cubicBezTo>
                    <a:pt x="4" y="1197"/>
                    <a:pt x="18" y="1196"/>
                    <a:pt x="23" y="1190"/>
                  </a:cubicBezTo>
                  <a:cubicBezTo>
                    <a:pt x="28" y="1184"/>
                    <a:pt x="28" y="1184"/>
                    <a:pt x="34" y="1176"/>
                  </a:cubicBezTo>
                  <a:cubicBezTo>
                    <a:pt x="39" y="1168"/>
                    <a:pt x="42" y="1151"/>
                    <a:pt x="47" y="1146"/>
                  </a:cubicBezTo>
                  <a:cubicBezTo>
                    <a:pt x="51" y="1140"/>
                    <a:pt x="53" y="1145"/>
                    <a:pt x="60" y="1144"/>
                  </a:cubicBezTo>
                  <a:cubicBezTo>
                    <a:pt x="68" y="1144"/>
                    <a:pt x="60" y="1158"/>
                    <a:pt x="67" y="1158"/>
                  </a:cubicBezTo>
                  <a:cubicBezTo>
                    <a:pt x="75" y="1157"/>
                    <a:pt x="102" y="1159"/>
                    <a:pt x="113" y="1158"/>
                  </a:cubicBezTo>
                  <a:cubicBezTo>
                    <a:pt x="124" y="1157"/>
                    <a:pt x="127" y="1154"/>
                    <a:pt x="135" y="1151"/>
                  </a:cubicBezTo>
                  <a:cubicBezTo>
                    <a:pt x="142" y="1148"/>
                    <a:pt x="151" y="1141"/>
                    <a:pt x="159" y="1139"/>
                  </a:cubicBezTo>
                  <a:cubicBezTo>
                    <a:pt x="167" y="1136"/>
                    <a:pt x="171" y="1140"/>
                    <a:pt x="183" y="1139"/>
                  </a:cubicBezTo>
                  <a:cubicBezTo>
                    <a:pt x="195" y="1137"/>
                    <a:pt x="210" y="1139"/>
                    <a:pt x="219" y="1135"/>
                  </a:cubicBezTo>
                  <a:cubicBezTo>
                    <a:pt x="229" y="1132"/>
                    <a:pt x="227" y="1126"/>
                    <a:pt x="241" y="1119"/>
                  </a:cubicBezTo>
                  <a:cubicBezTo>
                    <a:pt x="254" y="1112"/>
                    <a:pt x="286" y="1102"/>
                    <a:pt x="303" y="1095"/>
                  </a:cubicBezTo>
                  <a:cubicBezTo>
                    <a:pt x="320" y="1087"/>
                    <a:pt x="331" y="1070"/>
                    <a:pt x="350" y="1064"/>
                  </a:cubicBezTo>
                  <a:cubicBezTo>
                    <a:pt x="368" y="1058"/>
                    <a:pt x="402" y="1061"/>
                    <a:pt x="417" y="1058"/>
                  </a:cubicBezTo>
                  <a:cubicBezTo>
                    <a:pt x="432" y="1055"/>
                    <a:pt x="435" y="1048"/>
                    <a:pt x="441" y="1045"/>
                  </a:cubicBezTo>
                  <a:cubicBezTo>
                    <a:pt x="446" y="1041"/>
                    <a:pt x="450" y="1042"/>
                    <a:pt x="452" y="1038"/>
                  </a:cubicBezTo>
                  <a:cubicBezTo>
                    <a:pt x="455" y="1033"/>
                    <a:pt x="456" y="1024"/>
                    <a:pt x="458" y="1019"/>
                  </a:cubicBezTo>
                  <a:cubicBezTo>
                    <a:pt x="460" y="1014"/>
                    <a:pt x="460" y="1007"/>
                    <a:pt x="466" y="1006"/>
                  </a:cubicBezTo>
                  <a:cubicBezTo>
                    <a:pt x="471" y="1005"/>
                    <a:pt x="482" y="1010"/>
                    <a:pt x="490" y="1011"/>
                  </a:cubicBezTo>
                  <a:cubicBezTo>
                    <a:pt x="499" y="1013"/>
                    <a:pt x="509" y="1015"/>
                    <a:pt x="517" y="1014"/>
                  </a:cubicBezTo>
                  <a:cubicBezTo>
                    <a:pt x="526" y="1014"/>
                    <a:pt x="536" y="1013"/>
                    <a:pt x="543" y="1012"/>
                  </a:cubicBezTo>
                  <a:cubicBezTo>
                    <a:pt x="551" y="1011"/>
                    <a:pt x="562" y="1009"/>
                    <a:pt x="564" y="1011"/>
                  </a:cubicBezTo>
                  <a:cubicBezTo>
                    <a:pt x="566" y="1013"/>
                    <a:pt x="558" y="1021"/>
                    <a:pt x="557" y="1026"/>
                  </a:cubicBezTo>
                  <a:cubicBezTo>
                    <a:pt x="556" y="1030"/>
                    <a:pt x="554" y="1036"/>
                    <a:pt x="556" y="1040"/>
                  </a:cubicBezTo>
                  <a:cubicBezTo>
                    <a:pt x="559" y="1044"/>
                    <a:pt x="567" y="1046"/>
                    <a:pt x="573" y="1050"/>
                  </a:cubicBezTo>
                  <a:cubicBezTo>
                    <a:pt x="579" y="1054"/>
                    <a:pt x="578" y="1061"/>
                    <a:pt x="594" y="1063"/>
                  </a:cubicBezTo>
                  <a:cubicBezTo>
                    <a:pt x="609" y="1065"/>
                    <a:pt x="639" y="1059"/>
                    <a:pt x="662" y="1062"/>
                  </a:cubicBezTo>
                  <a:cubicBezTo>
                    <a:pt x="684" y="1065"/>
                    <a:pt x="711" y="1074"/>
                    <a:pt x="728" y="1079"/>
                  </a:cubicBezTo>
                  <a:cubicBezTo>
                    <a:pt x="745" y="1084"/>
                    <a:pt x="745" y="1091"/>
                    <a:pt x="766" y="1092"/>
                  </a:cubicBezTo>
                  <a:cubicBezTo>
                    <a:pt x="788" y="1093"/>
                    <a:pt x="836" y="1085"/>
                    <a:pt x="858" y="1087"/>
                  </a:cubicBezTo>
                  <a:cubicBezTo>
                    <a:pt x="880" y="1089"/>
                    <a:pt x="886" y="1100"/>
                    <a:pt x="898" y="1104"/>
                  </a:cubicBezTo>
                  <a:cubicBezTo>
                    <a:pt x="910" y="1108"/>
                    <a:pt x="918" y="1111"/>
                    <a:pt x="928" y="1112"/>
                  </a:cubicBezTo>
                  <a:cubicBezTo>
                    <a:pt x="939" y="1114"/>
                    <a:pt x="949" y="1114"/>
                    <a:pt x="961" y="1114"/>
                  </a:cubicBezTo>
                  <a:cubicBezTo>
                    <a:pt x="972" y="1114"/>
                    <a:pt x="991" y="1110"/>
                    <a:pt x="998" y="1112"/>
                  </a:cubicBezTo>
                  <a:cubicBezTo>
                    <a:pt x="1004" y="1114"/>
                    <a:pt x="1001" y="1123"/>
                    <a:pt x="1001" y="1127"/>
                  </a:cubicBezTo>
                  <a:cubicBezTo>
                    <a:pt x="1000" y="1130"/>
                    <a:pt x="996" y="1130"/>
                    <a:pt x="994" y="1133"/>
                  </a:cubicBezTo>
                  <a:cubicBezTo>
                    <a:pt x="991" y="1136"/>
                    <a:pt x="989" y="1141"/>
                    <a:pt x="984" y="1145"/>
                  </a:cubicBezTo>
                  <a:cubicBezTo>
                    <a:pt x="980" y="1149"/>
                    <a:pt x="968" y="1155"/>
                    <a:pt x="968" y="1158"/>
                  </a:cubicBezTo>
                  <a:cubicBezTo>
                    <a:pt x="967" y="1161"/>
                    <a:pt x="979" y="1159"/>
                    <a:pt x="984" y="1162"/>
                  </a:cubicBezTo>
                  <a:cubicBezTo>
                    <a:pt x="988" y="1166"/>
                    <a:pt x="988" y="1173"/>
                    <a:pt x="992" y="1178"/>
                  </a:cubicBezTo>
                  <a:cubicBezTo>
                    <a:pt x="997" y="1183"/>
                    <a:pt x="993" y="1192"/>
                    <a:pt x="996" y="1194"/>
                  </a:cubicBezTo>
                  <a:cubicBezTo>
                    <a:pt x="998" y="1196"/>
                    <a:pt x="1004" y="1192"/>
                    <a:pt x="1007" y="1189"/>
                  </a:cubicBezTo>
                  <a:cubicBezTo>
                    <a:pt x="1011" y="1186"/>
                    <a:pt x="1015" y="1180"/>
                    <a:pt x="1018" y="1178"/>
                  </a:cubicBezTo>
                  <a:cubicBezTo>
                    <a:pt x="1021" y="1177"/>
                    <a:pt x="1024" y="1178"/>
                    <a:pt x="1026" y="1180"/>
                  </a:cubicBezTo>
                  <a:cubicBezTo>
                    <a:pt x="1029" y="1182"/>
                    <a:pt x="1029" y="1191"/>
                    <a:pt x="1034" y="1193"/>
                  </a:cubicBezTo>
                  <a:cubicBezTo>
                    <a:pt x="1039" y="1195"/>
                    <a:pt x="1042" y="1195"/>
                    <a:pt x="1052" y="1195"/>
                  </a:cubicBezTo>
                  <a:cubicBezTo>
                    <a:pt x="1062" y="1195"/>
                    <a:pt x="1068" y="1202"/>
                    <a:pt x="1076" y="1201"/>
                  </a:cubicBezTo>
                  <a:cubicBezTo>
                    <a:pt x="1084" y="1201"/>
                    <a:pt x="1093" y="1197"/>
                    <a:pt x="1099" y="1194"/>
                  </a:cubicBezTo>
                  <a:cubicBezTo>
                    <a:pt x="1106" y="1190"/>
                    <a:pt x="1108" y="1185"/>
                    <a:pt x="1113" y="1182"/>
                  </a:cubicBezTo>
                  <a:cubicBezTo>
                    <a:pt x="1118" y="1179"/>
                    <a:pt x="1125" y="1188"/>
                    <a:pt x="1131" y="1186"/>
                  </a:cubicBezTo>
                  <a:cubicBezTo>
                    <a:pt x="1137" y="1182"/>
                    <a:pt x="1136" y="1167"/>
                    <a:pt x="1140" y="1162"/>
                  </a:cubicBezTo>
                  <a:cubicBezTo>
                    <a:pt x="1145" y="1158"/>
                    <a:pt x="1155" y="1163"/>
                    <a:pt x="1158" y="1157"/>
                  </a:cubicBezTo>
                  <a:cubicBezTo>
                    <a:pt x="1160" y="1151"/>
                    <a:pt x="1157" y="1137"/>
                    <a:pt x="1158" y="1130"/>
                  </a:cubicBezTo>
                  <a:cubicBezTo>
                    <a:pt x="1158" y="1122"/>
                    <a:pt x="1163" y="1121"/>
                    <a:pt x="1165" y="1116"/>
                  </a:cubicBezTo>
                  <a:cubicBezTo>
                    <a:pt x="1166" y="1112"/>
                    <a:pt x="1162" y="1108"/>
                    <a:pt x="1168" y="1102"/>
                  </a:cubicBezTo>
                  <a:cubicBezTo>
                    <a:pt x="1173" y="1096"/>
                    <a:pt x="1189" y="1086"/>
                    <a:pt x="1198" y="1079"/>
                  </a:cubicBezTo>
                  <a:cubicBezTo>
                    <a:pt x="1207" y="1072"/>
                    <a:pt x="1209" y="1069"/>
                    <a:pt x="1222" y="1061"/>
                  </a:cubicBezTo>
                  <a:cubicBezTo>
                    <a:pt x="1234" y="1054"/>
                    <a:pt x="1249" y="1045"/>
                    <a:pt x="1266" y="1036"/>
                  </a:cubicBezTo>
                  <a:cubicBezTo>
                    <a:pt x="1283" y="1026"/>
                    <a:pt x="1308" y="1014"/>
                    <a:pt x="1323" y="1005"/>
                  </a:cubicBezTo>
                  <a:cubicBezTo>
                    <a:pt x="1337" y="996"/>
                    <a:pt x="1351" y="992"/>
                    <a:pt x="1360" y="982"/>
                  </a:cubicBezTo>
                  <a:cubicBezTo>
                    <a:pt x="1369" y="973"/>
                    <a:pt x="1377" y="961"/>
                    <a:pt x="1383" y="947"/>
                  </a:cubicBezTo>
                  <a:cubicBezTo>
                    <a:pt x="1389" y="933"/>
                    <a:pt x="1388" y="917"/>
                    <a:pt x="1395" y="900"/>
                  </a:cubicBezTo>
                  <a:cubicBezTo>
                    <a:pt x="1401" y="882"/>
                    <a:pt x="1403" y="877"/>
                    <a:pt x="1408" y="865"/>
                  </a:cubicBezTo>
                  <a:cubicBezTo>
                    <a:pt x="1414" y="854"/>
                    <a:pt x="1423" y="839"/>
                    <a:pt x="1429" y="832"/>
                  </a:cubicBezTo>
                  <a:cubicBezTo>
                    <a:pt x="1435" y="824"/>
                    <a:pt x="1434" y="824"/>
                    <a:pt x="1446" y="820"/>
                  </a:cubicBezTo>
                  <a:cubicBezTo>
                    <a:pt x="1458" y="817"/>
                    <a:pt x="1486" y="814"/>
                    <a:pt x="1501" y="811"/>
                  </a:cubicBezTo>
                  <a:cubicBezTo>
                    <a:pt x="1516" y="809"/>
                    <a:pt x="1530" y="803"/>
                    <a:pt x="1538" y="804"/>
                  </a:cubicBezTo>
                  <a:cubicBezTo>
                    <a:pt x="1547" y="805"/>
                    <a:pt x="1551" y="814"/>
                    <a:pt x="1551" y="817"/>
                  </a:cubicBezTo>
                  <a:cubicBezTo>
                    <a:pt x="1551" y="821"/>
                    <a:pt x="1545" y="825"/>
                    <a:pt x="1541" y="827"/>
                  </a:cubicBezTo>
                  <a:cubicBezTo>
                    <a:pt x="1537" y="830"/>
                    <a:pt x="1531" y="828"/>
                    <a:pt x="1527" y="833"/>
                  </a:cubicBezTo>
                  <a:cubicBezTo>
                    <a:pt x="1522" y="839"/>
                    <a:pt x="1520" y="854"/>
                    <a:pt x="1512" y="859"/>
                  </a:cubicBezTo>
                  <a:cubicBezTo>
                    <a:pt x="1503" y="865"/>
                    <a:pt x="1485" y="866"/>
                    <a:pt x="1475" y="867"/>
                  </a:cubicBezTo>
                  <a:cubicBezTo>
                    <a:pt x="1466" y="867"/>
                    <a:pt x="1465" y="859"/>
                    <a:pt x="1458" y="860"/>
                  </a:cubicBezTo>
                  <a:cubicBezTo>
                    <a:pt x="1451" y="861"/>
                    <a:pt x="1442" y="860"/>
                    <a:pt x="1439" y="867"/>
                  </a:cubicBezTo>
                  <a:cubicBezTo>
                    <a:pt x="1435" y="873"/>
                    <a:pt x="1434" y="890"/>
                    <a:pt x="1435" y="900"/>
                  </a:cubicBezTo>
                  <a:cubicBezTo>
                    <a:pt x="1436" y="911"/>
                    <a:pt x="1453" y="942"/>
                    <a:pt x="1471" y="952"/>
                  </a:cubicBezTo>
                  <a:cubicBezTo>
                    <a:pt x="1488" y="961"/>
                    <a:pt x="1513" y="960"/>
                    <a:pt x="1541" y="959"/>
                  </a:cubicBezTo>
                  <a:cubicBezTo>
                    <a:pt x="1569" y="958"/>
                    <a:pt x="1609" y="950"/>
                    <a:pt x="1639" y="945"/>
                  </a:cubicBezTo>
                  <a:cubicBezTo>
                    <a:pt x="1670" y="941"/>
                    <a:pt x="1704" y="935"/>
                    <a:pt x="1723" y="930"/>
                  </a:cubicBezTo>
                  <a:cubicBezTo>
                    <a:pt x="1743" y="925"/>
                    <a:pt x="1745" y="919"/>
                    <a:pt x="1756" y="915"/>
                  </a:cubicBezTo>
                  <a:cubicBezTo>
                    <a:pt x="1766" y="911"/>
                    <a:pt x="1773" y="917"/>
                    <a:pt x="1786" y="907"/>
                  </a:cubicBezTo>
                  <a:cubicBezTo>
                    <a:pt x="1800" y="898"/>
                    <a:pt x="1824" y="876"/>
                    <a:pt x="1834" y="865"/>
                  </a:cubicBezTo>
                  <a:cubicBezTo>
                    <a:pt x="1845" y="855"/>
                    <a:pt x="1843" y="851"/>
                    <a:pt x="1851" y="843"/>
                  </a:cubicBezTo>
                  <a:cubicBezTo>
                    <a:pt x="1859" y="836"/>
                    <a:pt x="1875" y="823"/>
                    <a:pt x="1884" y="818"/>
                  </a:cubicBezTo>
                  <a:cubicBezTo>
                    <a:pt x="1894" y="814"/>
                    <a:pt x="1897" y="821"/>
                    <a:pt x="1907" y="818"/>
                  </a:cubicBezTo>
                  <a:cubicBezTo>
                    <a:pt x="1918" y="815"/>
                    <a:pt x="1925" y="801"/>
                    <a:pt x="1936" y="795"/>
                  </a:cubicBezTo>
                  <a:cubicBezTo>
                    <a:pt x="1947" y="789"/>
                    <a:pt x="1969" y="784"/>
                    <a:pt x="1979" y="780"/>
                  </a:cubicBezTo>
                  <a:cubicBezTo>
                    <a:pt x="1990" y="776"/>
                    <a:pt x="2001" y="769"/>
                    <a:pt x="2009" y="763"/>
                  </a:cubicBezTo>
                  <a:cubicBezTo>
                    <a:pt x="2017" y="756"/>
                    <a:pt x="2021" y="750"/>
                    <a:pt x="2029" y="739"/>
                  </a:cubicBezTo>
                  <a:cubicBezTo>
                    <a:pt x="2036" y="729"/>
                    <a:pt x="2035" y="717"/>
                    <a:pt x="2040" y="707"/>
                  </a:cubicBezTo>
                  <a:cubicBezTo>
                    <a:pt x="2045" y="697"/>
                    <a:pt x="2049" y="689"/>
                    <a:pt x="2059" y="680"/>
                  </a:cubicBezTo>
                  <a:cubicBezTo>
                    <a:pt x="2070" y="672"/>
                    <a:pt x="2090" y="664"/>
                    <a:pt x="2101" y="656"/>
                  </a:cubicBezTo>
                  <a:cubicBezTo>
                    <a:pt x="2111" y="647"/>
                    <a:pt x="2117" y="638"/>
                    <a:pt x="2126" y="626"/>
                  </a:cubicBezTo>
                  <a:cubicBezTo>
                    <a:pt x="2134" y="613"/>
                    <a:pt x="2140" y="604"/>
                    <a:pt x="2154" y="582"/>
                  </a:cubicBezTo>
                  <a:cubicBezTo>
                    <a:pt x="2168" y="559"/>
                    <a:pt x="2185" y="521"/>
                    <a:pt x="2199" y="501"/>
                  </a:cubicBezTo>
                  <a:cubicBezTo>
                    <a:pt x="2213" y="481"/>
                    <a:pt x="2221" y="489"/>
                    <a:pt x="2229" y="476"/>
                  </a:cubicBezTo>
                  <a:cubicBezTo>
                    <a:pt x="2237" y="464"/>
                    <a:pt x="2242" y="439"/>
                    <a:pt x="2247" y="425"/>
                  </a:cubicBezTo>
                  <a:cubicBezTo>
                    <a:pt x="2252" y="411"/>
                    <a:pt x="2254" y="402"/>
                    <a:pt x="2255" y="394"/>
                  </a:cubicBezTo>
                  <a:cubicBezTo>
                    <a:pt x="2256" y="385"/>
                    <a:pt x="2262" y="372"/>
                    <a:pt x="2259" y="367"/>
                  </a:cubicBezTo>
                  <a:cubicBezTo>
                    <a:pt x="2255" y="362"/>
                    <a:pt x="2241" y="365"/>
                    <a:pt x="2235" y="366"/>
                  </a:cubicBezTo>
                  <a:cubicBezTo>
                    <a:pt x="2229" y="367"/>
                    <a:pt x="2228" y="373"/>
                    <a:pt x="2222" y="374"/>
                  </a:cubicBezTo>
                  <a:cubicBezTo>
                    <a:pt x="2216" y="374"/>
                    <a:pt x="2203" y="380"/>
                    <a:pt x="2200" y="373"/>
                  </a:cubicBezTo>
                  <a:cubicBezTo>
                    <a:pt x="2198" y="366"/>
                    <a:pt x="2203" y="339"/>
                    <a:pt x="2208" y="332"/>
                  </a:cubicBezTo>
                  <a:cubicBezTo>
                    <a:pt x="2212" y="325"/>
                    <a:pt x="2214" y="342"/>
                    <a:pt x="2226" y="333"/>
                  </a:cubicBezTo>
                  <a:cubicBezTo>
                    <a:pt x="2238" y="323"/>
                    <a:pt x="2275" y="294"/>
                    <a:pt x="2283" y="276"/>
                  </a:cubicBezTo>
                  <a:cubicBezTo>
                    <a:pt x="2291" y="259"/>
                    <a:pt x="2276" y="239"/>
                    <a:pt x="2275" y="226"/>
                  </a:cubicBezTo>
                  <a:cubicBezTo>
                    <a:pt x="2275" y="214"/>
                    <a:pt x="2277" y="209"/>
                    <a:pt x="2280" y="203"/>
                  </a:cubicBezTo>
                  <a:cubicBezTo>
                    <a:pt x="2283" y="196"/>
                    <a:pt x="2272" y="189"/>
                    <a:pt x="2273" y="184"/>
                  </a:cubicBezTo>
                  <a:cubicBezTo>
                    <a:pt x="2275" y="179"/>
                    <a:pt x="2281" y="183"/>
                    <a:pt x="2288" y="178"/>
                  </a:cubicBezTo>
                  <a:cubicBezTo>
                    <a:pt x="2295" y="174"/>
                    <a:pt x="2307" y="159"/>
                    <a:pt x="2314" y="157"/>
                  </a:cubicBezTo>
                  <a:cubicBezTo>
                    <a:pt x="2322" y="155"/>
                    <a:pt x="2329" y="165"/>
                    <a:pt x="2336" y="165"/>
                  </a:cubicBezTo>
                  <a:cubicBezTo>
                    <a:pt x="2343" y="165"/>
                    <a:pt x="2351" y="164"/>
                    <a:pt x="2357" y="156"/>
                  </a:cubicBezTo>
                  <a:cubicBezTo>
                    <a:pt x="2362" y="149"/>
                    <a:pt x="2364" y="131"/>
                    <a:pt x="2367" y="121"/>
                  </a:cubicBezTo>
                  <a:cubicBezTo>
                    <a:pt x="2371" y="111"/>
                    <a:pt x="2375" y="116"/>
                    <a:pt x="2379" y="111"/>
                  </a:cubicBezTo>
                  <a:cubicBezTo>
                    <a:pt x="2382" y="105"/>
                    <a:pt x="2381" y="94"/>
                    <a:pt x="2382" y="87"/>
                  </a:cubicBezTo>
                  <a:cubicBezTo>
                    <a:pt x="2384" y="81"/>
                    <a:pt x="2378" y="75"/>
                    <a:pt x="2379" y="71"/>
                  </a:cubicBezTo>
                  <a:cubicBezTo>
                    <a:pt x="2379" y="66"/>
                    <a:pt x="2388" y="71"/>
                    <a:pt x="2392" y="67"/>
                  </a:cubicBezTo>
                  <a:cubicBezTo>
                    <a:pt x="2397" y="62"/>
                    <a:pt x="2400" y="47"/>
                    <a:pt x="2405" y="46"/>
                  </a:cubicBezTo>
                  <a:cubicBezTo>
                    <a:pt x="2411" y="45"/>
                    <a:pt x="2420" y="59"/>
                    <a:pt x="2427" y="60"/>
                  </a:cubicBezTo>
                  <a:cubicBezTo>
                    <a:pt x="2434" y="61"/>
                    <a:pt x="2441" y="55"/>
                    <a:pt x="2446" y="65"/>
                  </a:cubicBezTo>
                  <a:cubicBezTo>
                    <a:pt x="2450" y="75"/>
                    <a:pt x="2451" y="104"/>
                    <a:pt x="2453" y="121"/>
                  </a:cubicBezTo>
                  <a:cubicBezTo>
                    <a:pt x="2455" y="138"/>
                    <a:pt x="2455" y="158"/>
                    <a:pt x="2459" y="168"/>
                  </a:cubicBezTo>
                  <a:cubicBezTo>
                    <a:pt x="2463" y="177"/>
                    <a:pt x="2471" y="177"/>
                    <a:pt x="2477" y="177"/>
                  </a:cubicBezTo>
                  <a:cubicBezTo>
                    <a:pt x="2482" y="177"/>
                    <a:pt x="2486" y="147"/>
                    <a:pt x="2490" y="141"/>
                  </a:cubicBezTo>
                  <a:cubicBezTo>
                    <a:pt x="2495" y="136"/>
                    <a:pt x="2502" y="138"/>
                    <a:pt x="2506" y="139"/>
                  </a:cubicBezTo>
                  <a:cubicBezTo>
                    <a:pt x="2511" y="140"/>
                    <a:pt x="2512" y="146"/>
                    <a:pt x="2516" y="149"/>
                  </a:cubicBezTo>
                  <a:cubicBezTo>
                    <a:pt x="2519" y="151"/>
                    <a:pt x="2523" y="153"/>
                    <a:pt x="2526" y="156"/>
                  </a:cubicBezTo>
                  <a:cubicBezTo>
                    <a:pt x="2530" y="160"/>
                    <a:pt x="2540" y="171"/>
                    <a:pt x="2546" y="167"/>
                  </a:cubicBezTo>
                  <a:cubicBezTo>
                    <a:pt x="2551" y="163"/>
                    <a:pt x="2555" y="144"/>
                    <a:pt x="2559" y="134"/>
                  </a:cubicBezTo>
                  <a:cubicBezTo>
                    <a:pt x="2564" y="125"/>
                    <a:pt x="2571" y="120"/>
                    <a:pt x="2574" y="114"/>
                  </a:cubicBezTo>
                  <a:cubicBezTo>
                    <a:pt x="2577" y="107"/>
                    <a:pt x="2584" y="94"/>
                    <a:pt x="2576" y="91"/>
                  </a:cubicBezTo>
                  <a:cubicBezTo>
                    <a:pt x="2568" y="88"/>
                    <a:pt x="2541" y="92"/>
                    <a:pt x="2527" y="92"/>
                  </a:cubicBezTo>
                  <a:cubicBezTo>
                    <a:pt x="2514" y="93"/>
                    <a:pt x="2501" y="97"/>
                    <a:pt x="2495" y="95"/>
                  </a:cubicBezTo>
                  <a:cubicBezTo>
                    <a:pt x="2487" y="92"/>
                    <a:pt x="2485" y="84"/>
                    <a:pt x="2484" y="78"/>
                  </a:cubicBezTo>
                  <a:cubicBezTo>
                    <a:pt x="2483" y="73"/>
                    <a:pt x="2484" y="64"/>
                    <a:pt x="2488" y="55"/>
                  </a:cubicBezTo>
                  <a:cubicBezTo>
                    <a:pt x="2492" y="47"/>
                    <a:pt x="2499" y="35"/>
                    <a:pt x="2507" y="27"/>
                  </a:cubicBezTo>
                  <a:cubicBezTo>
                    <a:pt x="2516" y="19"/>
                    <a:pt x="2529" y="0"/>
                    <a:pt x="2539" y="0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Freeform 792"/>
            <p:cNvSpPr/>
            <p:nvPr/>
          </p:nvSpPr>
          <p:spPr>
            <a:xfrm>
              <a:off x="1802880" y="5319360"/>
              <a:ext cx="1225800" cy="707760"/>
            </a:xfrm>
            <a:custGeom>
              <a:avLst/>
              <a:gdLst/>
              <a:ahLst/>
              <a:rect l="l" t="t" r="r" b="b"/>
              <a:pathLst>
                <a:path w="583" h="337">
                  <a:moveTo>
                    <a:pt x="222" y="3"/>
                  </a:moveTo>
                  <a:cubicBezTo>
                    <a:pt x="227" y="0"/>
                    <a:pt x="229" y="2"/>
                    <a:pt x="232" y="5"/>
                  </a:cubicBezTo>
                  <a:cubicBezTo>
                    <a:pt x="234" y="7"/>
                    <a:pt x="233" y="16"/>
                    <a:pt x="236" y="20"/>
                  </a:cubicBezTo>
                  <a:cubicBezTo>
                    <a:pt x="240" y="24"/>
                    <a:pt x="247" y="27"/>
                    <a:pt x="249" y="32"/>
                  </a:cubicBezTo>
                  <a:cubicBezTo>
                    <a:pt x="252" y="37"/>
                    <a:pt x="251" y="47"/>
                    <a:pt x="253" y="52"/>
                  </a:cubicBezTo>
                  <a:cubicBezTo>
                    <a:pt x="254" y="56"/>
                    <a:pt x="253" y="58"/>
                    <a:pt x="258" y="60"/>
                  </a:cubicBezTo>
                  <a:cubicBezTo>
                    <a:pt x="262" y="62"/>
                    <a:pt x="272" y="64"/>
                    <a:pt x="279" y="64"/>
                  </a:cubicBezTo>
                  <a:cubicBezTo>
                    <a:pt x="285" y="64"/>
                    <a:pt x="290" y="60"/>
                    <a:pt x="296" y="59"/>
                  </a:cubicBezTo>
                  <a:cubicBezTo>
                    <a:pt x="302" y="57"/>
                    <a:pt x="309" y="56"/>
                    <a:pt x="316" y="57"/>
                  </a:cubicBezTo>
                  <a:cubicBezTo>
                    <a:pt x="323" y="57"/>
                    <a:pt x="330" y="61"/>
                    <a:pt x="338" y="62"/>
                  </a:cubicBezTo>
                  <a:cubicBezTo>
                    <a:pt x="346" y="63"/>
                    <a:pt x="356" y="67"/>
                    <a:pt x="364" y="63"/>
                  </a:cubicBezTo>
                  <a:cubicBezTo>
                    <a:pt x="371" y="58"/>
                    <a:pt x="379" y="43"/>
                    <a:pt x="382" y="35"/>
                  </a:cubicBezTo>
                  <a:cubicBezTo>
                    <a:pt x="385" y="28"/>
                    <a:pt x="378" y="20"/>
                    <a:pt x="383" y="18"/>
                  </a:cubicBezTo>
                  <a:cubicBezTo>
                    <a:pt x="387" y="16"/>
                    <a:pt x="399" y="23"/>
                    <a:pt x="407" y="23"/>
                  </a:cubicBezTo>
                  <a:cubicBezTo>
                    <a:pt x="415" y="24"/>
                    <a:pt x="424" y="23"/>
                    <a:pt x="431" y="21"/>
                  </a:cubicBezTo>
                  <a:cubicBezTo>
                    <a:pt x="439" y="19"/>
                    <a:pt x="445" y="9"/>
                    <a:pt x="452" y="10"/>
                  </a:cubicBezTo>
                  <a:cubicBezTo>
                    <a:pt x="459" y="11"/>
                    <a:pt x="466" y="22"/>
                    <a:pt x="474" y="25"/>
                  </a:cubicBezTo>
                  <a:cubicBezTo>
                    <a:pt x="482" y="29"/>
                    <a:pt x="492" y="29"/>
                    <a:pt x="499" y="31"/>
                  </a:cubicBezTo>
                  <a:cubicBezTo>
                    <a:pt x="506" y="33"/>
                    <a:pt x="512" y="32"/>
                    <a:pt x="517" y="37"/>
                  </a:cubicBezTo>
                  <a:cubicBezTo>
                    <a:pt x="522" y="41"/>
                    <a:pt x="527" y="51"/>
                    <a:pt x="531" y="57"/>
                  </a:cubicBezTo>
                  <a:cubicBezTo>
                    <a:pt x="536" y="62"/>
                    <a:pt x="538" y="66"/>
                    <a:pt x="543" y="70"/>
                  </a:cubicBezTo>
                  <a:cubicBezTo>
                    <a:pt x="548" y="74"/>
                    <a:pt x="554" y="78"/>
                    <a:pt x="560" y="82"/>
                  </a:cubicBezTo>
                  <a:cubicBezTo>
                    <a:pt x="565" y="85"/>
                    <a:pt x="573" y="85"/>
                    <a:pt x="575" y="90"/>
                  </a:cubicBezTo>
                  <a:cubicBezTo>
                    <a:pt x="578" y="96"/>
                    <a:pt x="575" y="107"/>
                    <a:pt x="574" y="114"/>
                  </a:cubicBezTo>
                  <a:cubicBezTo>
                    <a:pt x="574" y="121"/>
                    <a:pt x="571" y="125"/>
                    <a:pt x="572" y="130"/>
                  </a:cubicBezTo>
                  <a:cubicBezTo>
                    <a:pt x="574" y="135"/>
                    <a:pt x="582" y="139"/>
                    <a:pt x="582" y="147"/>
                  </a:cubicBezTo>
                  <a:cubicBezTo>
                    <a:pt x="583" y="154"/>
                    <a:pt x="578" y="169"/>
                    <a:pt x="575" y="176"/>
                  </a:cubicBezTo>
                  <a:cubicBezTo>
                    <a:pt x="572" y="183"/>
                    <a:pt x="567" y="183"/>
                    <a:pt x="565" y="188"/>
                  </a:cubicBezTo>
                  <a:cubicBezTo>
                    <a:pt x="563" y="192"/>
                    <a:pt x="569" y="196"/>
                    <a:pt x="563" y="201"/>
                  </a:cubicBezTo>
                  <a:cubicBezTo>
                    <a:pt x="558" y="206"/>
                    <a:pt x="546" y="215"/>
                    <a:pt x="534" y="218"/>
                  </a:cubicBezTo>
                  <a:cubicBezTo>
                    <a:pt x="521" y="221"/>
                    <a:pt x="503" y="213"/>
                    <a:pt x="490" y="218"/>
                  </a:cubicBezTo>
                  <a:cubicBezTo>
                    <a:pt x="477" y="223"/>
                    <a:pt x="466" y="236"/>
                    <a:pt x="456" y="246"/>
                  </a:cubicBezTo>
                  <a:cubicBezTo>
                    <a:pt x="447" y="256"/>
                    <a:pt x="438" y="268"/>
                    <a:pt x="433" y="277"/>
                  </a:cubicBezTo>
                  <a:cubicBezTo>
                    <a:pt x="427" y="286"/>
                    <a:pt x="426" y="296"/>
                    <a:pt x="424" y="299"/>
                  </a:cubicBezTo>
                  <a:cubicBezTo>
                    <a:pt x="421" y="303"/>
                    <a:pt x="421" y="302"/>
                    <a:pt x="419" y="298"/>
                  </a:cubicBezTo>
                  <a:cubicBezTo>
                    <a:pt x="417" y="293"/>
                    <a:pt x="418" y="289"/>
                    <a:pt x="415" y="279"/>
                  </a:cubicBezTo>
                  <a:cubicBezTo>
                    <a:pt x="412" y="270"/>
                    <a:pt x="406" y="250"/>
                    <a:pt x="402" y="240"/>
                  </a:cubicBezTo>
                  <a:cubicBezTo>
                    <a:pt x="397" y="229"/>
                    <a:pt x="394" y="222"/>
                    <a:pt x="387" y="216"/>
                  </a:cubicBezTo>
                  <a:cubicBezTo>
                    <a:pt x="380" y="210"/>
                    <a:pt x="366" y="207"/>
                    <a:pt x="360" y="204"/>
                  </a:cubicBezTo>
                  <a:cubicBezTo>
                    <a:pt x="354" y="201"/>
                    <a:pt x="359" y="198"/>
                    <a:pt x="351" y="197"/>
                  </a:cubicBezTo>
                  <a:cubicBezTo>
                    <a:pt x="343" y="196"/>
                    <a:pt x="325" y="197"/>
                    <a:pt x="313" y="199"/>
                  </a:cubicBezTo>
                  <a:cubicBezTo>
                    <a:pt x="300" y="201"/>
                    <a:pt x="287" y="208"/>
                    <a:pt x="274" y="211"/>
                  </a:cubicBezTo>
                  <a:cubicBezTo>
                    <a:pt x="262" y="214"/>
                    <a:pt x="247" y="215"/>
                    <a:pt x="239" y="216"/>
                  </a:cubicBezTo>
                  <a:cubicBezTo>
                    <a:pt x="231" y="217"/>
                    <a:pt x="230" y="214"/>
                    <a:pt x="226" y="219"/>
                  </a:cubicBezTo>
                  <a:cubicBezTo>
                    <a:pt x="222" y="224"/>
                    <a:pt x="222" y="239"/>
                    <a:pt x="215" y="247"/>
                  </a:cubicBezTo>
                  <a:cubicBezTo>
                    <a:pt x="208" y="255"/>
                    <a:pt x="196" y="263"/>
                    <a:pt x="187" y="267"/>
                  </a:cubicBezTo>
                  <a:cubicBezTo>
                    <a:pt x="178" y="272"/>
                    <a:pt x="169" y="270"/>
                    <a:pt x="163" y="274"/>
                  </a:cubicBezTo>
                  <a:cubicBezTo>
                    <a:pt x="157" y="278"/>
                    <a:pt x="154" y="284"/>
                    <a:pt x="152" y="291"/>
                  </a:cubicBezTo>
                  <a:cubicBezTo>
                    <a:pt x="150" y="298"/>
                    <a:pt x="153" y="310"/>
                    <a:pt x="152" y="317"/>
                  </a:cubicBezTo>
                  <a:cubicBezTo>
                    <a:pt x="151" y="324"/>
                    <a:pt x="150" y="331"/>
                    <a:pt x="147" y="334"/>
                  </a:cubicBezTo>
                  <a:cubicBezTo>
                    <a:pt x="144" y="337"/>
                    <a:pt x="138" y="337"/>
                    <a:pt x="133" y="335"/>
                  </a:cubicBezTo>
                  <a:cubicBezTo>
                    <a:pt x="128" y="333"/>
                    <a:pt x="124" y="325"/>
                    <a:pt x="120" y="323"/>
                  </a:cubicBezTo>
                  <a:cubicBezTo>
                    <a:pt x="115" y="320"/>
                    <a:pt x="110" y="319"/>
                    <a:pt x="107" y="320"/>
                  </a:cubicBezTo>
                  <a:cubicBezTo>
                    <a:pt x="103" y="320"/>
                    <a:pt x="102" y="327"/>
                    <a:pt x="100" y="327"/>
                  </a:cubicBezTo>
                  <a:cubicBezTo>
                    <a:pt x="97" y="326"/>
                    <a:pt x="96" y="318"/>
                    <a:pt x="91" y="315"/>
                  </a:cubicBezTo>
                  <a:cubicBezTo>
                    <a:pt x="87" y="311"/>
                    <a:pt x="75" y="310"/>
                    <a:pt x="73" y="305"/>
                  </a:cubicBezTo>
                  <a:cubicBezTo>
                    <a:pt x="71" y="301"/>
                    <a:pt x="74" y="292"/>
                    <a:pt x="78" y="287"/>
                  </a:cubicBezTo>
                  <a:cubicBezTo>
                    <a:pt x="82" y="283"/>
                    <a:pt x="93" y="283"/>
                    <a:pt x="97" y="280"/>
                  </a:cubicBezTo>
                  <a:cubicBezTo>
                    <a:pt x="100" y="277"/>
                    <a:pt x="105" y="271"/>
                    <a:pt x="101" y="268"/>
                  </a:cubicBezTo>
                  <a:cubicBezTo>
                    <a:pt x="97" y="266"/>
                    <a:pt x="81" y="267"/>
                    <a:pt x="72" y="267"/>
                  </a:cubicBezTo>
                  <a:cubicBezTo>
                    <a:pt x="63" y="268"/>
                    <a:pt x="53" y="271"/>
                    <a:pt x="47" y="270"/>
                  </a:cubicBezTo>
                  <a:cubicBezTo>
                    <a:pt x="41" y="269"/>
                    <a:pt x="38" y="265"/>
                    <a:pt x="37" y="262"/>
                  </a:cubicBezTo>
                  <a:cubicBezTo>
                    <a:pt x="37" y="259"/>
                    <a:pt x="41" y="255"/>
                    <a:pt x="43" y="251"/>
                  </a:cubicBezTo>
                  <a:cubicBezTo>
                    <a:pt x="45" y="246"/>
                    <a:pt x="50" y="242"/>
                    <a:pt x="49" y="239"/>
                  </a:cubicBezTo>
                  <a:cubicBezTo>
                    <a:pt x="47" y="235"/>
                    <a:pt x="37" y="233"/>
                    <a:pt x="35" y="229"/>
                  </a:cubicBezTo>
                  <a:cubicBezTo>
                    <a:pt x="34" y="226"/>
                    <a:pt x="36" y="220"/>
                    <a:pt x="40" y="217"/>
                  </a:cubicBezTo>
                  <a:cubicBezTo>
                    <a:pt x="44" y="214"/>
                    <a:pt x="56" y="214"/>
                    <a:pt x="59" y="211"/>
                  </a:cubicBezTo>
                  <a:cubicBezTo>
                    <a:pt x="63" y="208"/>
                    <a:pt x="63" y="203"/>
                    <a:pt x="61" y="199"/>
                  </a:cubicBezTo>
                  <a:cubicBezTo>
                    <a:pt x="59" y="196"/>
                    <a:pt x="47" y="189"/>
                    <a:pt x="49" y="189"/>
                  </a:cubicBezTo>
                  <a:cubicBezTo>
                    <a:pt x="50" y="188"/>
                    <a:pt x="68" y="197"/>
                    <a:pt x="72" y="196"/>
                  </a:cubicBezTo>
                  <a:cubicBezTo>
                    <a:pt x="76" y="195"/>
                    <a:pt x="73" y="189"/>
                    <a:pt x="74" y="185"/>
                  </a:cubicBezTo>
                  <a:cubicBezTo>
                    <a:pt x="74" y="181"/>
                    <a:pt x="78" y="177"/>
                    <a:pt x="78" y="172"/>
                  </a:cubicBezTo>
                  <a:cubicBezTo>
                    <a:pt x="77" y="168"/>
                    <a:pt x="72" y="163"/>
                    <a:pt x="69" y="159"/>
                  </a:cubicBezTo>
                  <a:cubicBezTo>
                    <a:pt x="66" y="155"/>
                    <a:pt x="59" y="152"/>
                    <a:pt x="58" y="146"/>
                  </a:cubicBezTo>
                  <a:cubicBezTo>
                    <a:pt x="57" y="140"/>
                    <a:pt x="61" y="130"/>
                    <a:pt x="60" y="125"/>
                  </a:cubicBezTo>
                  <a:cubicBezTo>
                    <a:pt x="60" y="120"/>
                    <a:pt x="60" y="118"/>
                    <a:pt x="56" y="116"/>
                  </a:cubicBezTo>
                  <a:cubicBezTo>
                    <a:pt x="51" y="115"/>
                    <a:pt x="43" y="116"/>
                    <a:pt x="35" y="116"/>
                  </a:cubicBezTo>
                  <a:cubicBezTo>
                    <a:pt x="26" y="117"/>
                    <a:pt x="19" y="119"/>
                    <a:pt x="15" y="119"/>
                  </a:cubicBezTo>
                  <a:cubicBezTo>
                    <a:pt x="10" y="119"/>
                    <a:pt x="0" y="118"/>
                    <a:pt x="7" y="116"/>
                  </a:cubicBezTo>
                  <a:cubicBezTo>
                    <a:pt x="14" y="115"/>
                    <a:pt x="39" y="111"/>
                    <a:pt x="49" y="109"/>
                  </a:cubicBezTo>
                  <a:cubicBezTo>
                    <a:pt x="58" y="107"/>
                    <a:pt x="68" y="104"/>
                    <a:pt x="76" y="101"/>
                  </a:cubicBezTo>
                  <a:cubicBezTo>
                    <a:pt x="84" y="99"/>
                    <a:pt x="97" y="94"/>
                    <a:pt x="103" y="91"/>
                  </a:cubicBezTo>
                  <a:cubicBezTo>
                    <a:pt x="110" y="88"/>
                    <a:pt x="111" y="85"/>
                    <a:pt x="116" y="84"/>
                  </a:cubicBezTo>
                  <a:cubicBezTo>
                    <a:pt x="121" y="82"/>
                    <a:pt x="128" y="83"/>
                    <a:pt x="134" y="81"/>
                  </a:cubicBezTo>
                  <a:cubicBezTo>
                    <a:pt x="140" y="79"/>
                    <a:pt x="149" y="77"/>
                    <a:pt x="153" y="71"/>
                  </a:cubicBezTo>
                  <a:cubicBezTo>
                    <a:pt x="158" y="66"/>
                    <a:pt x="158" y="53"/>
                    <a:pt x="160" y="47"/>
                  </a:cubicBezTo>
                  <a:cubicBezTo>
                    <a:pt x="163" y="42"/>
                    <a:pt x="163" y="40"/>
                    <a:pt x="167" y="37"/>
                  </a:cubicBezTo>
                  <a:cubicBezTo>
                    <a:pt x="172" y="33"/>
                    <a:pt x="182" y="29"/>
                    <a:pt x="188" y="27"/>
                  </a:cubicBezTo>
                  <a:cubicBezTo>
                    <a:pt x="194" y="24"/>
                    <a:pt x="199" y="26"/>
                    <a:pt x="204" y="22"/>
                  </a:cubicBezTo>
                  <a:cubicBezTo>
                    <a:pt x="210" y="18"/>
                    <a:pt x="218" y="6"/>
                    <a:pt x="222" y="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Freeform 793"/>
            <p:cNvSpPr/>
            <p:nvPr/>
          </p:nvSpPr>
          <p:spPr>
            <a:xfrm>
              <a:off x="3068640" y="5374080"/>
              <a:ext cx="144720" cy="182160"/>
            </a:xfrm>
            <a:custGeom>
              <a:avLst/>
              <a:gdLst/>
              <a:ahLst/>
              <a:rect l="l" t="t" r="r" b="b"/>
              <a:pathLst>
                <a:path w="69" h="87">
                  <a:moveTo>
                    <a:pt x="4" y="42"/>
                  </a:moveTo>
                  <a:cubicBezTo>
                    <a:pt x="8" y="34"/>
                    <a:pt x="22" y="35"/>
                    <a:pt x="27" y="31"/>
                  </a:cubicBezTo>
                  <a:cubicBezTo>
                    <a:pt x="33" y="28"/>
                    <a:pt x="35" y="22"/>
                    <a:pt x="40" y="17"/>
                  </a:cubicBezTo>
                  <a:cubicBezTo>
                    <a:pt x="44" y="12"/>
                    <a:pt x="50" y="6"/>
                    <a:pt x="54" y="3"/>
                  </a:cubicBezTo>
                  <a:cubicBezTo>
                    <a:pt x="57" y="1"/>
                    <a:pt x="60" y="0"/>
                    <a:pt x="63" y="1"/>
                  </a:cubicBezTo>
                  <a:cubicBezTo>
                    <a:pt x="65" y="2"/>
                    <a:pt x="68" y="4"/>
                    <a:pt x="68" y="7"/>
                  </a:cubicBezTo>
                  <a:cubicBezTo>
                    <a:pt x="69" y="11"/>
                    <a:pt x="67" y="15"/>
                    <a:pt x="64" y="20"/>
                  </a:cubicBezTo>
                  <a:cubicBezTo>
                    <a:pt x="62" y="24"/>
                    <a:pt x="55" y="30"/>
                    <a:pt x="54" y="35"/>
                  </a:cubicBezTo>
                  <a:cubicBezTo>
                    <a:pt x="52" y="40"/>
                    <a:pt x="57" y="43"/>
                    <a:pt x="55" y="49"/>
                  </a:cubicBezTo>
                  <a:cubicBezTo>
                    <a:pt x="53" y="54"/>
                    <a:pt x="44" y="63"/>
                    <a:pt x="41" y="68"/>
                  </a:cubicBezTo>
                  <a:cubicBezTo>
                    <a:pt x="38" y="73"/>
                    <a:pt x="41" y="75"/>
                    <a:pt x="34" y="77"/>
                  </a:cubicBezTo>
                  <a:cubicBezTo>
                    <a:pt x="28" y="79"/>
                    <a:pt x="10" y="87"/>
                    <a:pt x="5" y="81"/>
                  </a:cubicBezTo>
                  <a:cubicBezTo>
                    <a:pt x="0" y="75"/>
                    <a:pt x="0" y="50"/>
                    <a:pt x="4" y="42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Freeform 794"/>
            <p:cNvSpPr/>
            <p:nvPr/>
          </p:nvSpPr>
          <p:spPr>
            <a:xfrm>
              <a:off x="2894040" y="5298120"/>
              <a:ext cx="62640" cy="547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" y="0"/>
                  </a:moveTo>
                  <a:cubicBezTo>
                    <a:pt x="4" y="0"/>
                    <a:pt x="14" y="7"/>
                    <a:pt x="18" y="7"/>
                  </a:cubicBezTo>
                  <a:cubicBezTo>
                    <a:pt x="23" y="8"/>
                    <a:pt x="26" y="2"/>
                    <a:pt x="28" y="4"/>
                  </a:cubicBezTo>
                  <a:cubicBezTo>
                    <a:pt x="29" y="6"/>
                    <a:pt x="30" y="15"/>
                    <a:pt x="28" y="18"/>
                  </a:cubicBezTo>
                  <a:cubicBezTo>
                    <a:pt x="27" y="22"/>
                    <a:pt x="21" y="26"/>
                    <a:pt x="17" y="26"/>
                  </a:cubicBezTo>
                  <a:cubicBezTo>
                    <a:pt x="14" y="25"/>
                    <a:pt x="9" y="19"/>
                    <a:pt x="7" y="16"/>
                  </a:cubicBezTo>
                  <a:cubicBezTo>
                    <a:pt x="6" y="13"/>
                    <a:pt x="9" y="10"/>
                    <a:pt x="8" y="8"/>
                  </a:cubicBezTo>
                  <a:cubicBezTo>
                    <a:pt x="7" y="5"/>
                    <a:pt x="0" y="0"/>
                    <a:pt x="2" y="0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Freeform 795"/>
            <p:cNvSpPr/>
            <p:nvPr/>
          </p:nvSpPr>
          <p:spPr>
            <a:xfrm>
              <a:off x="684360" y="5086080"/>
              <a:ext cx="1038240" cy="1420200"/>
            </a:xfrm>
            <a:custGeom>
              <a:avLst/>
              <a:gdLst/>
              <a:ahLst/>
              <a:rect l="l" t="t" r="r" b="b"/>
              <a:pathLst>
                <a:path w="494" h="676">
                  <a:moveTo>
                    <a:pt x="350" y="63"/>
                  </a:moveTo>
                  <a:cubicBezTo>
                    <a:pt x="349" y="55"/>
                    <a:pt x="350" y="52"/>
                    <a:pt x="351" y="47"/>
                  </a:cubicBezTo>
                  <a:cubicBezTo>
                    <a:pt x="353" y="42"/>
                    <a:pt x="358" y="36"/>
                    <a:pt x="358" y="32"/>
                  </a:cubicBezTo>
                  <a:cubicBezTo>
                    <a:pt x="359" y="29"/>
                    <a:pt x="358" y="28"/>
                    <a:pt x="354" y="25"/>
                  </a:cubicBezTo>
                  <a:cubicBezTo>
                    <a:pt x="349" y="23"/>
                    <a:pt x="339" y="20"/>
                    <a:pt x="333" y="17"/>
                  </a:cubicBezTo>
                  <a:cubicBezTo>
                    <a:pt x="328" y="14"/>
                    <a:pt x="324" y="12"/>
                    <a:pt x="320" y="10"/>
                  </a:cubicBezTo>
                  <a:cubicBezTo>
                    <a:pt x="316" y="7"/>
                    <a:pt x="313" y="3"/>
                    <a:pt x="310" y="2"/>
                  </a:cubicBezTo>
                  <a:cubicBezTo>
                    <a:pt x="307" y="0"/>
                    <a:pt x="306" y="0"/>
                    <a:pt x="303" y="2"/>
                  </a:cubicBezTo>
                  <a:cubicBezTo>
                    <a:pt x="299" y="3"/>
                    <a:pt x="294" y="7"/>
                    <a:pt x="289" y="9"/>
                  </a:cubicBezTo>
                  <a:cubicBezTo>
                    <a:pt x="285" y="11"/>
                    <a:pt x="281" y="13"/>
                    <a:pt x="276" y="15"/>
                  </a:cubicBezTo>
                  <a:cubicBezTo>
                    <a:pt x="271" y="16"/>
                    <a:pt x="264" y="15"/>
                    <a:pt x="260" y="17"/>
                  </a:cubicBezTo>
                  <a:cubicBezTo>
                    <a:pt x="256" y="19"/>
                    <a:pt x="257" y="26"/>
                    <a:pt x="254" y="28"/>
                  </a:cubicBezTo>
                  <a:cubicBezTo>
                    <a:pt x="251" y="29"/>
                    <a:pt x="247" y="25"/>
                    <a:pt x="243" y="27"/>
                  </a:cubicBezTo>
                  <a:cubicBezTo>
                    <a:pt x="239" y="28"/>
                    <a:pt x="233" y="33"/>
                    <a:pt x="228" y="35"/>
                  </a:cubicBezTo>
                  <a:cubicBezTo>
                    <a:pt x="222" y="36"/>
                    <a:pt x="214" y="36"/>
                    <a:pt x="210" y="35"/>
                  </a:cubicBezTo>
                  <a:cubicBezTo>
                    <a:pt x="206" y="33"/>
                    <a:pt x="204" y="29"/>
                    <a:pt x="202" y="25"/>
                  </a:cubicBezTo>
                  <a:cubicBezTo>
                    <a:pt x="199" y="22"/>
                    <a:pt x="201" y="15"/>
                    <a:pt x="197" y="13"/>
                  </a:cubicBezTo>
                  <a:cubicBezTo>
                    <a:pt x="192" y="12"/>
                    <a:pt x="181" y="14"/>
                    <a:pt x="175" y="16"/>
                  </a:cubicBezTo>
                  <a:cubicBezTo>
                    <a:pt x="170" y="17"/>
                    <a:pt x="165" y="19"/>
                    <a:pt x="162" y="22"/>
                  </a:cubicBezTo>
                  <a:cubicBezTo>
                    <a:pt x="160" y="24"/>
                    <a:pt x="160" y="27"/>
                    <a:pt x="161" y="31"/>
                  </a:cubicBezTo>
                  <a:cubicBezTo>
                    <a:pt x="162" y="35"/>
                    <a:pt x="168" y="41"/>
                    <a:pt x="166" y="46"/>
                  </a:cubicBezTo>
                  <a:cubicBezTo>
                    <a:pt x="165" y="50"/>
                    <a:pt x="159" y="55"/>
                    <a:pt x="153" y="57"/>
                  </a:cubicBezTo>
                  <a:cubicBezTo>
                    <a:pt x="147" y="58"/>
                    <a:pt x="135" y="57"/>
                    <a:pt x="129" y="54"/>
                  </a:cubicBezTo>
                  <a:cubicBezTo>
                    <a:pt x="123" y="51"/>
                    <a:pt x="114" y="41"/>
                    <a:pt x="114" y="41"/>
                  </a:cubicBezTo>
                  <a:cubicBezTo>
                    <a:pt x="110" y="38"/>
                    <a:pt x="110" y="36"/>
                    <a:pt x="106" y="35"/>
                  </a:cubicBezTo>
                  <a:cubicBezTo>
                    <a:pt x="103" y="34"/>
                    <a:pt x="98" y="35"/>
                    <a:pt x="95" y="35"/>
                  </a:cubicBezTo>
                  <a:cubicBezTo>
                    <a:pt x="91" y="35"/>
                    <a:pt x="87" y="34"/>
                    <a:pt x="85" y="36"/>
                  </a:cubicBezTo>
                  <a:cubicBezTo>
                    <a:pt x="84" y="38"/>
                    <a:pt x="85" y="49"/>
                    <a:pt x="85" y="49"/>
                  </a:cubicBezTo>
                  <a:cubicBezTo>
                    <a:pt x="85" y="53"/>
                    <a:pt x="86" y="58"/>
                    <a:pt x="85" y="61"/>
                  </a:cubicBezTo>
                  <a:cubicBezTo>
                    <a:pt x="84" y="64"/>
                    <a:pt x="83" y="65"/>
                    <a:pt x="81" y="67"/>
                  </a:cubicBezTo>
                  <a:cubicBezTo>
                    <a:pt x="80" y="69"/>
                    <a:pt x="79" y="74"/>
                    <a:pt x="78" y="75"/>
                  </a:cubicBezTo>
                  <a:cubicBezTo>
                    <a:pt x="77" y="77"/>
                    <a:pt x="78" y="78"/>
                    <a:pt x="77" y="78"/>
                  </a:cubicBezTo>
                  <a:cubicBezTo>
                    <a:pt x="76" y="77"/>
                    <a:pt x="73" y="73"/>
                    <a:pt x="72" y="70"/>
                  </a:cubicBezTo>
                  <a:cubicBezTo>
                    <a:pt x="71" y="68"/>
                    <a:pt x="71" y="67"/>
                    <a:pt x="68" y="65"/>
                  </a:cubicBezTo>
                  <a:cubicBezTo>
                    <a:pt x="66" y="62"/>
                    <a:pt x="60" y="59"/>
                    <a:pt x="59" y="55"/>
                  </a:cubicBezTo>
                  <a:cubicBezTo>
                    <a:pt x="57" y="51"/>
                    <a:pt x="61" y="43"/>
                    <a:pt x="59" y="42"/>
                  </a:cubicBezTo>
                  <a:cubicBezTo>
                    <a:pt x="57" y="41"/>
                    <a:pt x="49" y="47"/>
                    <a:pt x="45" y="48"/>
                  </a:cubicBezTo>
                  <a:cubicBezTo>
                    <a:pt x="40" y="49"/>
                    <a:pt x="33" y="48"/>
                    <a:pt x="30" y="50"/>
                  </a:cubicBezTo>
                  <a:cubicBezTo>
                    <a:pt x="28" y="52"/>
                    <a:pt x="32" y="57"/>
                    <a:pt x="29" y="60"/>
                  </a:cubicBezTo>
                  <a:cubicBezTo>
                    <a:pt x="26" y="63"/>
                    <a:pt x="14" y="64"/>
                    <a:pt x="11" y="68"/>
                  </a:cubicBezTo>
                  <a:cubicBezTo>
                    <a:pt x="8" y="72"/>
                    <a:pt x="11" y="85"/>
                    <a:pt x="11" y="85"/>
                  </a:cubicBezTo>
                  <a:cubicBezTo>
                    <a:pt x="11" y="90"/>
                    <a:pt x="9" y="95"/>
                    <a:pt x="11" y="98"/>
                  </a:cubicBezTo>
                  <a:cubicBezTo>
                    <a:pt x="13" y="101"/>
                    <a:pt x="21" y="101"/>
                    <a:pt x="25" y="104"/>
                  </a:cubicBezTo>
                  <a:cubicBezTo>
                    <a:pt x="28" y="107"/>
                    <a:pt x="32" y="114"/>
                    <a:pt x="35" y="117"/>
                  </a:cubicBezTo>
                  <a:cubicBezTo>
                    <a:pt x="39" y="120"/>
                    <a:pt x="42" y="120"/>
                    <a:pt x="46" y="123"/>
                  </a:cubicBezTo>
                  <a:cubicBezTo>
                    <a:pt x="49" y="126"/>
                    <a:pt x="54" y="132"/>
                    <a:pt x="57" y="135"/>
                  </a:cubicBezTo>
                  <a:cubicBezTo>
                    <a:pt x="60" y="137"/>
                    <a:pt x="60" y="135"/>
                    <a:pt x="64" y="137"/>
                  </a:cubicBezTo>
                  <a:cubicBezTo>
                    <a:pt x="67" y="139"/>
                    <a:pt x="73" y="140"/>
                    <a:pt x="76" y="145"/>
                  </a:cubicBezTo>
                  <a:cubicBezTo>
                    <a:pt x="78" y="150"/>
                    <a:pt x="80" y="162"/>
                    <a:pt x="79" y="167"/>
                  </a:cubicBezTo>
                  <a:cubicBezTo>
                    <a:pt x="78" y="172"/>
                    <a:pt x="73" y="172"/>
                    <a:pt x="70" y="176"/>
                  </a:cubicBezTo>
                  <a:cubicBezTo>
                    <a:pt x="67" y="180"/>
                    <a:pt x="64" y="188"/>
                    <a:pt x="61" y="191"/>
                  </a:cubicBezTo>
                  <a:cubicBezTo>
                    <a:pt x="59" y="193"/>
                    <a:pt x="57" y="193"/>
                    <a:pt x="54" y="191"/>
                  </a:cubicBezTo>
                  <a:cubicBezTo>
                    <a:pt x="52" y="188"/>
                    <a:pt x="48" y="181"/>
                    <a:pt x="47" y="176"/>
                  </a:cubicBezTo>
                  <a:cubicBezTo>
                    <a:pt x="46" y="172"/>
                    <a:pt x="48" y="169"/>
                    <a:pt x="47" y="164"/>
                  </a:cubicBezTo>
                  <a:cubicBezTo>
                    <a:pt x="46" y="160"/>
                    <a:pt x="45" y="154"/>
                    <a:pt x="42" y="150"/>
                  </a:cubicBezTo>
                  <a:cubicBezTo>
                    <a:pt x="40" y="146"/>
                    <a:pt x="33" y="144"/>
                    <a:pt x="30" y="141"/>
                  </a:cubicBezTo>
                  <a:cubicBezTo>
                    <a:pt x="28" y="137"/>
                    <a:pt x="27" y="131"/>
                    <a:pt x="26" y="128"/>
                  </a:cubicBezTo>
                  <a:cubicBezTo>
                    <a:pt x="25" y="124"/>
                    <a:pt x="26" y="118"/>
                    <a:pt x="25" y="119"/>
                  </a:cubicBezTo>
                  <a:cubicBezTo>
                    <a:pt x="23" y="120"/>
                    <a:pt x="21" y="129"/>
                    <a:pt x="18" y="135"/>
                  </a:cubicBezTo>
                  <a:cubicBezTo>
                    <a:pt x="17" y="140"/>
                    <a:pt x="14" y="147"/>
                    <a:pt x="13" y="151"/>
                  </a:cubicBezTo>
                  <a:cubicBezTo>
                    <a:pt x="11" y="156"/>
                    <a:pt x="8" y="159"/>
                    <a:pt x="8" y="163"/>
                  </a:cubicBezTo>
                  <a:cubicBezTo>
                    <a:pt x="7" y="168"/>
                    <a:pt x="10" y="174"/>
                    <a:pt x="10" y="179"/>
                  </a:cubicBezTo>
                  <a:cubicBezTo>
                    <a:pt x="11" y="183"/>
                    <a:pt x="9" y="185"/>
                    <a:pt x="11" y="191"/>
                  </a:cubicBezTo>
                  <a:cubicBezTo>
                    <a:pt x="13" y="196"/>
                    <a:pt x="19" y="206"/>
                    <a:pt x="22" y="211"/>
                  </a:cubicBezTo>
                  <a:cubicBezTo>
                    <a:pt x="25" y="215"/>
                    <a:pt x="28" y="214"/>
                    <a:pt x="29" y="218"/>
                  </a:cubicBezTo>
                  <a:cubicBezTo>
                    <a:pt x="31" y="222"/>
                    <a:pt x="31" y="230"/>
                    <a:pt x="30" y="234"/>
                  </a:cubicBezTo>
                  <a:cubicBezTo>
                    <a:pt x="30" y="239"/>
                    <a:pt x="26" y="243"/>
                    <a:pt x="25" y="246"/>
                  </a:cubicBezTo>
                  <a:cubicBezTo>
                    <a:pt x="23" y="250"/>
                    <a:pt x="21" y="253"/>
                    <a:pt x="20" y="257"/>
                  </a:cubicBezTo>
                  <a:cubicBezTo>
                    <a:pt x="19" y="261"/>
                    <a:pt x="20" y="268"/>
                    <a:pt x="20" y="268"/>
                  </a:cubicBezTo>
                  <a:cubicBezTo>
                    <a:pt x="20" y="271"/>
                    <a:pt x="18" y="275"/>
                    <a:pt x="20" y="275"/>
                  </a:cubicBezTo>
                  <a:cubicBezTo>
                    <a:pt x="21" y="275"/>
                    <a:pt x="27" y="272"/>
                    <a:pt x="29" y="269"/>
                  </a:cubicBezTo>
                  <a:cubicBezTo>
                    <a:pt x="32" y="266"/>
                    <a:pt x="32" y="259"/>
                    <a:pt x="34" y="255"/>
                  </a:cubicBezTo>
                  <a:cubicBezTo>
                    <a:pt x="36" y="251"/>
                    <a:pt x="37" y="249"/>
                    <a:pt x="41" y="245"/>
                  </a:cubicBezTo>
                  <a:cubicBezTo>
                    <a:pt x="45" y="242"/>
                    <a:pt x="54" y="236"/>
                    <a:pt x="59" y="233"/>
                  </a:cubicBezTo>
                  <a:cubicBezTo>
                    <a:pt x="64" y="231"/>
                    <a:pt x="66" y="230"/>
                    <a:pt x="71" y="229"/>
                  </a:cubicBezTo>
                  <a:cubicBezTo>
                    <a:pt x="75" y="227"/>
                    <a:pt x="81" y="227"/>
                    <a:pt x="85" y="226"/>
                  </a:cubicBezTo>
                  <a:cubicBezTo>
                    <a:pt x="89" y="226"/>
                    <a:pt x="90" y="225"/>
                    <a:pt x="92" y="226"/>
                  </a:cubicBezTo>
                  <a:cubicBezTo>
                    <a:pt x="94" y="228"/>
                    <a:pt x="95" y="231"/>
                    <a:pt x="96" y="234"/>
                  </a:cubicBezTo>
                  <a:cubicBezTo>
                    <a:pt x="96" y="238"/>
                    <a:pt x="96" y="245"/>
                    <a:pt x="96" y="250"/>
                  </a:cubicBezTo>
                  <a:cubicBezTo>
                    <a:pt x="96" y="255"/>
                    <a:pt x="96" y="260"/>
                    <a:pt x="97" y="264"/>
                  </a:cubicBezTo>
                  <a:cubicBezTo>
                    <a:pt x="98" y="268"/>
                    <a:pt x="96" y="272"/>
                    <a:pt x="99" y="274"/>
                  </a:cubicBezTo>
                  <a:cubicBezTo>
                    <a:pt x="103" y="276"/>
                    <a:pt x="112" y="276"/>
                    <a:pt x="118" y="275"/>
                  </a:cubicBezTo>
                  <a:cubicBezTo>
                    <a:pt x="124" y="274"/>
                    <a:pt x="132" y="272"/>
                    <a:pt x="136" y="268"/>
                  </a:cubicBezTo>
                  <a:cubicBezTo>
                    <a:pt x="140" y="264"/>
                    <a:pt x="139" y="257"/>
                    <a:pt x="141" y="252"/>
                  </a:cubicBezTo>
                  <a:cubicBezTo>
                    <a:pt x="143" y="248"/>
                    <a:pt x="146" y="245"/>
                    <a:pt x="148" y="241"/>
                  </a:cubicBezTo>
                  <a:cubicBezTo>
                    <a:pt x="150" y="236"/>
                    <a:pt x="153" y="230"/>
                    <a:pt x="152" y="225"/>
                  </a:cubicBezTo>
                  <a:cubicBezTo>
                    <a:pt x="151" y="220"/>
                    <a:pt x="146" y="214"/>
                    <a:pt x="142" y="211"/>
                  </a:cubicBezTo>
                  <a:cubicBezTo>
                    <a:pt x="139" y="207"/>
                    <a:pt x="134" y="205"/>
                    <a:pt x="130" y="204"/>
                  </a:cubicBezTo>
                  <a:cubicBezTo>
                    <a:pt x="127" y="202"/>
                    <a:pt x="123" y="204"/>
                    <a:pt x="122" y="201"/>
                  </a:cubicBezTo>
                  <a:cubicBezTo>
                    <a:pt x="120" y="198"/>
                    <a:pt x="121" y="192"/>
                    <a:pt x="122" y="186"/>
                  </a:cubicBezTo>
                  <a:cubicBezTo>
                    <a:pt x="123" y="180"/>
                    <a:pt x="124" y="171"/>
                    <a:pt x="125" y="166"/>
                  </a:cubicBezTo>
                  <a:cubicBezTo>
                    <a:pt x="127" y="160"/>
                    <a:pt x="127" y="154"/>
                    <a:pt x="130" y="151"/>
                  </a:cubicBezTo>
                  <a:cubicBezTo>
                    <a:pt x="134" y="148"/>
                    <a:pt x="142" y="151"/>
                    <a:pt x="146" y="149"/>
                  </a:cubicBezTo>
                  <a:cubicBezTo>
                    <a:pt x="149" y="147"/>
                    <a:pt x="149" y="143"/>
                    <a:pt x="153" y="142"/>
                  </a:cubicBezTo>
                  <a:cubicBezTo>
                    <a:pt x="156" y="141"/>
                    <a:pt x="164" y="140"/>
                    <a:pt x="167" y="143"/>
                  </a:cubicBezTo>
                  <a:cubicBezTo>
                    <a:pt x="170" y="146"/>
                    <a:pt x="171" y="152"/>
                    <a:pt x="173" y="157"/>
                  </a:cubicBezTo>
                  <a:cubicBezTo>
                    <a:pt x="175" y="163"/>
                    <a:pt x="180" y="170"/>
                    <a:pt x="181" y="175"/>
                  </a:cubicBezTo>
                  <a:cubicBezTo>
                    <a:pt x="182" y="180"/>
                    <a:pt x="181" y="185"/>
                    <a:pt x="180" y="188"/>
                  </a:cubicBezTo>
                  <a:cubicBezTo>
                    <a:pt x="179" y="191"/>
                    <a:pt x="175" y="190"/>
                    <a:pt x="175" y="193"/>
                  </a:cubicBezTo>
                  <a:cubicBezTo>
                    <a:pt x="176" y="196"/>
                    <a:pt x="179" y="203"/>
                    <a:pt x="181" y="208"/>
                  </a:cubicBezTo>
                  <a:cubicBezTo>
                    <a:pt x="184" y="214"/>
                    <a:pt x="189" y="222"/>
                    <a:pt x="191" y="226"/>
                  </a:cubicBezTo>
                  <a:cubicBezTo>
                    <a:pt x="193" y="230"/>
                    <a:pt x="194" y="229"/>
                    <a:pt x="194" y="233"/>
                  </a:cubicBezTo>
                  <a:cubicBezTo>
                    <a:pt x="195" y="237"/>
                    <a:pt x="195" y="246"/>
                    <a:pt x="194" y="250"/>
                  </a:cubicBezTo>
                  <a:cubicBezTo>
                    <a:pt x="194" y="254"/>
                    <a:pt x="192" y="255"/>
                    <a:pt x="191" y="258"/>
                  </a:cubicBezTo>
                  <a:cubicBezTo>
                    <a:pt x="189" y="261"/>
                    <a:pt x="186" y="265"/>
                    <a:pt x="186" y="268"/>
                  </a:cubicBezTo>
                  <a:cubicBezTo>
                    <a:pt x="186" y="271"/>
                    <a:pt x="190" y="273"/>
                    <a:pt x="188" y="276"/>
                  </a:cubicBezTo>
                  <a:cubicBezTo>
                    <a:pt x="186" y="280"/>
                    <a:pt x="178" y="285"/>
                    <a:pt x="174" y="289"/>
                  </a:cubicBezTo>
                  <a:cubicBezTo>
                    <a:pt x="170" y="293"/>
                    <a:pt x="166" y="298"/>
                    <a:pt x="162" y="301"/>
                  </a:cubicBezTo>
                  <a:cubicBezTo>
                    <a:pt x="159" y="305"/>
                    <a:pt x="157" y="307"/>
                    <a:pt x="154" y="311"/>
                  </a:cubicBezTo>
                  <a:cubicBezTo>
                    <a:pt x="151" y="315"/>
                    <a:pt x="149" y="321"/>
                    <a:pt x="147" y="326"/>
                  </a:cubicBezTo>
                  <a:cubicBezTo>
                    <a:pt x="145" y="331"/>
                    <a:pt x="144" y="338"/>
                    <a:pt x="143" y="343"/>
                  </a:cubicBezTo>
                  <a:cubicBezTo>
                    <a:pt x="143" y="347"/>
                    <a:pt x="144" y="350"/>
                    <a:pt x="142" y="352"/>
                  </a:cubicBezTo>
                  <a:cubicBezTo>
                    <a:pt x="140" y="355"/>
                    <a:pt x="135" y="358"/>
                    <a:pt x="131" y="359"/>
                  </a:cubicBezTo>
                  <a:cubicBezTo>
                    <a:pt x="127" y="361"/>
                    <a:pt x="123" y="358"/>
                    <a:pt x="118" y="361"/>
                  </a:cubicBezTo>
                  <a:cubicBezTo>
                    <a:pt x="114" y="363"/>
                    <a:pt x="111" y="373"/>
                    <a:pt x="106" y="376"/>
                  </a:cubicBezTo>
                  <a:cubicBezTo>
                    <a:pt x="102" y="379"/>
                    <a:pt x="95" y="375"/>
                    <a:pt x="91" y="377"/>
                  </a:cubicBezTo>
                  <a:cubicBezTo>
                    <a:pt x="87" y="379"/>
                    <a:pt x="85" y="385"/>
                    <a:pt x="81" y="387"/>
                  </a:cubicBezTo>
                  <a:cubicBezTo>
                    <a:pt x="78" y="388"/>
                    <a:pt x="74" y="385"/>
                    <a:pt x="71" y="387"/>
                  </a:cubicBezTo>
                  <a:cubicBezTo>
                    <a:pt x="68" y="388"/>
                    <a:pt x="65" y="389"/>
                    <a:pt x="64" y="394"/>
                  </a:cubicBezTo>
                  <a:cubicBezTo>
                    <a:pt x="62" y="399"/>
                    <a:pt x="63" y="409"/>
                    <a:pt x="61" y="417"/>
                  </a:cubicBezTo>
                  <a:cubicBezTo>
                    <a:pt x="60" y="423"/>
                    <a:pt x="54" y="436"/>
                    <a:pt x="54" y="436"/>
                  </a:cubicBezTo>
                  <a:cubicBezTo>
                    <a:pt x="52" y="442"/>
                    <a:pt x="50" y="450"/>
                    <a:pt x="47" y="455"/>
                  </a:cubicBezTo>
                  <a:cubicBezTo>
                    <a:pt x="44" y="459"/>
                    <a:pt x="38" y="462"/>
                    <a:pt x="35" y="465"/>
                  </a:cubicBezTo>
                  <a:cubicBezTo>
                    <a:pt x="32" y="469"/>
                    <a:pt x="29" y="473"/>
                    <a:pt x="28" y="476"/>
                  </a:cubicBezTo>
                  <a:cubicBezTo>
                    <a:pt x="27" y="479"/>
                    <a:pt x="24" y="480"/>
                    <a:pt x="27" y="482"/>
                  </a:cubicBezTo>
                  <a:cubicBezTo>
                    <a:pt x="30" y="483"/>
                    <a:pt x="42" y="481"/>
                    <a:pt x="45" y="484"/>
                  </a:cubicBezTo>
                  <a:cubicBezTo>
                    <a:pt x="48" y="487"/>
                    <a:pt x="45" y="494"/>
                    <a:pt x="45" y="500"/>
                  </a:cubicBezTo>
                  <a:cubicBezTo>
                    <a:pt x="44" y="505"/>
                    <a:pt x="42" y="513"/>
                    <a:pt x="41" y="518"/>
                  </a:cubicBezTo>
                  <a:cubicBezTo>
                    <a:pt x="41" y="522"/>
                    <a:pt x="42" y="525"/>
                    <a:pt x="41" y="528"/>
                  </a:cubicBezTo>
                  <a:cubicBezTo>
                    <a:pt x="41" y="531"/>
                    <a:pt x="38" y="534"/>
                    <a:pt x="37" y="537"/>
                  </a:cubicBezTo>
                  <a:cubicBezTo>
                    <a:pt x="37" y="539"/>
                    <a:pt x="37" y="541"/>
                    <a:pt x="36" y="544"/>
                  </a:cubicBezTo>
                  <a:cubicBezTo>
                    <a:pt x="36" y="546"/>
                    <a:pt x="37" y="548"/>
                    <a:pt x="34" y="551"/>
                  </a:cubicBezTo>
                  <a:cubicBezTo>
                    <a:pt x="31" y="553"/>
                    <a:pt x="23" y="557"/>
                    <a:pt x="18" y="559"/>
                  </a:cubicBezTo>
                  <a:cubicBezTo>
                    <a:pt x="14" y="561"/>
                    <a:pt x="9" y="562"/>
                    <a:pt x="7" y="564"/>
                  </a:cubicBezTo>
                  <a:cubicBezTo>
                    <a:pt x="4" y="566"/>
                    <a:pt x="3" y="568"/>
                    <a:pt x="2" y="571"/>
                  </a:cubicBezTo>
                  <a:cubicBezTo>
                    <a:pt x="1" y="574"/>
                    <a:pt x="0" y="580"/>
                    <a:pt x="1" y="584"/>
                  </a:cubicBezTo>
                  <a:cubicBezTo>
                    <a:pt x="2" y="588"/>
                    <a:pt x="1" y="590"/>
                    <a:pt x="7" y="594"/>
                  </a:cubicBezTo>
                  <a:cubicBezTo>
                    <a:pt x="13" y="597"/>
                    <a:pt x="30" y="599"/>
                    <a:pt x="37" y="603"/>
                  </a:cubicBezTo>
                  <a:cubicBezTo>
                    <a:pt x="45" y="607"/>
                    <a:pt x="49" y="613"/>
                    <a:pt x="52" y="616"/>
                  </a:cubicBezTo>
                  <a:cubicBezTo>
                    <a:pt x="55" y="619"/>
                    <a:pt x="56" y="621"/>
                    <a:pt x="58" y="623"/>
                  </a:cubicBezTo>
                  <a:cubicBezTo>
                    <a:pt x="59" y="626"/>
                    <a:pt x="58" y="629"/>
                    <a:pt x="61" y="631"/>
                  </a:cubicBezTo>
                  <a:cubicBezTo>
                    <a:pt x="64" y="632"/>
                    <a:pt x="73" y="633"/>
                    <a:pt x="77" y="632"/>
                  </a:cubicBezTo>
                  <a:cubicBezTo>
                    <a:pt x="81" y="630"/>
                    <a:pt x="85" y="627"/>
                    <a:pt x="86" y="622"/>
                  </a:cubicBezTo>
                  <a:cubicBezTo>
                    <a:pt x="88" y="617"/>
                    <a:pt x="86" y="609"/>
                    <a:pt x="85" y="603"/>
                  </a:cubicBezTo>
                  <a:cubicBezTo>
                    <a:pt x="84" y="597"/>
                    <a:pt x="80" y="591"/>
                    <a:pt x="78" y="586"/>
                  </a:cubicBezTo>
                  <a:cubicBezTo>
                    <a:pt x="76" y="581"/>
                    <a:pt x="75" y="577"/>
                    <a:pt x="76" y="573"/>
                  </a:cubicBezTo>
                  <a:cubicBezTo>
                    <a:pt x="76" y="568"/>
                    <a:pt x="79" y="563"/>
                    <a:pt x="80" y="559"/>
                  </a:cubicBezTo>
                  <a:cubicBezTo>
                    <a:pt x="81" y="555"/>
                    <a:pt x="80" y="552"/>
                    <a:pt x="83" y="550"/>
                  </a:cubicBezTo>
                  <a:cubicBezTo>
                    <a:pt x="86" y="547"/>
                    <a:pt x="96" y="547"/>
                    <a:pt x="99" y="546"/>
                  </a:cubicBezTo>
                  <a:cubicBezTo>
                    <a:pt x="103" y="545"/>
                    <a:pt x="102" y="545"/>
                    <a:pt x="104" y="542"/>
                  </a:cubicBezTo>
                  <a:cubicBezTo>
                    <a:pt x="106" y="539"/>
                    <a:pt x="105" y="532"/>
                    <a:pt x="111" y="528"/>
                  </a:cubicBezTo>
                  <a:cubicBezTo>
                    <a:pt x="117" y="524"/>
                    <a:pt x="131" y="520"/>
                    <a:pt x="139" y="520"/>
                  </a:cubicBezTo>
                  <a:cubicBezTo>
                    <a:pt x="146" y="520"/>
                    <a:pt x="152" y="526"/>
                    <a:pt x="156" y="529"/>
                  </a:cubicBezTo>
                  <a:cubicBezTo>
                    <a:pt x="160" y="533"/>
                    <a:pt x="162" y="539"/>
                    <a:pt x="162" y="542"/>
                  </a:cubicBezTo>
                  <a:cubicBezTo>
                    <a:pt x="163" y="546"/>
                    <a:pt x="163" y="550"/>
                    <a:pt x="160" y="552"/>
                  </a:cubicBezTo>
                  <a:cubicBezTo>
                    <a:pt x="157" y="554"/>
                    <a:pt x="149" y="557"/>
                    <a:pt x="144" y="557"/>
                  </a:cubicBezTo>
                  <a:cubicBezTo>
                    <a:pt x="140" y="556"/>
                    <a:pt x="135" y="549"/>
                    <a:pt x="131" y="548"/>
                  </a:cubicBezTo>
                  <a:cubicBezTo>
                    <a:pt x="127" y="546"/>
                    <a:pt x="123" y="547"/>
                    <a:pt x="121" y="548"/>
                  </a:cubicBezTo>
                  <a:cubicBezTo>
                    <a:pt x="119" y="549"/>
                    <a:pt x="119" y="552"/>
                    <a:pt x="121" y="554"/>
                  </a:cubicBezTo>
                  <a:cubicBezTo>
                    <a:pt x="122" y="557"/>
                    <a:pt x="128" y="561"/>
                    <a:pt x="129" y="564"/>
                  </a:cubicBezTo>
                  <a:cubicBezTo>
                    <a:pt x="130" y="567"/>
                    <a:pt x="127" y="570"/>
                    <a:pt x="127" y="575"/>
                  </a:cubicBezTo>
                  <a:cubicBezTo>
                    <a:pt x="127" y="579"/>
                    <a:pt x="129" y="586"/>
                    <a:pt x="129" y="591"/>
                  </a:cubicBezTo>
                  <a:cubicBezTo>
                    <a:pt x="129" y="597"/>
                    <a:pt x="131" y="603"/>
                    <a:pt x="129" y="607"/>
                  </a:cubicBezTo>
                  <a:cubicBezTo>
                    <a:pt x="127" y="611"/>
                    <a:pt x="122" y="612"/>
                    <a:pt x="119" y="615"/>
                  </a:cubicBezTo>
                  <a:cubicBezTo>
                    <a:pt x="118" y="619"/>
                    <a:pt x="119" y="626"/>
                    <a:pt x="119" y="631"/>
                  </a:cubicBezTo>
                  <a:cubicBezTo>
                    <a:pt x="118" y="636"/>
                    <a:pt x="119" y="639"/>
                    <a:pt x="116" y="645"/>
                  </a:cubicBezTo>
                  <a:cubicBezTo>
                    <a:pt x="113" y="651"/>
                    <a:pt x="102" y="655"/>
                    <a:pt x="97" y="660"/>
                  </a:cubicBezTo>
                  <a:cubicBezTo>
                    <a:pt x="92" y="665"/>
                    <a:pt x="86" y="672"/>
                    <a:pt x="86" y="674"/>
                  </a:cubicBezTo>
                  <a:cubicBezTo>
                    <a:pt x="87" y="676"/>
                    <a:pt x="96" y="673"/>
                    <a:pt x="103" y="673"/>
                  </a:cubicBezTo>
                  <a:cubicBezTo>
                    <a:pt x="110" y="673"/>
                    <a:pt x="120" y="676"/>
                    <a:pt x="130" y="673"/>
                  </a:cubicBezTo>
                  <a:cubicBezTo>
                    <a:pt x="140" y="670"/>
                    <a:pt x="151" y="666"/>
                    <a:pt x="160" y="661"/>
                  </a:cubicBezTo>
                  <a:cubicBezTo>
                    <a:pt x="168" y="656"/>
                    <a:pt x="194" y="656"/>
                    <a:pt x="199" y="651"/>
                  </a:cubicBezTo>
                  <a:cubicBezTo>
                    <a:pt x="205" y="645"/>
                    <a:pt x="185" y="634"/>
                    <a:pt x="186" y="627"/>
                  </a:cubicBezTo>
                  <a:cubicBezTo>
                    <a:pt x="187" y="621"/>
                    <a:pt x="200" y="614"/>
                    <a:pt x="206" y="612"/>
                  </a:cubicBezTo>
                  <a:cubicBezTo>
                    <a:pt x="211" y="610"/>
                    <a:pt x="216" y="613"/>
                    <a:pt x="221" y="614"/>
                  </a:cubicBezTo>
                  <a:cubicBezTo>
                    <a:pt x="225" y="616"/>
                    <a:pt x="228" y="618"/>
                    <a:pt x="233" y="622"/>
                  </a:cubicBezTo>
                  <a:cubicBezTo>
                    <a:pt x="237" y="626"/>
                    <a:pt x="244" y="635"/>
                    <a:pt x="248" y="638"/>
                  </a:cubicBezTo>
                  <a:cubicBezTo>
                    <a:pt x="252" y="640"/>
                    <a:pt x="254" y="638"/>
                    <a:pt x="256" y="636"/>
                  </a:cubicBezTo>
                  <a:cubicBezTo>
                    <a:pt x="258" y="634"/>
                    <a:pt x="259" y="628"/>
                    <a:pt x="261" y="624"/>
                  </a:cubicBezTo>
                  <a:cubicBezTo>
                    <a:pt x="263" y="621"/>
                    <a:pt x="265" y="617"/>
                    <a:pt x="267" y="614"/>
                  </a:cubicBezTo>
                  <a:cubicBezTo>
                    <a:pt x="269" y="611"/>
                    <a:pt x="271" y="611"/>
                    <a:pt x="275" y="608"/>
                  </a:cubicBezTo>
                  <a:cubicBezTo>
                    <a:pt x="279" y="605"/>
                    <a:pt x="285" y="599"/>
                    <a:pt x="289" y="595"/>
                  </a:cubicBezTo>
                  <a:cubicBezTo>
                    <a:pt x="293" y="590"/>
                    <a:pt x="296" y="585"/>
                    <a:pt x="299" y="580"/>
                  </a:cubicBezTo>
                  <a:cubicBezTo>
                    <a:pt x="302" y="576"/>
                    <a:pt x="304" y="570"/>
                    <a:pt x="307" y="565"/>
                  </a:cubicBezTo>
                  <a:cubicBezTo>
                    <a:pt x="310" y="560"/>
                    <a:pt x="314" y="557"/>
                    <a:pt x="316" y="551"/>
                  </a:cubicBezTo>
                  <a:cubicBezTo>
                    <a:pt x="318" y="545"/>
                    <a:pt x="317" y="535"/>
                    <a:pt x="319" y="528"/>
                  </a:cubicBezTo>
                  <a:cubicBezTo>
                    <a:pt x="321" y="522"/>
                    <a:pt x="325" y="517"/>
                    <a:pt x="329" y="511"/>
                  </a:cubicBezTo>
                  <a:cubicBezTo>
                    <a:pt x="332" y="505"/>
                    <a:pt x="338" y="499"/>
                    <a:pt x="342" y="491"/>
                  </a:cubicBezTo>
                  <a:cubicBezTo>
                    <a:pt x="346" y="483"/>
                    <a:pt x="350" y="470"/>
                    <a:pt x="354" y="463"/>
                  </a:cubicBezTo>
                  <a:cubicBezTo>
                    <a:pt x="357" y="456"/>
                    <a:pt x="358" y="455"/>
                    <a:pt x="362" y="450"/>
                  </a:cubicBezTo>
                  <a:cubicBezTo>
                    <a:pt x="365" y="444"/>
                    <a:pt x="371" y="437"/>
                    <a:pt x="375" y="432"/>
                  </a:cubicBezTo>
                  <a:cubicBezTo>
                    <a:pt x="379" y="427"/>
                    <a:pt x="382" y="421"/>
                    <a:pt x="386" y="418"/>
                  </a:cubicBezTo>
                  <a:cubicBezTo>
                    <a:pt x="389" y="414"/>
                    <a:pt x="390" y="413"/>
                    <a:pt x="394" y="412"/>
                  </a:cubicBezTo>
                  <a:cubicBezTo>
                    <a:pt x="398" y="410"/>
                    <a:pt x="405" y="412"/>
                    <a:pt x="407" y="408"/>
                  </a:cubicBezTo>
                  <a:cubicBezTo>
                    <a:pt x="409" y="405"/>
                    <a:pt x="408" y="395"/>
                    <a:pt x="408" y="390"/>
                  </a:cubicBezTo>
                  <a:cubicBezTo>
                    <a:pt x="408" y="385"/>
                    <a:pt x="403" y="381"/>
                    <a:pt x="407" y="378"/>
                  </a:cubicBezTo>
                  <a:cubicBezTo>
                    <a:pt x="411" y="376"/>
                    <a:pt x="425" y="379"/>
                    <a:pt x="431" y="377"/>
                  </a:cubicBezTo>
                  <a:cubicBezTo>
                    <a:pt x="437" y="375"/>
                    <a:pt x="438" y="371"/>
                    <a:pt x="443" y="368"/>
                  </a:cubicBezTo>
                  <a:cubicBezTo>
                    <a:pt x="447" y="365"/>
                    <a:pt x="453" y="361"/>
                    <a:pt x="457" y="359"/>
                  </a:cubicBezTo>
                  <a:cubicBezTo>
                    <a:pt x="461" y="357"/>
                    <a:pt x="462" y="358"/>
                    <a:pt x="464" y="356"/>
                  </a:cubicBezTo>
                  <a:cubicBezTo>
                    <a:pt x="466" y="354"/>
                    <a:pt x="470" y="350"/>
                    <a:pt x="471" y="347"/>
                  </a:cubicBezTo>
                  <a:cubicBezTo>
                    <a:pt x="472" y="345"/>
                    <a:pt x="468" y="343"/>
                    <a:pt x="471" y="342"/>
                  </a:cubicBezTo>
                  <a:cubicBezTo>
                    <a:pt x="475" y="340"/>
                    <a:pt x="488" y="342"/>
                    <a:pt x="491" y="340"/>
                  </a:cubicBezTo>
                  <a:cubicBezTo>
                    <a:pt x="494" y="339"/>
                    <a:pt x="492" y="333"/>
                    <a:pt x="489" y="331"/>
                  </a:cubicBezTo>
                  <a:cubicBezTo>
                    <a:pt x="486" y="329"/>
                    <a:pt x="476" y="330"/>
                    <a:pt x="471" y="328"/>
                  </a:cubicBezTo>
                  <a:cubicBezTo>
                    <a:pt x="467" y="327"/>
                    <a:pt x="463" y="324"/>
                    <a:pt x="462" y="321"/>
                  </a:cubicBezTo>
                  <a:cubicBezTo>
                    <a:pt x="461" y="318"/>
                    <a:pt x="461" y="313"/>
                    <a:pt x="464" y="309"/>
                  </a:cubicBezTo>
                  <a:cubicBezTo>
                    <a:pt x="467" y="306"/>
                    <a:pt x="477" y="305"/>
                    <a:pt x="481" y="302"/>
                  </a:cubicBezTo>
                  <a:cubicBezTo>
                    <a:pt x="484" y="300"/>
                    <a:pt x="487" y="298"/>
                    <a:pt x="487" y="295"/>
                  </a:cubicBezTo>
                  <a:cubicBezTo>
                    <a:pt x="486" y="292"/>
                    <a:pt x="481" y="288"/>
                    <a:pt x="480" y="283"/>
                  </a:cubicBezTo>
                  <a:cubicBezTo>
                    <a:pt x="477" y="279"/>
                    <a:pt x="477" y="274"/>
                    <a:pt x="475" y="270"/>
                  </a:cubicBezTo>
                  <a:cubicBezTo>
                    <a:pt x="473" y="267"/>
                    <a:pt x="468" y="266"/>
                    <a:pt x="468" y="263"/>
                  </a:cubicBezTo>
                  <a:cubicBezTo>
                    <a:pt x="467" y="260"/>
                    <a:pt x="472" y="258"/>
                    <a:pt x="474" y="253"/>
                  </a:cubicBezTo>
                  <a:cubicBezTo>
                    <a:pt x="475" y="249"/>
                    <a:pt x="479" y="241"/>
                    <a:pt x="478" y="236"/>
                  </a:cubicBezTo>
                  <a:cubicBezTo>
                    <a:pt x="477" y="231"/>
                    <a:pt x="469" y="229"/>
                    <a:pt x="468" y="225"/>
                  </a:cubicBezTo>
                  <a:cubicBezTo>
                    <a:pt x="466" y="221"/>
                    <a:pt x="471" y="215"/>
                    <a:pt x="468" y="211"/>
                  </a:cubicBezTo>
                  <a:cubicBezTo>
                    <a:pt x="464" y="206"/>
                    <a:pt x="449" y="202"/>
                    <a:pt x="445" y="198"/>
                  </a:cubicBezTo>
                  <a:cubicBezTo>
                    <a:pt x="441" y="194"/>
                    <a:pt x="440" y="189"/>
                    <a:pt x="441" y="188"/>
                  </a:cubicBezTo>
                  <a:cubicBezTo>
                    <a:pt x="443" y="186"/>
                    <a:pt x="452" y="187"/>
                    <a:pt x="454" y="185"/>
                  </a:cubicBezTo>
                  <a:cubicBezTo>
                    <a:pt x="456" y="183"/>
                    <a:pt x="457" y="179"/>
                    <a:pt x="460" y="179"/>
                  </a:cubicBezTo>
                  <a:cubicBezTo>
                    <a:pt x="463" y="178"/>
                    <a:pt x="468" y="182"/>
                    <a:pt x="471" y="180"/>
                  </a:cubicBezTo>
                  <a:cubicBezTo>
                    <a:pt x="473" y="179"/>
                    <a:pt x="477" y="173"/>
                    <a:pt x="477" y="168"/>
                  </a:cubicBezTo>
                  <a:cubicBezTo>
                    <a:pt x="478" y="163"/>
                    <a:pt x="475" y="156"/>
                    <a:pt x="474" y="151"/>
                  </a:cubicBezTo>
                  <a:cubicBezTo>
                    <a:pt x="472" y="146"/>
                    <a:pt x="469" y="142"/>
                    <a:pt x="468" y="138"/>
                  </a:cubicBezTo>
                  <a:cubicBezTo>
                    <a:pt x="466" y="135"/>
                    <a:pt x="468" y="134"/>
                    <a:pt x="464" y="131"/>
                  </a:cubicBezTo>
                  <a:cubicBezTo>
                    <a:pt x="460" y="129"/>
                    <a:pt x="449" y="124"/>
                    <a:pt x="444" y="123"/>
                  </a:cubicBezTo>
                  <a:cubicBezTo>
                    <a:pt x="438" y="123"/>
                    <a:pt x="434" y="128"/>
                    <a:pt x="431" y="130"/>
                  </a:cubicBezTo>
                  <a:cubicBezTo>
                    <a:pt x="429" y="132"/>
                    <a:pt x="430" y="134"/>
                    <a:pt x="428" y="137"/>
                  </a:cubicBezTo>
                  <a:cubicBezTo>
                    <a:pt x="426" y="139"/>
                    <a:pt x="422" y="142"/>
                    <a:pt x="418" y="143"/>
                  </a:cubicBezTo>
                  <a:cubicBezTo>
                    <a:pt x="413" y="144"/>
                    <a:pt x="406" y="144"/>
                    <a:pt x="400" y="141"/>
                  </a:cubicBezTo>
                  <a:cubicBezTo>
                    <a:pt x="394" y="138"/>
                    <a:pt x="389" y="129"/>
                    <a:pt x="384" y="125"/>
                  </a:cubicBezTo>
                  <a:cubicBezTo>
                    <a:pt x="379" y="120"/>
                    <a:pt x="374" y="119"/>
                    <a:pt x="370" y="116"/>
                  </a:cubicBezTo>
                  <a:cubicBezTo>
                    <a:pt x="367" y="113"/>
                    <a:pt x="367" y="110"/>
                    <a:pt x="364" y="106"/>
                  </a:cubicBezTo>
                  <a:cubicBezTo>
                    <a:pt x="362" y="103"/>
                    <a:pt x="357" y="100"/>
                    <a:pt x="355" y="94"/>
                  </a:cubicBezTo>
                  <a:cubicBezTo>
                    <a:pt x="352" y="89"/>
                    <a:pt x="351" y="71"/>
                    <a:pt x="350" y="6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Freeform 796"/>
            <p:cNvSpPr/>
            <p:nvPr/>
          </p:nvSpPr>
          <p:spPr>
            <a:xfrm>
              <a:off x="3705480" y="5079600"/>
              <a:ext cx="201600" cy="178560"/>
            </a:xfrm>
            <a:custGeom>
              <a:avLst/>
              <a:gdLst/>
              <a:ahLst/>
              <a:rect l="l" t="t" r="r" b="b"/>
              <a:pathLst>
                <a:path w="96" h="85">
                  <a:moveTo>
                    <a:pt x="92" y="3"/>
                  </a:moveTo>
                  <a:cubicBezTo>
                    <a:pt x="88" y="0"/>
                    <a:pt x="69" y="1"/>
                    <a:pt x="61" y="3"/>
                  </a:cubicBezTo>
                  <a:cubicBezTo>
                    <a:pt x="53" y="5"/>
                    <a:pt x="48" y="11"/>
                    <a:pt x="45" y="16"/>
                  </a:cubicBezTo>
                  <a:cubicBezTo>
                    <a:pt x="42" y="22"/>
                    <a:pt x="43" y="32"/>
                    <a:pt x="41" y="37"/>
                  </a:cubicBezTo>
                  <a:cubicBezTo>
                    <a:pt x="39" y="42"/>
                    <a:pt x="36" y="46"/>
                    <a:pt x="32" y="49"/>
                  </a:cubicBezTo>
                  <a:cubicBezTo>
                    <a:pt x="28" y="52"/>
                    <a:pt x="19" y="50"/>
                    <a:pt x="15" y="53"/>
                  </a:cubicBezTo>
                  <a:cubicBezTo>
                    <a:pt x="10" y="56"/>
                    <a:pt x="7" y="62"/>
                    <a:pt x="5" y="67"/>
                  </a:cubicBezTo>
                  <a:cubicBezTo>
                    <a:pt x="3" y="72"/>
                    <a:pt x="0" y="81"/>
                    <a:pt x="1" y="83"/>
                  </a:cubicBezTo>
                  <a:cubicBezTo>
                    <a:pt x="3" y="85"/>
                    <a:pt x="9" y="80"/>
                    <a:pt x="13" y="78"/>
                  </a:cubicBezTo>
                  <a:cubicBezTo>
                    <a:pt x="18" y="77"/>
                    <a:pt x="20" y="76"/>
                    <a:pt x="26" y="75"/>
                  </a:cubicBezTo>
                  <a:cubicBezTo>
                    <a:pt x="31" y="74"/>
                    <a:pt x="40" y="75"/>
                    <a:pt x="48" y="73"/>
                  </a:cubicBezTo>
                  <a:cubicBezTo>
                    <a:pt x="56" y="71"/>
                    <a:pt x="68" y="66"/>
                    <a:pt x="75" y="63"/>
                  </a:cubicBezTo>
                  <a:cubicBezTo>
                    <a:pt x="81" y="60"/>
                    <a:pt x="84" y="56"/>
                    <a:pt x="86" y="52"/>
                  </a:cubicBezTo>
                  <a:cubicBezTo>
                    <a:pt x="88" y="49"/>
                    <a:pt x="87" y="45"/>
                    <a:pt x="87" y="41"/>
                  </a:cubicBezTo>
                  <a:cubicBezTo>
                    <a:pt x="86" y="36"/>
                    <a:pt x="85" y="31"/>
                    <a:pt x="85" y="25"/>
                  </a:cubicBezTo>
                  <a:cubicBezTo>
                    <a:pt x="86" y="18"/>
                    <a:pt x="96" y="7"/>
                    <a:pt x="92" y="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Freeform 797"/>
            <p:cNvSpPr/>
            <p:nvPr/>
          </p:nvSpPr>
          <p:spPr>
            <a:xfrm>
              <a:off x="5082480" y="3925800"/>
              <a:ext cx="205920" cy="248040"/>
            </a:xfrm>
            <a:custGeom>
              <a:avLst/>
              <a:gdLst/>
              <a:ahLst/>
              <a:rect l="l" t="t" r="r" b="b"/>
              <a:pathLst>
                <a:path w="98" h="118">
                  <a:moveTo>
                    <a:pt x="69" y="9"/>
                  </a:moveTo>
                  <a:cubicBezTo>
                    <a:pt x="64" y="13"/>
                    <a:pt x="59" y="21"/>
                    <a:pt x="54" y="25"/>
                  </a:cubicBezTo>
                  <a:cubicBezTo>
                    <a:pt x="49" y="29"/>
                    <a:pt x="45" y="31"/>
                    <a:pt x="40" y="34"/>
                  </a:cubicBezTo>
                  <a:cubicBezTo>
                    <a:pt x="35" y="37"/>
                    <a:pt x="29" y="39"/>
                    <a:pt x="25" y="41"/>
                  </a:cubicBezTo>
                  <a:cubicBezTo>
                    <a:pt x="22" y="43"/>
                    <a:pt x="21" y="45"/>
                    <a:pt x="18" y="48"/>
                  </a:cubicBezTo>
                  <a:cubicBezTo>
                    <a:pt x="15" y="51"/>
                    <a:pt x="9" y="55"/>
                    <a:pt x="7" y="58"/>
                  </a:cubicBezTo>
                  <a:cubicBezTo>
                    <a:pt x="5" y="62"/>
                    <a:pt x="4" y="64"/>
                    <a:pt x="5" y="68"/>
                  </a:cubicBezTo>
                  <a:cubicBezTo>
                    <a:pt x="6" y="71"/>
                    <a:pt x="8" y="76"/>
                    <a:pt x="12" y="79"/>
                  </a:cubicBezTo>
                  <a:cubicBezTo>
                    <a:pt x="16" y="82"/>
                    <a:pt x="27" y="83"/>
                    <a:pt x="28" y="86"/>
                  </a:cubicBezTo>
                  <a:cubicBezTo>
                    <a:pt x="30" y="89"/>
                    <a:pt x="23" y="93"/>
                    <a:pt x="20" y="96"/>
                  </a:cubicBezTo>
                  <a:cubicBezTo>
                    <a:pt x="17" y="100"/>
                    <a:pt x="14" y="104"/>
                    <a:pt x="11" y="106"/>
                  </a:cubicBezTo>
                  <a:cubicBezTo>
                    <a:pt x="7" y="109"/>
                    <a:pt x="2" y="109"/>
                    <a:pt x="1" y="110"/>
                  </a:cubicBezTo>
                  <a:cubicBezTo>
                    <a:pt x="0" y="112"/>
                    <a:pt x="2" y="114"/>
                    <a:pt x="4" y="115"/>
                  </a:cubicBezTo>
                  <a:cubicBezTo>
                    <a:pt x="6" y="117"/>
                    <a:pt x="8" y="118"/>
                    <a:pt x="12" y="118"/>
                  </a:cubicBezTo>
                  <a:cubicBezTo>
                    <a:pt x="17" y="118"/>
                    <a:pt x="25" y="118"/>
                    <a:pt x="31" y="116"/>
                  </a:cubicBezTo>
                  <a:cubicBezTo>
                    <a:pt x="37" y="115"/>
                    <a:pt x="44" y="111"/>
                    <a:pt x="49" y="109"/>
                  </a:cubicBezTo>
                  <a:cubicBezTo>
                    <a:pt x="54" y="107"/>
                    <a:pt x="58" y="107"/>
                    <a:pt x="61" y="105"/>
                  </a:cubicBezTo>
                  <a:cubicBezTo>
                    <a:pt x="64" y="103"/>
                    <a:pt x="64" y="100"/>
                    <a:pt x="68" y="97"/>
                  </a:cubicBezTo>
                  <a:cubicBezTo>
                    <a:pt x="72" y="94"/>
                    <a:pt x="80" y="91"/>
                    <a:pt x="84" y="88"/>
                  </a:cubicBezTo>
                  <a:cubicBezTo>
                    <a:pt x="89" y="86"/>
                    <a:pt x="94" y="84"/>
                    <a:pt x="96" y="81"/>
                  </a:cubicBezTo>
                  <a:cubicBezTo>
                    <a:pt x="98" y="79"/>
                    <a:pt x="97" y="77"/>
                    <a:pt x="97" y="74"/>
                  </a:cubicBezTo>
                  <a:cubicBezTo>
                    <a:pt x="97" y="71"/>
                    <a:pt x="98" y="66"/>
                    <a:pt x="97" y="64"/>
                  </a:cubicBezTo>
                  <a:cubicBezTo>
                    <a:pt x="96" y="62"/>
                    <a:pt x="94" y="62"/>
                    <a:pt x="92" y="61"/>
                  </a:cubicBezTo>
                  <a:cubicBezTo>
                    <a:pt x="90" y="60"/>
                    <a:pt x="87" y="60"/>
                    <a:pt x="84" y="59"/>
                  </a:cubicBezTo>
                  <a:cubicBezTo>
                    <a:pt x="81" y="58"/>
                    <a:pt x="76" y="58"/>
                    <a:pt x="74" y="56"/>
                  </a:cubicBezTo>
                  <a:cubicBezTo>
                    <a:pt x="72" y="54"/>
                    <a:pt x="72" y="49"/>
                    <a:pt x="72" y="46"/>
                  </a:cubicBezTo>
                  <a:cubicBezTo>
                    <a:pt x="71" y="43"/>
                    <a:pt x="71" y="41"/>
                    <a:pt x="72" y="39"/>
                  </a:cubicBezTo>
                  <a:cubicBezTo>
                    <a:pt x="73" y="37"/>
                    <a:pt x="75" y="35"/>
                    <a:pt x="78" y="33"/>
                  </a:cubicBezTo>
                  <a:cubicBezTo>
                    <a:pt x="80" y="31"/>
                    <a:pt x="84" y="29"/>
                    <a:pt x="87" y="27"/>
                  </a:cubicBezTo>
                  <a:cubicBezTo>
                    <a:pt x="90" y="24"/>
                    <a:pt x="92" y="22"/>
                    <a:pt x="94" y="19"/>
                  </a:cubicBezTo>
                  <a:cubicBezTo>
                    <a:pt x="95" y="16"/>
                    <a:pt x="97" y="12"/>
                    <a:pt x="97" y="9"/>
                  </a:cubicBezTo>
                  <a:cubicBezTo>
                    <a:pt x="97" y="6"/>
                    <a:pt x="94" y="5"/>
                    <a:pt x="92" y="3"/>
                  </a:cubicBezTo>
                  <a:cubicBezTo>
                    <a:pt x="91" y="1"/>
                    <a:pt x="89" y="0"/>
                    <a:pt x="85" y="1"/>
                  </a:cubicBezTo>
                  <a:cubicBezTo>
                    <a:pt x="82" y="2"/>
                    <a:pt x="75" y="5"/>
                    <a:pt x="69" y="9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2" name="Freeform 876"/>
          <p:cNvSpPr/>
          <p:nvPr/>
        </p:nvSpPr>
        <p:spPr>
          <a:xfrm>
            <a:off x="4089240" y="4662360"/>
            <a:ext cx="82800" cy="81000"/>
          </a:xfrm>
          <a:custGeom>
            <a:avLst/>
            <a:gdLst/>
            <a:ahLst/>
            <a:rect l="l" t="t" r="r" b="b"/>
            <a:pathLst>
              <a:path w="39" h="38">
                <a:moveTo>
                  <a:pt x="0" y="38"/>
                </a:moveTo>
                <a:lnTo>
                  <a:pt x="19" y="0"/>
                </a:lnTo>
                <a:lnTo>
                  <a:pt x="39" y="38"/>
                </a:lnTo>
                <a:lnTo>
                  <a:pt x="0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5563440" y="2116080"/>
            <a:ext cx="2210760" cy="735120"/>
            <a:chOff x="5563440" y="2116080"/>
            <a:chExt cx="2210760" cy="735120"/>
          </a:xfrm>
        </p:grpSpPr>
        <p:sp>
          <p:nvSpPr>
            <p:cNvPr id="374" name="Freeform 850"/>
            <p:cNvSpPr/>
            <p:nvPr/>
          </p:nvSpPr>
          <p:spPr>
            <a:xfrm>
              <a:off x="6485040" y="2274840"/>
              <a:ext cx="206280" cy="576360"/>
            </a:xfrm>
            <a:custGeom>
              <a:avLst/>
              <a:gdLst/>
              <a:ahLst/>
              <a:rect l="l" t="t" r="r" b="b"/>
              <a:pathLst>
                <a:path w="508" h="1444">
                  <a:moveTo>
                    <a:pt x="508" y="0"/>
                  </a:moveTo>
                  <a:cubicBezTo>
                    <a:pt x="442" y="33"/>
                    <a:pt x="198" y="93"/>
                    <a:pt x="114" y="215"/>
                  </a:cubicBezTo>
                  <a:cubicBezTo>
                    <a:pt x="35" y="329"/>
                    <a:pt x="7" y="565"/>
                    <a:pt x="4" y="730"/>
                  </a:cubicBezTo>
                  <a:cubicBezTo>
                    <a:pt x="0" y="894"/>
                    <a:pt x="78" y="1090"/>
                    <a:pt x="98" y="1201"/>
                  </a:cubicBezTo>
                  <a:lnTo>
                    <a:pt x="193" y="1444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Rectangle 926"/>
            <p:cNvSpPr/>
            <p:nvPr/>
          </p:nvSpPr>
          <p:spPr>
            <a:xfrm>
              <a:off x="5563440" y="2333520"/>
              <a:ext cx="693360" cy="43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北海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6632640" y="2116080"/>
              <a:ext cx="1141560" cy="305280"/>
              <a:chOff x="6632640" y="2116080"/>
              <a:chExt cx="1141560" cy="305280"/>
            </a:xfrm>
          </p:grpSpPr>
          <p:sp>
            <p:nvSpPr>
              <p:cNvPr id="377" name="円/楕円 160"/>
              <p:cNvSpPr/>
              <p:nvPr/>
            </p:nvSpPr>
            <p:spPr>
              <a:xfrm>
                <a:off x="6632640" y="2224080"/>
                <a:ext cx="125280" cy="125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Rectangle 926"/>
              <p:cNvSpPr/>
              <p:nvPr/>
            </p:nvSpPr>
            <p:spPr>
              <a:xfrm>
                <a:off x="7011360" y="2116080"/>
                <a:ext cx="762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新函館北斗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5231160" y="3701880"/>
            <a:ext cx="752400" cy="1541520"/>
            <a:chOff x="5231160" y="3701880"/>
            <a:chExt cx="752400" cy="1541520"/>
          </a:xfrm>
        </p:grpSpPr>
        <p:sp>
          <p:nvSpPr>
            <p:cNvPr id="380" name="Freeform 900"/>
            <p:cNvSpPr/>
            <p:nvPr/>
          </p:nvSpPr>
          <p:spPr>
            <a:xfrm>
              <a:off x="5297400" y="4232160"/>
              <a:ext cx="241560" cy="1011240"/>
            </a:xfrm>
            <a:custGeom>
              <a:avLst/>
              <a:gdLst/>
              <a:ahLst/>
              <a:rect l="l" t="t" r="r" b="b"/>
              <a:pathLst>
                <a:path w="115" h="481">
                  <a:moveTo>
                    <a:pt x="88" y="0"/>
                  </a:moveTo>
                  <a:cubicBezTo>
                    <a:pt x="79" y="15"/>
                    <a:pt x="44" y="57"/>
                    <a:pt x="30" y="91"/>
                  </a:cubicBezTo>
                  <a:cubicBezTo>
                    <a:pt x="16" y="125"/>
                    <a:pt x="3" y="167"/>
                    <a:pt x="1" y="207"/>
                  </a:cubicBezTo>
                  <a:cubicBezTo>
                    <a:pt x="0" y="246"/>
                    <a:pt x="5" y="289"/>
                    <a:pt x="21" y="329"/>
                  </a:cubicBezTo>
                  <a:cubicBezTo>
                    <a:pt x="38" y="369"/>
                    <a:pt x="82" y="420"/>
                    <a:pt x="97" y="445"/>
                  </a:cubicBezTo>
                  <a:cubicBezTo>
                    <a:pt x="113" y="470"/>
                    <a:pt x="112" y="474"/>
                    <a:pt x="115" y="48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Rectangle 970"/>
            <p:cNvSpPr/>
            <p:nvPr/>
          </p:nvSpPr>
          <p:spPr>
            <a:xfrm>
              <a:off x="5231160" y="3701880"/>
              <a:ext cx="510480" cy="43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上越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5308560" y="4653000"/>
              <a:ext cx="386280" cy="414360"/>
              <a:chOff x="5308560" y="4653000"/>
              <a:chExt cx="386280" cy="414360"/>
            </a:xfrm>
          </p:grpSpPr>
          <p:sp>
            <p:nvSpPr>
              <p:cNvPr id="383" name="円/楕円 163"/>
              <p:cNvSpPr/>
              <p:nvPr/>
            </p:nvSpPr>
            <p:spPr>
              <a:xfrm>
                <a:off x="5308560" y="4941720"/>
                <a:ext cx="125280" cy="125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Rectangle 926"/>
              <p:cNvSpPr/>
              <p:nvPr/>
            </p:nvSpPr>
            <p:spPr>
              <a:xfrm>
                <a:off x="5389200" y="465300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高崎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421240" y="4076640"/>
              <a:ext cx="562320" cy="305280"/>
              <a:chOff x="5421240" y="4076640"/>
              <a:chExt cx="562320" cy="305280"/>
            </a:xfrm>
          </p:grpSpPr>
          <p:sp>
            <p:nvSpPr>
              <p:cNvPr id="386" name="円/楕円 167"/>
              <p:cNvSpPr/>
              <p:nvPr/>
            </p:nvSpPr>
            <p:spPr>
              <a:xfrm>
                <a:off x="5421240" y="4165560"/>
                <a:ext cx="13032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Rectangle 926"/>
              <p:cNvSpPr/>
              <p:nvPr/>
            </p:nvSpPr>
            <p:spPr>
              <a:xfrm>
                <a:off x="5677920" y="407664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新潟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449640" y="5230800"/>
            <a:ext cx="961920" cy="1240200"/>
            <a:chOff x="449640" y="5230800"/>
            <a:chExt cx="961920" cy="1240200"/>
          </a:xfrm>
        </p:grpSpPr>
        <p:sp>
          <p:nvSpPr>
            <p:cNvPr id="389" name="Freeform 844"/>
            <p:cNvSpPr/>
            <p:nvPr/>
          </p:nvSpPr>
          <p:spPr>
            <a:xfrm>
              <a:off x="1096920" y="5230800"/>
              <a:ext cx="98640" cy="515880"/>
            </a:xfrm>
            <a:custGeom>
              <a:avLst/>
              <a:gdLst/>
              <a:ahLst/>
              <a:rect l="l" t="t" r="r" b="b"/>
              <a:pathLst>
                <a:path w="62" h="325">
                  <a:moveTo>
                    <a:pt x="62" y="0"/>
                  </a:moveTo>
                  <a:cubicBezTo>
                    <a:pt x="61" y="11"/>
                    <a:pt x="51" y="38"/>
                    <a:pt x="47" y="63"/>
                  </a:cubicBezTo>
                  <a:cubicBezTo>
                    <a:pt x="42" y="90"/>
                    <a:pt x="35" y="128"/>
                    <a:pt x="35" y="156"/>
                  </a:cubicBezTo>
                  <a:cubicBezTo>
                    <a:pt x="35" y="182"/>
                    <a:pt x="53" y="202"/>
                    <a:pt x="47" y="230"/>
                  </a:cubicBezTo>
                  <a:cubicBezTo>
                    <a:pt x="41" y="258"/>
                    <a:pt x="10" y="305"/>
                    <a:pt x="0" y="325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Freeform 814"/>
            <p:cNvSpPr/>
            <p:nvPr/>
          </p:nvSpPr>
          <p:spPr>
            <a:xfrm>
              <a:off x="892080" y="5724360"/>
              <a:ext cx="228600" cy="420840"/>
            </a:xfrm>
            <a:custGeom>
              <a:avLst/>
              <a:gdLst/>
              <a:ahLst/>
              <a:rect l="l" t="t" r="r" b="b"/>
              <a:pathLst>
                <a:path w="109" h="200">
                  <a:moveTo>
                    <a:pt x="109" y="0"/>
                  </a:moveTo>
                  <a:cubicBezTo>
                    <a:pt x="105" y="4"/>
                    <a:pt x="88" y="21"/>
                    <a:pt x="79" y="32"/>
                  </a:cubicBezTo>
                  <a:cubicBezTo>
                    <a:pt x="69" y="42"/>
                    <a:pt x="65" y="47"/>
                    <a:pt x="53" y="61"/>
                  </a:cubicBezTo>
                  <a:cubicBezTo>
                    <a:pt x="41" y="76"/>
                    <a:pt x="16" y="99"/>
                    <a:pt x="8" y="117"/>
                  </a:cubicBezTo>
                  <a:cubicBezTo>
                    <a:pt x="0" y="135"/>
                    <a:pt x="8" y="155"/>
                    <a:pt x="8" y="167"/>
                  </a:cubicBezTo>
                  <a:cubicBezTo>
                    <a:pt x="8" y="180"/>
                    <a:pt x="18" y="196"/>
                    <a:pt x="19" y="200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Rectangle 926"/>
            <p:cNvSpPr/>
            <p:nvPr/>
          </p:nvSpPr>
          <p:spPr>
            <a:xfrm>
              <a:off x="449640" y="5357880"/>
              <a:ext cx="510480" cy="43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九州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648720" y="6124680"/>
              <a:ext cx="762840" cy="346320"/>
              <a:chOff x="648720" y="6124680"/>
              <a:chExt cx="762840" cy="346320"/>
            </a:xfrm>
          </p:grpSpPr>
          <p:sp>
            <p:nvSpPr>
              <p:cNvPr id="393" name="円/楕円 181"/>
              <p:cNvSpPr/>
              <p:nvPr/>
            </p:nvSpPr>
            <p:spPr>
              <a:xfrm>
                <a:off x="898560" y="6124680"/>
                <a:ext cx="82440" cy="82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Rectangle 926"/>
              <p:cNvSpPr/>
              <p:nvPr/>
            </p:nvSpPr>
            <p:spPr>
              <a:xfrm>
                <a:off x="648720" y="6165720"/>
                <a:ext cx="7628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鹿児島中央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"/>
          <p:cNvGrpSpPr/>
          <p:nvPr/>
        </p:nvGrpSpPr>
        <p:grpSpPr>
          <a:xfrm>
            <a:off x="928080" y="4565520"/>
            <a:ext cx="2831400" cy="1184760"/>
            <a:chOff x="928080" y="4565520"/>
            <a:chExt cx="2831400" cy="1184760"/>
          </a:xfrm>
        </p:grpSpPr>
        <p:sp>
          <p:nvSpPr>
            <p:cNvPr id="396" name="Freeform 804"/>
            <p:cNvSpPr/>
            <p:nvPr/>
          </p:nvSpPr>
          <p:spPr>
            <a:xfrm>
              <a:off x="1211400" y="5060880"/>
              <a:ext cx="2278080" cy="358920"/>
            </a:xfrm>
            <a:custGeom>
              <a:avLst/>
              <a:gdLst/>
              <a:ahLst/>
              <a:rect l="l" t="t" r="r" b="b"/>
              <a:pathLst>
                <a:path w="1435" h="226">
                  <a:moveTo>
                    <a:pt x="0" y="97"/>
                  </a:moveTo>
                  <a:cubicBezTo>
                    <a:pt x="15" y="89"/>
                    <a:pt x="57" y="68"/>
                    <a:pt x="91" y="52"/>
                  </a:cubicBezTo>
                  <a:cubicBezTo>
                    <a:pt x="127" y="36"/>
                    <a:pt x="168" y="8"/>
                    <a:pt x="208" y="4"/>
                  </a:cubicBezTo>
                  <a:cubicBezTo>
                    <a:pt x="248" y="0"/>
                    <a:pt x="293" y="23"/>
                    <a:pt x="334" y="28"/>
                  </a:cubicBezTo>
                  <a:cubicBezTo>
                    <a:pt x="373" y="33"/>
                    <a:pt x="391" y="41"/>
                    <a:pt x="455" y="37"/>
                  </a:cubicBezTo>
                  <a:cubicBezTo>
                    <a:pt x="520" y="33"/>
                    <a:pt x="638" y="0"/>
                    <a:pt x="723" y="4"/>
                  </a:cubicBezTo>
                  <a:cubicBezTo>
                    <a:pt x="809" y="8"/>
                    <a:pt x="890" y="49"/>
                    <a:pt x="971" y="64"/>
                  </a:cubicBezTo>
                  <a:cubicBezTo>
                    <a:pt x="1051" y="78"/>
                    <a:pt x="1143" y="73"/>
                    <a:pt x="1206" y="88"/>
                  </a:cubicBezTo>
                  <a:cubicBezTo>
                    <a:pt x="1270" y="102"/>
                    <a:pt x="1314" y="131"/>
                    <a:pt x="1352" y="154"/>
                  </a:cubicBezTo>
                  <a:cubicBezTo>
                    <a:pt x="1390" y="177"/>
                    <a:pt x="1418" y="211"/>
                    <a:pt x="1435" y="226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Rectangle 926"/>
            <p:cNvSpPr/>
            <p:nvPr/>
          </p:nvSpPr>
          <p:spPr>
            <a:xfrm>
              <a:off x="2249640" y="4565520"/>
              <a:ext cx="510480" cy="43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山陽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301560" y="5396040"/>
              <a:ext cx="457920" cy="354240"/>
              <a:chOff x="3301560" y="5396040"/>
              <a:chExt cx="457920" cy="354240"/>
            </a:xfrm>
          </p:grpSpPr>
          <p:sp>
            <p:nvSpPr>
              <p:cNvPr id="399" name="円/楕円 173"/>
              <p:cNvSpPr/>
              <p:nvPr/>
            </p:nvSpPr>
            <p:spPr>
              <a:xfrm>
                <a:off x="3462480" y="5396040"/>
                <a:ext cx="82440" cy="82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Rectangle 926"/>
              <p:cNvSpPr/>
              <p:nvPr/>
            </p:nvSpPr>
            <p:spPr>
              <a:xfrm>
                <a:off x="3301560" y="5445000"/>
                <a:ext cx="457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新大阪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928080" y="4869000"/>
              <a:ext cx="305640" cy="396720"/>
              <a:chOff x="928080" y="4869000"/>
              <a:chExt cx="305640" cy="396720"/>
            </a:xfrm>
          </p:grpSpPr>
          <p:sp>
            <p:nvSpPr>
              <p:cNvPr id="402" name="円/楕円 185"/>
              <p:cNvSpPr/>
              <p:nvPr/>
            </p:nvSpPr>
            <p:spPr>
              <a:xfrm>
                <a:off x="1139760" y="5183280"/>
                <a:ext cx="82440" cy="82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Rectangle 926"/>
              <p:cNvSpPr/>
              <p:nvPr/>
            </p:nvSpPr>
            <p:spPr>
              <a:xfrm>
                <a:off x="928080" y="486900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博多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1936440" y="5051520"/>
              <a:ext cx="305640" cy="394200"/>
              <a:chOff x="1936440" y="5051520"/>
              <a:chExt cx="305640" cy="394200"/>
            </a:xfrm>
          </p:grpSpPr>
          <p:sp>
            <p:nvSpPr>
              <p:cNvPr id="405" name="円/楕円 185"/>
              <p:cNvSpPr/>
              <p:nvPr/>
            </p:nvSpPr>
            <p:spPr>
              <a:xfrm>
                <a:off x="2075040" y="5051520"/>
                <a:ext cx="82440" cy="8244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Rectangle 926"/>
              <p:cNvSpPr/>
              <p:nvPr/>
            </p:nvSpPr>
            <p:spPr>
              <a:xfrm>
                <a:off x="1936440" y="514044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広島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3798360" y="4378320"/>
            <a:ext cx="390960" cy="419040"/>
            <a:chOff x="3798360" y="4378320"/>
            <a:chExt cx="390960" cy="419040"/>
          </a:xfrm>
        </p:grpSpPr>
        <p:sp>
          <p:nvSpPr>
            <p:cNvPr id="408" name="円/楕円 176"/>
            <p:cNvSpPr/>
            <p:nvPr/>
          </p:nvSpPr>
          <p:spPr>
            <a:xfrm>
              <a:off x="4067280" y="4673520"/>
              <a:ext cx="12204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Rectangle 926"/>
            <p:cNvSpPr/>
            <p:nvPr/>
          </p:nvSpPr>
          <p:spPr>
            <a:xfrm>
              <a:off x="3798360" y="43783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白山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406680" y="5013360"/>
            <a:ext cx="343440" cy="406440"/>
            <a:chOff x="3406680" y="5013360"/>
            <a:chExt cx="343440" cy="406440"/>
          </a:xfrm>
        </p:grpSpPr>
        <p:sp>
          <p:nvSpPr>
            <p:cNvPr id="411" name="円/楕円 173"/>
            <p:cNvSpPr/>
            <p:nvPr/>
          </p:nvSpPr>
          <p:spPr>
            <a:xfrm>
              <a:off x="3406680" y="5337000"/>
              <a:ext cx="8280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Rectangle 926"/>
            <p:cNvSpPr/>
            <p:nvPr/>
          </p:nvSpPr>
          <p:spPr>
            <a:xfrm>
              <a:off x="3444480" y="50133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野中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貨物新幹線ネットワーク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393880" y="2565360"/>
            <a:ext cx="1905840" cy="3024720"/>
            <a:chOff x="5393880" y="2565360"/>
            <a:chExt cx="1905840" cy="3024720"/>
          </a:xfrm>
        </p:grpSpPr>
        <p:sp>
          <p:nvSpPr>
            <p:cNvPr id="415" name="Freeform 803"/>
            <p:cNvSpPr/>
            <p:nvPr/>
          </p:nvSpPr>
          <p:spPr>
            <a:xfrm>
              <a:off x="5562720" y="3546360"/>
              <a:ext cx="1141200" cy="1754280"/>
            </a:xfrm>
            <a:custGeom>
              <a:avLst/>
              <a:gdLst/>
              <a:ahLst/>
              <a:rect l="l" t="t" r="r" b="b"/>
              <a:pathLst>
                <a:path w="567" h="869">
                  <a:moveTo>
                    <a:pt x="567" y="0"/>
                  </a:moveTo>
                  <a:lnTo>
                    <a:pt x="18" y="808"/>
                  </a:lnTo>
                  <a:lnTo>
                    <a:pt x="0" y="869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830"/>
            <p:cNvSpPr/>
            <p:nvPr/>
          </p:nvSpPr>
          <p:spPr>
            <a:xfrm>
              <a:off x="6562800" y="2838600"/>
              <a:ext cx="255600" cy="177480"/>
            </a:xfrm>
            <a:custGeom>
              <a:avLst/>
              <a:gdLst/>
              <a:ahLst/>
              <a:rect l="l" t="t" r="r" b="b"/>
              <a:pathLst>
                <a:path w="122" h="84">
                  <a:moveTo>
                    <a:pt x="0" y="0"/>
                  </a:moveTo>
                  <a:cubicBezTo>
                    <a:pt x="11" y="2"/>
                    <a:pt x="49" y="8"/>
                    <a:pt x="65" y="14"/>
                  </a:cubicBezTo>
                  <a:cubicBezTo>
                    <a:pt x="81" y="20"/>
                    <a:pt x="85" y="25"/>
                    <a:pt x="95" y="37"/>
                  </a:cubicBezTo>
                  <a:cubicBezTo>
                    <a:pt x="104" y="48"/>
                    <a:pt x="118" y="76"/>
                    <a:pt x="122" y="84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831"/>
            <p:cNvSpPr/>
            <p:nvPr/>
          </p:nvSpPr>
          <p:spPr>
            <a:xfrm>
              <a:off x="6719760" y="3009960"/>
              <a:ext cx="96840" cy="514440"/>
            </a:xfrm>
            <a:custGeom>
              <a:avLst/>
              <a:gdLst/>
              <a:ahLst/>
              <a:rect l="l" t="t" r="r" b="b"/>
              <a:pathLst>
                <a:path w="46" h="245">
                  <a:moveTo>
                    <a:pt x="46" y="0"/>
                  </a:moveTo>
                  <a:cubicBezTo>
                    <a:pt x="45" y="13"/>
                    <a:pt x="44" y="56"/>
                    <a:pt x="43" y="76"/>
                  </a:cubicBezTo>
                  <a:cubicBezTo>
                    <a:pt x="42" y="97"/>
                    <a:pt x="43" y="104"/>
                    <a:pt x="40" y="122"/>
                  </a:cubicBezTo>
                  <a:cubicBezTo>
                    <a:pt x="37" y="141"/>
                    <a:pt x="31" y="165"/>
                    <a:pt x="24" y="185"/>
                  </a:cubicBezTo>
                  <a:cubicBezTo>
                    <a:pt x="18" y="205"/>
                    <a:pt x="9" y="225"/>
                    <a:pt x="0" y="245"/>
                  </a:cubicBez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Rectangle 1022"/>
            <p:cNvSpPr/>
            <p:nvPr/>
          </p:nvSpPr>
          <p:spPr>
            <a:xfrm>
              <a:off x="6569280" y="3773520"/>
              <a:ext cx="510480" cy="43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東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6521400" y="2565360"/>
              <a:ext cx="778320" cy="341280"/>
              <a:chOff x="6521400" y="2565360"/>
              <a:chExt cx="778320" cy="341280"/>
            </a:xfrm>
          </p:grpSpPr>
          <p:sp>
            <p:nvSpPr>
              <p:cNvPr id="420" name="円/楕円 159"/>
              <p:cNvSpPr/>
              <p:nvPr/>
            </p:nvSpPr>
            <p:spPr>
              <a:xfrm>
                <a:off x="6521400" y="2781360"/>
                <a:ext cx="125640" cy="125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Rectangle 926"/>
              <p:cNvSpPr/>
              <p:nvPr/>
            </p:nvSpPr>
            <p:spPr>
              <a:xfrm>
                <a:off x="6841800" y="2565360"/>
                <a:ext cx="457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新青森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659640" y="3357720"/>
              <a:ext cx="547920" cy="305280"/>
              <a:chOff x="6659640" y="3357720"/>
              <a:chExt cx="547920" cy="305280"/>
            </a:xfrm>
          </p:grpSpPr>
          <p:sp>
            <p:nvSpPr>
              <p:cNvPr id="423" name="円/楕円 170"/>
              <p:cNvSpPr/>
              <p:nvPr/>
            </p:nvSpPr>
            <p:spPr>
              <a:xfrm>
                <a:off x="6659640" y="3448080"/>
                <a:ext cx="125280" cy="125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Rectangle 926"/>
              <p:cNvSpPr/>
              <p:nvPr/>
            </p:nvSpPr>
            <p:spPr>
              <a:xfrm>
                <a:off x="6901920" y="335772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盛岡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6170760" y="4149720"/>
              <a:ext cx="463680" cy="359280"/>
              <a:chOff x="6170760" y="4149720"/>
              <a:chExt cx="463680" cy="359280"/>
            </a:xfrm>
          </p:grpSpPr>
          <p:sp>
            <p:nvSpPr>
              <p:cNvPr id="426" name="円/楕円 169"/>
              <p:cNvSpPr/>
              <p:nvPr/>
            </p:nvSpPr>
            <p:spPr>
              <a:xfrm>
                <a:off x="6170760" y="4149720"/>
                <a:ext cx="129960" cy="127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Rectangle 926"/>
              <p:cNvSpPr/>
              <p:nvPr/>
            </p:nvSpPr>
            <p:spPr>
              <a:xfrm>
                <a:off x="6328800" y="420372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仙台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5393880" y="5197320"/>
              <a:ext cx="305640" cy="392760"/>
              <a:chOff x="5393880" y="5197320"/>
              <a:chExt cx="305640" cy="392760"/>
            </a:xfrm>
          </p:grpSpPr>
          <p:sp>
            <p:nvSpPr>
              <p:cNvPr id="429" name="円/楕円 165"/>
              <p:cNvSpPr/>
              <p:nvPr/>
            </p:nvSpPr>
            <p:spPr>
              <a:xfrm>
                <a:off x="5499000" y="5197320"/>
                <a:ext cx="125640" cy="125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Rectangle 926"/>
              <p:cNvSpPr/>
              <p:nvPr/>
            </p:nvSpPr>
            <p:spPr>
              <a:xfrm>
                <a:off x="5393880" y="5284800"/>
                <a:ext cx="305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大宮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5564160" y="4995720"/>
            <a:ext cx="562320" cy="305280"/>
            <a:chOff x="5564160" y="4995720"/>
            <a:chExt cx="562320" cy="305280"/>
          </a:xfrm>
        </p:grpSpPr>
        <p:sp>
          <p:nvSpPr>
            <p:cNvPr id="432" name="Rectangle 926"/>
            <p:cNvSpPr/>
            <p:nvPr/>
          </p:nvSpPr>
          <p:spPr>
            <a:xfrm>
              <a:off x="58208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久喜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円/楕円 169"/>
            <p:cNvSpPr/>
            <p:nvPr/>
          </p:nvSpPr>
          <p:spPr>
            <a:xfrm>
              <a:off x="5564160" y="5076720"/>
              <a:ext cx="130320" cy="127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A5DC-EC01-4B99-9A02-1F112D42F7AE}" type="slidenum">
              <a:t>14</a:t>
            </a:fld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鉄道イノベーションが開く日本の未来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１．満員電車ゼロ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間の都心集中から脱し郊外が再活性化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２．有人自動運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全国の交通利便が格段に向上、国内回帰の礎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３．中速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地方のハンディが縮小、地方拠点都市が成長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４．羽田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日本の国際競争力が向上、地方も国際化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５．貨物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コロナ後の国外から地方への大転換を下支え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0ECB-90F6-44EF-8D67-2718245907C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鉄道イノベーション実現に向けた進捗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１．満員電車ゼロ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東京都の鉄道混雑緩和調査にてヒアリング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２．有人自動運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自動運転は鉄道業界の大きな関心事に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３．中速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国交省鉄道局の幹線鉄道調査に項目追加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４．羽田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ＪＲ東・東海いずれからも発案なし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５．貨物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コロナ禍を機に機運醸成を期待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DEBA-2068-4143-B219-9FF0BDFBA95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おわりに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社会と業界の考え・行動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鉄道はやるべきことはやり尽くした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鉄道は大発展しない、“非鉄”事業へ注力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素直に考えて鉄道はイノベーションの宝庫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ビジネスとして大マーケット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社会発展に大きく貢献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コロナ後は鉄道イノベーション実現チャンス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日露戦争後、第二次大戦後、中曽根改革に次ぐ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構想には自信あり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絶対に実現する覚悟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CFABB-520E-421B-8463-F1EC37D0A873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はじめに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古今東西全ての文明社会において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地域発展と交通充実は密接不可分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時代の最先端の交通を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導入できた地域・国家・民族は繁栄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日本の明治維新から高度成長期の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年間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鉄道の発展が社会を牽引、世界最先端の鉄道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以降の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年間、鉄道は他産業に出遅れ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改善余地が膨大にあり、イノベーションの宝庫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多数あるイノベーション提案から５つを紹介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コロナ禍の災いを転じて福と為したい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372E-1190-4422-AEE4-675C2D24FEA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１．満員電車ゼロ（輸送力増強で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現行の大都市鉄道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感染症クラスターのリスク、増発の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運転時隔を短縮して輸送力増強する５方策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折返し・停車時間のロス削減、ダイヤの工夫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車両の加減速度向上、信号の機能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５方策全ての実行により、余裕を持って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終端折返し路線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72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秒おき（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5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本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ｈ）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都心貫通路線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5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秒おき（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72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本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ｈ）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現行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12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18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秒おき（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ｈ）に対し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同じ線路のまま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.7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～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3.6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倍とできる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98F4-FCA2-44F7-9B30-E82828E3306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現行と５方策全て実行後の比較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21480" y="2276640"/>
            <a:ext cx="8690400" cy="1290600"/>
            <a:chOff x="321480" y="2276640"/>
            <a:chExt cx="8690400" cy="1290600"/>
          </a:xfrm>
        </p:grpSpPr>
        <p:grpSp>
          <p:nvGrpSpPr>
            <p:cNvPr id="85" name=""/>
            <p:cNvGrpSpPr/>
            <p:nvPr/>
          </p:nvGrpSpPr>
          <p:grpSpPr>
            <a:xfrm>
              <a:off x="1203480" y="2817720"/>
              <a:ext cx="7808400" cy="228600"/>
              <a:chOff x="1203480" y="2817720"/>
              <a:chExt cx="7808400" cy="228600"/>
            </a:xfrm>
          </p:grpSpPr>
          <p:sp>
            <p:nvSpPr>
              <p:cNvPr id="86" name=""/>
              <p:cNvSpPr/>
              <p:nvPr/>
            </p:nvSpPr>
            <p:spPr>
              <a:xfrm>
                <a:off x="1295280" y="2949480"/>
                <a:ext cx="7599240" cy="0"/>
              </a:xfrm>
              <a:prstGeom prst="line">
                <a:avLst/>
              </a:prstGeom>
              <a:ln w="127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20348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0204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40096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60096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32168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8204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16240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4168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52132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24204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36240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2240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08312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276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76132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203480" y="2386080"/>
              <a:ext cx="7808400" cy="228600"/>
              <a:chOff x="1203480" y="2386080"/>
              <a:chExt cx="7808400" cy="228600"/>
            </a:xfrm>
          </p:grpSpPr>
          <p:sp>
            <p:nvSpPr>
              <p:cNvPr id="103" name=""/>
              <p:cNvSpPr/>
              <p:nvPr/>
            </p:nvSpPr>
            <p:spPr>
              <a:xfrm>
                <a:off x="1295280" y="2517840"/>
                <a:ext cx="7598880" cy="0"/>
              </a:xfrm>
              <a:prstGeom prst="line">
                <a:avLst/>
              </a:prstGeom>
              <a:ln w="127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2034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80204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6096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0060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816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04060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416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22760" y="23860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2132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8816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62400" y="23860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4312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634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8276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76132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203480" y="3273480"/>
              <a:ext cx="7808400" cy="228600"/>
              <a:chOff x="1203480" y="3273480"/>
              <a:chExt cx="7808400" cy="228600"/>
            </a:xfrm>
          </p:grpSpPr>
          <p:sp>
            <p:nvSpPr>
              <p:cNvPr id="120" name=""/>
              <p:cNvSpPr/>
              <p:nvPr/>
            </p:nvSpPr>
            <p:spPr>
              <a:xfrm>
                <a:off x="1295280" y="3405240"/>
                <a:ext cx="7598880" cy="0"/>
              </a:xfrm>
              <a:prstGeom prst="line">
                <a:avLst/>
              </a:prstGeom>
              <a:ln w="127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20348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02040" y="32734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0204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6096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40096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32132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04060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16240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722760" y="32734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8168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4204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4312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2240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6348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83120" y="32734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76132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21480" y="2276640"/>
              <a:ext cx="640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ff00"/>
                  </a:solidFill>
                  <a:latin typeface="ＭＳ ゴシック"/>
                  <a:ea typeface="ＭＳ ゴシック"/>
                </a:rPr>
                <a:t>快速Ａ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1480" y="2708280"/>
              <a:ext cx="640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8000"/>
                  </a:solidFill>
                  <a:latin typeface="ＭＳ ゴシック"/>
                  <a:ea typeface="ＭＳ ゴシック"/>
                </a:rPr>
                <a:t>快速Ｂ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1480" y="3140280"/>
              <a:ext cx="640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ffff"/>
                  </a:solidFill>
                  <a:latin typeface="ＭＳ ゴシック"/>
                  <a:ea typeface="ＭＳ ゴシック"/>
                </a:rPr>
                <a:t>快速Ｃ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6120" y="871560"/>
            <a:ext cx="8551080" cy="1290600"/>
            <a:chOff x="456120" y="871560"/>
            <a:chExt cx="8551080" cy="1290600"/>
          </a:xfrm>
        </p:grpSpPr>
        <p:grpSp>
          <p:nvGrpSpPr>
            <p:cNvPr id="141" name=""/>
            <p:cNvGrpSpPr/>
            <p:nvPr/>
          </p:nvGrpSpPr>
          <p:grpSpPr>
            <a:xfrm>
              <a:off x="1198440" y="1878120"/>
              <a:ext cx="7808760" cy="228600"/>
              <a:chOff x="1198440" y="1878120"/>
              <a:chExt cx="7808760" cy="228600"/>
            </a:xfrm>
          </p:grpSpPr>
          <p:sp>
            <p:nvSpPr>
              <p:cNvPr id="142" name=""/>
              <p:cNvSpPr/>
              <p:nvPr/>
            </p:nvSpPr>
            <p:spPr>
              <a:xfrm>
                <a:off x="1290240" y="2009880"/>
                <a:ext cx="759960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9844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99700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79700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95628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39592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9592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31664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7700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0355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1573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3664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71772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5162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7664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23700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573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6380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173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55880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780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7772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7562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1198440" y="1446480"/>
              <a:ext cx="7808760" cy="228600"/>
              <a:chOff x="1198440" y="1446480"/>
              <a:chExt cx="7808760" cy="228600"/>
            </a:xfrm>
          </p:grpSpPr>
          <p:sp>
            <p:nvSpPr>
              <p:cNvPr id="166" name=""/>
              <p:cNvSpPr/>
              <p:nvPr/>
            </p:nvSpPr>
            <p:spPr>
              <a:xfrm>
                <a:off x="1290240" y="1578240"/>
                <a:ext cx="7599600" cy="0"/>
              </a:xfrm>
              <a:prstGeom prst="line">
                <a:avLst/>
              </a:prstGeom>
              <a:ln w="127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198440" y="1446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99700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56280" y="1446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16640" y="1446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03556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43664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1772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51628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23700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7772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75628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198440" y="1014480"/>
              <a:ext cx="7808760" cy="228600"/>
              <a:chOff x="1198440" y="1014480"/>
              <a:chExt cx="7808760" cy="228600"/>
            </a:xfrm>
          </p:grpSpPr>
          <p:sp>
            <p:nvSpPr>
              <p:cNvPr id="179" name=""/>
              <p:cNvSpPr/>
              <p:nvPr/>
            </p:nvSpPr>
            <p:spPr>
              <a:xfrm>
                <a:off x="1290600" y="1146240"/>
                <a:ext cx="7599240" cy="0"/>
              </a:xfrm>
              <a:prstGeom prst="line">
                <a:avLst/>
              </a:prstGeom>
              <a:ln w="127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9844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95628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1772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1628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78080" y="1014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756640" y="1014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456120" y="87156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0000"/>
                  </a:solidFill>
                  <a:latin typeface="ＭＳ ゴシック"/>
                  <a:ea typeface="ＭＳ ゴシック"/>
                </a:rPr>
                <a:t>特急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6120" y="130356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急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6120" y="173520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普通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018040" y="5300640"/>
            <a:ext cx="325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076720" y="5286240"/>
            <a:ext cx="532080" cy="9378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903640" y="4369320"/>
            <a:ext cx="532080" cy="937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912000" y="4387680"/>
            <a:ext cx="532080" cy="93780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562720" y="4995720"/>
            <a:ext cx="360360" cy="305280"/>
            <a:chOff x="5562720" y="4995720"/>
            <a:chExt cx="360360" cy="305280"/>
          </a:xfrm>
        </p:grpSpPr>
        <p:sp>
          <p:nvSpPr>
            <p:cNvPr id="194" name=""/>
            <p:cNvSpPr/>
            <p:nvPr/>
          </p:nvSpPr>
          <p:spPr>
            <a:xfrm>
              <a:off x="5562720" y="5300640"/>
              <a:ext cx="360360" cy="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066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875280" y="4995720"/>
            <a:ext cx="532080" cy="1228320"/>
            <a:chOff x="6875280" y="4995720"/>
            <a:chExt cx="532080" cy="1228320"/>
          </a:xfrm>
        </p:grpSpPr>
        <p:sp>
          <p:nvSpPr>
            <p:cNvPr id="197" name=""/>
            <p:cNvSpPr/>
            <p:nvPr/>
          </p:nvSpPr>
          <p:spPr>
            <a:xfrm flipV="1">
              <a:off x="6875280" y="5286600"/>
              <a:ext cx="532080" cy="93744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3692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3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694120" y="4392000"/>
            <a:ext cx="1072440" cy="1873800"/>
            <a:chOff x="5694120" y="4392000"/>
            <a:chExt cx="1072440" cy="1873800"/>
          </a:xfrm>
        </p:grpSpPr>
        <p:sp>
          <p:nvSpPr>
            <p:cNvPr id="200" name=""/>
            <p:cNvSpPr/>
            <p:nvPr/>
          </p:nvSpPr>
          <p:spPr>
            <a:xfrm flipV="1">
              <a:off x="5694120" y="4392000"/>
              <a:ext cx="1072440" cy="18738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5908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586480" y="3789360"/>
            <a:ext cx="1811160" cy="1501200"/>
            <a:chOff x="5586480" y="3789360"/>
            <a:chExt cx="1811160" cy="1501200"/>
          </a:xfrm>
        </p:grpSpPr>
        <p:sp>
          <p:nvSpPr>
            <p:cNvPr id="203" name=""/>
            <p:cNvSpPr/>
            <p:nvPr/>
          </p:nvSpPr>
          <p:spPr>
            <a:xfrm flipV="1">
              <a:off x="558648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739764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86480" y="4046400"/>
              <a:ext cx="180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56560" y="3789360"/>
              <a:ext cx="1073160" cy="48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135</a:t>
              </a:r>
              <a:r>
                <a:rPr b="1" lang="ja-JP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647320" y="6254640"/>
            <a:ext cx="1560960" cy="48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45</a:t>
            </a:r>
            <a:r>
              <a:rPr b="1" lang="ja-JP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秒に１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084720" y="4995720"/>
            <a:ext cx="532080" cy="1228320"/>
            <a:chOff x="6084720" y="4995720"/>
            <a:chExt cx="532080" cy="1228320"/>
          </a:xfrm>
        </p:grpSpPr>
        <p:sp>
          <p:nvSpPr>
            <p:cNvPr id="209" name=""/>
            <p:cNvSpPr/>
            <p:nvPr/>
          </p:nvSpPr>
          <p:spPr>
            <a:xfrm flipV="1">
              <a:off x="6084720" y="5286600"/>
              <a:ext cx="532080" cy="93744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0360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585120" y="4995720"/>
            <a:ext cx="360360" cy="305280"/>
            <a:chOff x="6585120" y="4995720"/>
            <a:chExt cx="360360" cy="305280"/>
          </a:xfrm>
        </p:grpSpPr>
        <p:sp>
          <p:nvSpPr>
            <p:cNvPr id="212" name=""/>
            <p:cNvSpPr/>
            <p:nvPr/>
          </p:nvSpPr>
          <p:spPr>
            <a:xfrm>
              <a:off x="6585120" y="5300640"/>
              <a:ext cx="360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326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666960" y="909720"/>
            <a:ext cx="360360" cy="1295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295280"/>
              <a:gd name="textAreaBottom" fmla="*/ 1278000 h 1295280"/>
            </a:gdLst>
            <a:ahLst/>
            <a:rect l="textAreaLeft" t="textAreaTop" r="textAreaRight" b="textAreaBottom"/>
            <a:pathLst>
              <a:path w="21600" h="77583">
                <a:moveTo>
                  <a:pt x="3600" y="0"/>
                </a:moveTo>
                <a:arcTo wR="3600" hR="3600" stAng="16200000" swAng="-5400000"/>
                <a:lnTo>
                  <a:pt x="0" y="73983"/>
                </a:lnTo>
                <a:arcTo wR="3600" hR="3600" stAng="10800000" swAng="-5400000"/>
                <a:lnTo>
                  <a:pt x="18000" y="775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66960" y="2300400"/>
            <a:ext cx="360360" cy="1295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295280"/>
              <a:gd name="textAreaBottom" fmla="*/ 1278000 h 1295280"/>
            </a:gdLst>
            <a:ahLst/>
            <a:rect l="textAreaLeft" t="textAreaTop" r="textAreaRight" b="textAreaBottom"/>
            <a:pathLst>
              <a:path w="21600" h="77583">
                <a:moveTo>
                  <a:pt x="3600" y="0"/>
                </a:moveTo>
                <a:arcTo wR="3600" hR="3600" stAng="16200000" swAng="-5400000"/>
                <a:lnTo>
                  <a:pt x="0" y="73983"/>
                </a:lnTo>
                <a:arcTo wR="3600" hR="3600" stAng="10800000" swAng="-5400000"/>
                <a:lnTo>
                  <a:pt x="18000" y="775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90640" y="5300640"/>
            <a:ext cx="325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901440" y="5286240"/>
            <a:ext cx="532080" cy="937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730160" y="4369320"/>
            <a:ext cx="532080" cy="937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20720" y="4369320"/>
            <a:ext cx="532080" cy="937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313080" y="4369320"/>
            <a:ext cx="532080" cy="937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05080" y="4995720"/>
            <a:ext cx="360360" cy="305280"/>
            <a:chOff x="1405080" y="4995720"/>
            <a:chExt cx="360360" cy="305280"/>
          </a:xfrm>
        </p:grpSpPr>
        <p:sp>
          <p:nvSpPr>
            <p:cNvPr id="222" name=""/>
            <p:cNvSpPr/>
            <p:nvPr/>
          </p:nvSpPr>
          <p:spPr>
            <a:xfrm>
              <a:off x="1405080" y="5300640"/>
              <a:ext cx="360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396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693800" y="4995720"/>
            <a:ext cx="532080" cy="1229760"/>
            <a:chOff x="1693800" y="4995720"/>
            <a:chExt cx="532080" cy="1229760"/>
          </a:xfrm>
        </p:grpSpPr>
        <p:sp>
          <p:nvSpPr>
            <p:cNvPr id="225" name=""/>
            <p:cNvSpPr/>
            <p:nvPr/>
          </p:nvSpPr>
          <p:spPr>
            <a:xfrm flipV="1">
              <a:off x="1693800" y="5287680"/>
              <a:ext cx="532080" cy="9378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4608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195640" y="4995720"/>
            <a:ext cx="360360" cy="305280"/>
            <a:chOff x="2195640" y="4995720"/>
            <a:chExt cx="360360" cy="305280"/>
          </a:xfrm>
        </p:grpSpPr>
        <p:sp>
          <p:nvSpPr>
            <p:cNvPr id="228" name=""/>
            <p:cNvSpPr/>
            <p:nvPr/>
          </p:nvSpPr>
          <p:spPr>
            <a:xfrm>
              <a:off x="2195640" y="5300640"/>
              <a:ext cx="36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2696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485800" y="4995720"/>
            <a:ext cx="532080" cy="1228320"/>
            <a:chOff x="2485800" y="4995720"/>
            <a:chExt cx="532080" cy="1228320"/>
          </a:xfrm>
        </p:grpSpPr>
        <p:sp>
          <p:nvSpPr>
            <p:cNvPr id="231" name=""/>
            <p:cNvSpPr/>
            <p:nvPr/>
          </p:nvSpPr>
          <p:spPr>
            <a:xfrm flipV="1">
              <a:off x="2485800" y="5286600"/>
              <a:ext cx="532080" cy="937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3952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986200" y="4995720"/>
            <a:ext cx="360360" cy="305280"/>
            <a:chOff x="2986200" y="4995720"/>
            <a:chExt cx="360360" cy="305280"/>
          </a:xfrm>
        </p:grpSpPr>
        <p:sp>
          <p:nvSpPr>
            <p:cNvPr id="234" name=""/>
            <p:cNvSpPr/>
            <p:nvPr/>
          </p:nvSpPr>
          <p:spPr>
            <a:xfrm>
              <a:off x="2986200" y="5300640"/>
              <a:ext cx="360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128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276360" y="4995720"/>
            <a:ext cx="532080" cy="1228320"/>
            <a:chOff x="3276360" y="4995720"/>
            <a:chExt cx="532080" cy="1228320"/>
          </a:xfrm>
        </p:grpSpPr>
        <p:sp>
          <p:nvSpPr>
            <p:cNvPr id="237" name=""/>
            <p:cNvSpPr/>
            <p:nvPr/>
          </p:nvSpPr>
          <p:spPr>
            <a:xfrm flipV="1">
              <a:off x="3276360" y="5286600"/>
              <a:ext cx="532080" cy="937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3980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425600" y="3773520"/>
            <a:ext cx="2378160" cy="1517040"/>
            <a:chOff x="1425600" y="3773520"/>
            <a:chExt cx="2378160" cy="1517040"/>
          </a:xfrm>
        </p:grpSpPr>
        <p:sp>
          <p:nvSpPr>
            <p:cNvPr id="240" name=""/>
            <p:cNvSpPr/>
            <p:nvPr/>
          </p:nvSpPr>
          <p:spPr>
            <a:xfrm flipV="1">
              <a:off x="142560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80376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36760" y="4030560"/>
              <a:ext cx="23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21120" y="3773520"/>
              <a:ext cx="1073160" cy="48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390</a:t>
              </a:r>
              <a:r>
                <a:rPr b="1" lang="ja-JP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703520" y="6254640"/>
            <a:ext cx="1804680" cy="48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130</a:t>
            </a:r>
            <a:r>
              <a:rPr b="1" lang="ja-JP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秒に１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3CDA-806D-47B1-B570-80A3B487196B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実行資金の確保策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感染症リスク回避のニーズが顕在化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満員電車解消の資金手当ての重要性が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着席割増料金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着席は立席より商品価値も生産コストも高い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首都圏の鉄道売上げ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３兆円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、平均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円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人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平均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4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円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人のアップ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％の増収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6,00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億円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着席時間に応じて課金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右図の方式で簡便に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796000" y="4233960"/>
            <a:ext cx="3889440" cy="2724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30872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3735-6A0B-4AB8-BC68-A890FBC71D20}" type="slidenum">
              <a: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&lt;number&gt;</a:t>
            </a:fld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A596-5A5F-45D9-B820-51C4EB4CBF65}" type="slidenum">
              <a:t>5</a:t>
            </a:fld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ＭＳ Ｐゴシック"/>
              </a:rPr>
              <a:t>詳細は著書に</a:t>
            </a:r>
            <a:endParaRPr b="1" lang="en-US" sz="4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819600" y="-100080"/>
            <a:ext cx="4929120" cy="698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F2E2-1E95-471B-874C-77770D788C16}" type="slidenum">
              <a:t>6</a:t>
            </a:fld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２．有人自動運転（無人運転でなく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ピーク時外に高頻度運転できない理由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運転士の免許基準が高度で人件費が高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有人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”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自動運転による超高頻度化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全て安全側に判断するシステムは容易に開発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国家資格が不要のシニアの監視員が乗務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人件費が数分の１ ⇒ 同コストで数倍の運行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全鉄道を超高頻度化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Ｎ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’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ＥＸ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3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～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6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埼京線快速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→５分お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地方鉄道：１時間おき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5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D833-1043-4B3E-B8B5-612D5CB8BF7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３．中速新幹線（フル規格でなく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54" name=""/>
          <p:cNvSpPr/>
          <p:nvPr/>
        </p:nvSpPr>
        <p:spPr>
          <a:xfrm>
            <a:off x="141120" y="4941720"/>
            <a:ext cx="9109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フル規格新幹線の完成は早くとも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14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年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在来線を活用して最高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0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50km/h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中速新幹線へ方針転換して完成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4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代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403280" y="115920"/>
            <a:ext cx="6689520" cy="4882680"/>
            <a:chOff x="1403280" y="115920"/>
            <a:chExt cx="6689520" cy="4882680"/>
          </a:xfrm>
        </p:grpSpPr>
        <p:sp>
          <p:nvSpPr>
            <p:cNvPr id="256" name="Freeform 799"/>
            <p:cNvSpPr/>
            <p:nvPr/>
          </p:nvSpPr>
          <p:spPr>
            <a:xfrm>
              <a:off x="1725840" y="4219200"/>
              <a:ext cx="383400" cy="182880"/>
            </a:xfrm>
            <a:custGeom>
              <a:avLst/>
              <a:gdLst/>
              <a:ahLst/>
              <a:rect l="l" t="t" r="r" b="b"/>
              <a:pathLst>
                <a:path w="227" h="110">
                  <a:moveTo>
                    <a:pt x="0" y="74"/>
                  </a:moveTo>
                  <a:lnTo>
                    <a:pt x="215" y="0"/>
                  </a:lnTo>
                  <a:lnTo>
                    <a:pt x="219" y="12"/>
                  </a:lnTo>
                  <a:lnTo>
                    <a:pt x="5" y="86"/>
                  </a:lnTo>
                  <a:lnTo>
                    <a:pt x="0" y="74"/>
                  </a:lnTo>
                  <a:close/>
                  <a:moveTo>
                    <a:pt x="9" y="98"/>
                  </a:moveTo>
                  <a:lnTo>
                    <a:pt x="223" y="24"/>
                  </a:lnTo>
                  <a:lnTo>
                    <a:pt x="227" y="36"/>
                  </a:lnTo>
                  <a:lnTo>
                    <a:pt x="13" y="110"/>
                  </a:lnTo>
                  <a:lnTo>
                    <a:pt x="9" y="98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800"/>
            <p:cNvSpPr/>
            <p:nvPr/>
          </p:nvSpPr>
          <p:spPr>
            <a:xfrm>
              <a:off x="1579680" y="3954600"/>
              <a:ext cx="523440" cy="787320"/>
            </a:xfrm>
            <a:custGeom>
              <a:avLst/>
              <a:gdLst/>
              <a:ahLst/>
              <a:rect l="l" t="t" r="r" b="b"/>
              <a:pathLst>
                <a:path w="3283" h="4932">
                  <a:moveTo>
                    <a:pt x="0" y="4532"/>
                  </a:moveTo>
                  <a:lnTo>
                    <a:pt x="304" y="4528"/>
                  </a:lnTo>
                  <a:lnTo>
                    <a:pt x="397" y="4524"/>
                  </a:lnTo>
                  <a:lnTo>
                    <a:pt x="487" y="4518"/>
                  </a:lnTo>
                  <a:lnTo>
                    <a:pt x="573" y="4511"/>
                  </a:lnTo>
                  <a:lnTo>
                    <a:pt x="744" y="4490"/>
                  </a:lnTo>
                  <a:lnTo>
                    <a:pt x="830" y="4479"/>
                  </a:lnTo>
                  <a:lnTo>
                    <a:pt x="920" y="4466"/>
                  </a:lnTo>
                  <a:lnTo>
                    <a:pt x="1013" y="4453"/>
                  </a:lnTo>
                  <a:lnTo>
                    <a:pt x="1108" y="4440"/>
                  </a:lnTo>
                  <a:lnTo>
                    <a:pt x="1296" y="4410"/>
                  </a:lnTo>
                  <a:lnTo>
                    <a:pt x="1385" y="4393"/>
                  </a:lnTo>
                  <a:lnTo>
                    <a:pt x="1469" y="4375"/>
                  </a:lnTo>
                  <a:lnTo>
                    <a:pt x="1548" y="4356"/>
                  </a:lnTo>
                  <a:lnTo>
                    <a:pt x="1621" y="4335"/>
                  </a:lnTo>
                  <a:lnTo>
                    <a:pt x="1688" y="4312"/>
                  </a:lnTo>
                  <a:lnTo>
                    <a:pt x="1755" y="4289"/>
                  </a:lnTo>
                  <a:lnTo>
                    <a:pt x="1813" y="4266"/>
                  </a:lnTo>
                  <a:lnTo>
                    <a:pt x="1869" y="4241"/>
                  </a:lnTo>
                  <a:lnTo>
                    <a:pt x="1918" y="4215"/>
                  </a:lnTo>
                  <a:lnTo>
                    <a:pt x="1963" y="4187"/>
                  </a:lnTo>
                  <a:lnTo>
                    <a:pt x="2005" y="4157"/>
                  </a:lnTo>
                  <a:lnTo>
                    <a:pt x="2040" y="4126"/>
                  </a:lnTo>
                  <a:lnTo>
                    <a:pt x="2073" y="4091"/>
                  </a:lnTo>
                  <a:lnTo>
                    <a:pt x="2102" y="4052"/>
                  </a:lnTo>
                  <a:lnTo>
                    <a:pt x="2133" y="4005"/>
                  </a:lnTo>
                  <a:lnTo>
                    <a:pt x="2163" y="3952"/>
                  </a:lnTo>
                  <a:lnTo>
                    <a:pt x="2222" y="3836"/>
                  </a:lnTo>
                  <a:lnTo>
                    <a:pt x="2248" y="3781"/>
                  </a:lnTo>
                  <a:lnTo>
                    <a:pt x="2276" y="3723"/>
                  </a:lnTo>
                  <a:lnTo>
                    <a:pt x="2297" y="3677"/>
                  </a:lnTo>
                  <a:lnTo>
                    <a:pt x="2310" y="3640"/>
                  </a:lnTo>
                  <a:lnTo>
                    <a:pt x="2321" y="3606"/>
                  </a:lnTo>
                  <a:lnTo>
                    <a:pt x="2333" y="3567"/>
                  </a:lnTo>
                  <a:lnTo>
                    <a:pt x="2343" y="3527"/>
                  </a:lnTo>
                  <a:lnTo>
                    <a:pt x="2358" y="3477"/>
                  </a:lnTo>
                  <a:lnTo>
                    <a:pt x="2375" y="3421"/>
                  </a:lnTo>
                  <a:lnTo>
                    <a:pt x="2398" y="3356"/>
                  </a:lnTo>
                  <a:lnTo>
                    <a:pt x="2424" y="3290"/>
                  </a:lnTo>
                  <a:lnTo>
                    <a:pt x="2452" y="3221"/>
                  </a:lnTo>
                  <a:lnTo>
                    <a:pt x="2481" y="3152"/>
                  </a:lnTo>
                  <a:lnTo>
                    <a:pt x="2511" y="3080"/>
                  </a:lnTo>
                  <a:lnTo>
                    <a:pt x="2572" y="2930"/>
                  </a:lnTo>
                  <a:lnTo>
                    <a:pt x="2634" y="2773"/>
                  </a:lnTo>
                  <a:lnTo>
                    <a:pt x="2672" y="2682"/>
                  </a:lnTo>
                  <a:lnTo>
                    <a:pt x="2718" y="2583"/>
                  </a:lnTo>
                  <a:lnTo>
                    <a:pt x="2765" y="2486"/>
                  </a:lnTo>
                  <a:lnTo>
                    <a:pt x="2810" y="2390"/>
                  </a:lnTo>
                  <a:lnTo>
                    <a:pt x="2847" y="2301"/>
                  </a:lnTo>
                  <a:lnTo>
                    <a:pt x="2859" y="2265"/>
                  </a:lnTo>
                  <a:lnTo>
                    <a:pt x="2871" y="2223"/>
                  </a:lnTo>
                  <a:lnTo>
                    <a:pt x="2878" y="2190"/>
                  </a:lnTo>
                  <a:lnTo>
                    <a:pt x="2882" y="2158"/>
                  </a:lnTo>
                  <a:lnTo>
                    <a:pt x="2883" y="2131"/>
                  </a:lnTo>
                  <a:lnTo>
                    <a:pt x="2881" y="2113"/>
                  </a:lnTo>
                  <a:lnTo>
                    <a:pt x="2876" y="2092"/>
                  </a:lnTo>
                  <a:lnTo>
                    <a:pt x="2870" y="2070"/>
                  </a:lnTo>
                  <a:lnTo>
                    <a:pt x="2858" y="2042"/>
                  </a:lnTo>
                  <a:lnTo>
                    <a:pt x="2828" y="1992"/>
                  </a:lnTo>
                  <a:lnTo>
                    <a:pt x="2793" y="1948"/>
                  </a:lnTo>
                  <a:lnTo>
                    <a:pt x="2743" y="1892"/>
                  </a:lnTo>
                  <a:lnTo>
                    <a:pt x="2714" y="1860"/>
                  </a:lnTo>
                  <a:lnTo>
                    <a:pt x="2677" y="1818"/>
                  </a:lnTo>
                  <a:lnTo>
                    <a:pt x="2641" y="1778"/>
                  </a:lnTo>
                  <a:lnTo>
                    <a:pt x="2598" y="1730"/>
                  </a:lnTo>
                  <a:lnTo>
                    <a:pt x="2555" y="1677"/>
                  </a:lnTo>
                  <a:lnTo>
                    <a:pt x="2508" y="1619"/>
                  </a:lnTo>
                  <a:lnTo>
                    <a:pt x="2461" y="1560"/>
                  </a:lnTo>
                  <a:lnTo>
                    <a:pt x="2412" y="1499"/>
                  </a:lnTo>
                  <a:lnTo>
                    <a:pt x="2360" y="1435"/>
                  </a:lnTo>
                  <a:lnTo>
                    <a:pt x="2305" y="1367"/>
                  </a:lnTo>
                  <a:lnTo>
                    <a:pt x="2187" y="1225"/>
                  </a:lnTo>
                  <a:lnTo>
                    <a:pt x="2060" y="1073"/>
                  </a:lnTo>
                  <a:lnTo>
                    <a:pt x="1926" y="915"/>
                  </a:lnTo>
                  <a:lnTo>
                    <a:pt x="1786" y="750"/>
                  </a:lnTo>
                  <a:lnTo>
                    <a:pt x="1643" y="582"/>
                  </a:lnTo>
                  <a:lnTo>
                    <a:pt x="1368" y="259"/>
                  </a:lnTo>
                  <a:lnTo>
                    <a:pt x="1470" y="172"/>
                  </a:lnTo>
                  <a:lnTo>
                    <a:pt x="1744" y="495"/>
                  </a:lnTo>
                  <a:lnTo>
                    <a:pt x="1888" y="664"/>
                  </a:lnTo>
                  <a:lnTo>
                    <a:pt x="2028" y="829"/>
                  </a:lnTo>
                  <a:lnTo>
                    <a:pt x="2162" y="988"/>
                  </a:lnTo>
                  <a:lnTo>
                    <a:pt x="2290" y="1140"/>
                  </a:lnTo>
                  <a:lnTo>
                    <a:pt x="2408" y="1283"/>
                  </a:lnTo>
                  <a:lnTo>
                    <a:pt x="2464" y="1351"/>
                  </a:lnTo>
                  <a:lnTo>
                    <a:pt x="2516" y="1416"/>
                  </a:lnTo>
                  <a:lnTo>
                    <a:pt x="2566" y="1477"/>
                  </a:lnTo>
                  <a:lnTo>
                    <a:pt x="2612" y="1536"/>
                  </a:lnTo>
                  <a:lnTo>
                    <a:pt x="2657" y="1592"/>
                  </a:lnTo>
                  <a:lnTo>
                    <a:pt x="2699" y="1642"/>
                  </a:lnTo>
                  <a:lnTo>
                    <a:pt x="2740" y="1689"/>
                  </a:lnTo>
                  <a:lnTo>
                    <a:pt x="2777" y="1730"/>
                  </a:lnTo>
                  <a:lnTo>
                    <a:pt x="2812" y="1770"/>
                  </a:lnTo>
                  <a:lnTo>
                    <a:pt x="2844" y="1804"/>
                  </a:lnTo>
                  <a:lnTo>
                    <a:pt x="2899" y="1867"/>
                  </a:lnTo>
                  <a:lnTo>
                    <a:pt x="2943" y="1924"/>
                  </a:lnTo>
                  <a:lnTo>
                    <a:pt x="2978" y="1983"/>
                  </a:lnTo>
                  <a:lnTo>
                    <a:pt x="3000" y="2039"/>
                  </a:lnTo>
                  <a:lnTo>
                    <a:pt x="3008" y="2071"/>
                  </a:lnTo>
                  <a:lnTo>
                    <a:pt x="3014" y="2105"/>
                  </a:lnTo>
                  <a:lnTo>
                    <a:pt x="3016" y="2139"/>
                  </a:lnTo>
                  <a:lnTo>
                    <a:pt x="3014" y="2178"/>
                  </a:lnTo>
                  <a:lnTo>
                    <a:pt x="3008" y="2220"/>
                  </a:lnTo>
                  <a:lnTo>
                    <a:pt x="2999" y="2262"/>
                  </a:lnTo>
                  <a:lnTo>
                    <a:pt x="2985" y="2307"/>
                  </a:lnTo>
                  <a:lnTo>
                    <a:pt x="2970" y="2352"/>
                  </a:lnTo>
                  <a:lnTo>
                    <a:pt x="2931" y="2447"/>
                  </a:lnTo>
                  <a:lnTo>
                    <a:pt x="2885" y="2544"/>
                  </a:lnTo>
                  <a:lnTo>
                    <a:pt x="2839" y="2640"/>
                  </a:lnTo>
                  <a:lnTo>
                    <a:pt x="2795" y="2734"/>
                  </a:lnTo>
                  <a:lnTo>
                    <a:pt x="2758" y="2821"/>
                  </a:lnTo>
                  <a:lnTo>
                    <a:pt x="2696" y="2981"/>
                  </a:lnTo>
                  <a:lnTo>
                    <a:pt x="2634" y="3132"/>
                  </a:lnTo>
                  <a:lnTo>
                    <a:pt x="2604" y="3203"/>
                  </a:lnTo>
                  <a:lnTo>
                    <a:pt x="2575" y="3272"/>
                  </a:lnTo>
                  <a:lnTo>
                    <a:pt x="2548" y="3338"/>
                  </a:lnTo>
                  <a:lnTo>
                    <a:pt x="2524" y="3401"/>
                  </a:lnTo>
                  <a:lnTo>
                    <a:pt x="2502" y="3461"/>
                  </a:lnTo>
                  <a:lnTo>
                    <a:pt x="2486" y="3514"/>
                  </a:lnTo>
                  <a:lnTo>
                    <a:pt x="2472" y="3562"/>
                  </a:lnTo>
                  <a:lnTo>
                    <a:pt x="2461" y="3605"/>
                  </a:lnTo>
                  <a:lnTo>
                    <a:pt x="2448" y="3647"/>
                  </a:lnTo>
                  <a:lnTo>
                    <a:pt x="2435" y="3688"/>
                  </a:lnTo>
                  <a:lnTo>
                    <a:pt x="2418" y="3732"/>
                  </a:lnTo>
                  <a:lnTo>
                    <a:pt x="2396" y="3781"/>
                  </a:lnTo>
                  <a:lnTo>
                    <a:pt x="2369" y="3838"/>
                  </a:lnTo>
                  <a:lnTo>
                    <a:pt x="2341" y="3896"/>
                  </a:lnTo>
                  <a:lnTo>
                    <a:pt x="2278" y="4019"/>
                  </a:lnTo>
                  <a:lnTo>
                    <a:pt x="2244" y="4079"/>
                  </a:lnTo>
                  <a:lnTo>
                    <a:pt x="2207" y="4134"/>
                  </a:lnTo>
                  <a:lnTo>
                    <a:pt x="2169" y="4184"/>
                  </a:lnTo>
                  <a:lnTo>
                    <a:pt x="2127" y="4228"/>
                  </a:lnTo>
                  <a:lnTo>
                    <a:pt x="2082" y="4266"/>
                  </a:lnTo>
                  <a:lnTo>
                    <a:pt x="2032" y="4301"/>
                  </a:lnTo>
                  <a:lnTo>
                    <a:pt x="1979" y="4333"/>
                  </a:lnTo>
                  <a:lnTo>
                    <a:pt x="1923" y="4363"/>
                  </a:lnTo>
                  <a:lnTo>
                    <a:pt x="1863" y="4390"/>
                  </a:lnTo>
                  <a:lnTo>
                    <a:pt x="1799" y="4415"/>
                  </a:lnTo>
                  <a:lnTo>
                    <a:pt x="1730" y="4439"/>
                  </a:lnTo>
                  <a:lnTo>
                    <a:pt x="1658" y="4463"/>
                  </a:lnTo>
                  <a:lnTo>
                    <a:pt x="1580" y="4485"/>
                  </a:lnTo>
                  <a:lnTo>
                    <a:pt x="1497" y="4506"/>
                  </a:lnTo>
                  <a:lnTo>
                    <a:pt x="1408" y="4524"/>
                  </a:lnTo>
                  <a:lnTo>
                    <a:pt x="1317" y="4541"/>
                  </a:lnTo>
                  <a:lnTo>
                    <a:pt x="1127" y="4572"/>
                  </a:lnTo>
                  <a:lnTo>
                    <a:pt x="1032" y="4585"/>
                  </a:lnTo>
                  <a:lnTo>
                    <a:pt x="938" y="4598"/>
                  </a:lnTo>
                  <a:lnTo>
                    <a:pt x="848" y="4611"/>
                  </a:lnTo>
                  <a:lnTo>
                    <a:pt x="760" y="4623"/>
                  </a:lnTo>
                  <a:lnTo>
                    <a:pt x="585" y="4644"/>
                  </a:lnTo>
                  <a:lnTo>
                    <a:pt x="495" y="4651"/>
                  </a:lnTo>
                  <a:lnTo>
                    <a:pt x="403" y="4657"/>
                  </a:lnTo>
                  <a:lnTo>
                    <a:pt x="306" y="4661"/>
                  </a:lnTo>
                  <a:lnTo>
                    <a:pt x="2" y="4666"/>
                  </a:lnTo>
                  <a:lnTo>
                    <a:pt x="0" y="4532"/>
                  </a:lnTo>
                  <a:close/>
                  <a:moveTo>
                    <a:pt x="3" y="4799"/>
                  </a:moveTo>
                  <a:lnTo>
                    <a:pt x="307" y="4795"/>
                  </a:lnTo>
                  <a:lnTo>
                    <a:pt x="408" y="4791"/>
                  </a:lnTo>
                  <a:lnTo>
                    <a:pt x="504" y="4784"/>
                  </a:lnTo>
                  <a:lnTo>
                    <a:pt x="596" y="4776"/>
                  </a:lnTo>
                  <a:lnTo>
                    <a:pt x="776" y="4755"/>
                  </a:lnTo>
                  <a:lnTo>
                    <a:pt x="866" y="4743"/>
                  </a:lnTo>
                  <a:lnTo>
                    <a:pt x="957" y="4731"/>
                  </a:lnTo>
                  <a:lnTo>
                    <a:pt x="1050" y="4717"/>
                  </a:lnTo>
                  <a:lnTo>
                    <a:pt x="1145" y="4704"/>
                  </a:lnTo>
                  <a:lnTo>
                    <a:pt x="1338" y="4673"/>
                  </a:lnTo>
                  <a:lnTo>
                    <a:pt x="1432" y="4656"/>
                  </a:lnTo>
                  <a:lnTo>
                    <a:pt x="1524" y="4636"/>
                  </a:lnTo>
                  <a:lnTo>
                    <a:pt x="1612" y="4615"/>
                  </a:lnTo>
                  <a:lnTo>
                    <a:pt x="1694" y="4591"/>
                  </a:lnTo>
                  <a:lnTo>
                    <a:pt x="1771" y="4566"/>
                  </a:lnTo>
                  <a:lnTo>
                    <a:pt x="1843" y="4541"/>
                  </a:lnTo>
                  <a:lnTo>
                    <a:pt x="1912" y="4513"/>
                  </a:lnTo>
                  <a:lnTo>
                    <a:pt x="1978" y="4484"/>
                  </a:lnTo>
                  <a:lnTo>
                    <a:pt x="2041" y="4452"/>
                  </a:lnTo>
                  <a:lnTo>
                    <a:pt x="2101" y="4416"/>
                  </a:lnTo>
                  <a:lnTo>
                    <a:pt x="2158" y="4376"/>
                  </a:lnTo>
                  <a:lnTo>
                    <a:pt x="2213" y="4329"/>
                  </a:lnTo>
                  <a:lnTo>
                    <a:pt x="2265" y="4276"/>
                  </a:lnTo>
                  <a:lnTo>
                    <a:pt x="2312" y="4216"/>
                  </a:lnTo>
                  <a:lnTo>
                    <a:pt x="2355" y="4152"/>
                  </a:lnTo>
                  <a:lnTo>
                    <a:pt x="2394" y="4087"/>
                  </a:lnTo>
                  <a:lnTo>
                    <a:pt x="2460" y="3957"/>
                  </a:lnTo>
                  <a:lnTo>
                    <a:pt x="2489" y="3894"/>
                  </a:lnTo>
                  <a:lnTo>
                    <a:pt x="2516" y="3839"/>
                  </a:lnTo>
                  <a:lnTo>
                    <a:pt x="2540" y="3786"/>
                  </a:lnTo>
                  <a:lnTo>
                    <a:pt x="2559" y="3736"/>
                  </a:lnTo>
                  <a:lnTo>
                    <a:pt x="2575" y="3688"/>
                  </a:lnTo>
                  <a:lnTo>
                    <a:pt x="2588" y="3643"/>
                  </a:lnTo>
                  <a:lnTo>
                    <a:pt x="2601" y="3597"/>
                  </a:lnTo>
                  <a:lnTo>
                    <a:pt x="2614" y="3550"/>
                  </a:lnTo>
                  <a:lnTo>
                    <a:pt x="2630" y="3501"/>
                  </a:lnTo>
                  <a:lnTo>
                    <a:pt x="2649" y="3447"/>
                  </a:lnTo>
                  <a:lnTo>
                    <a:pt x="2673" y="3386"/>
                  </a:lnTo>
                  <a:lnTo>
                    <a:pt x="2699" y="3322"/>
                  </a:lnTo>
                  <a:lnTo>
                    <a:pt x="2727" y="3254"/>
                  </a:lnTo>
                  <a:lnTo>
                    <a:pt x="2757" y="3183"/>
                  </a:lnTo>
                  <a:lnTo>
                    <a:pt x="2819" y="3032"/>
                  </a:lnTo>
                  <a:lnTo>
                    <a:pt x="2883" y="2870"/>
                  </a:lnTo>
                  <a:lnTo>
                    <a:pt x="2918" y="2785"/>
                  </a:lnTo>
                  <a:lnTo>
                    <a:pt x="2960" y="2696"/>
                  </a:lnTo>
                  <a:lnTo>
                    <a:pt x="3006" y="2601"/>
                  </a:lnTo>
                  <a:lnTo>
                    <a:pt x="3051" y="2503"/>
                  </a:lnTo>
                  <a:lnTo>
                    <a:pt x="3093" y="2403"/>
                  </a:lnTo>
                  <a:lnTo>
                    <a:pt x="3111" y="2350"/>
                  </a:lnTo>
                  <a:lnTo>
                    <a:pt x="3126" y="2300"/>
                  </a:lnTo>
                  <a:lnTo>
                    <a:pt x="3138" y="2249"/>
                  </a:lnTo>
                  <a:lnTo>
                    <a:pt x="3146" y="2198"/>
                  </a:lnTo>
                  <a:lnTo>
                    <a:pt x="3149" y="2148"/>
                  </a:lnTo>
                  <a:lnTo>
                    <a:pt x="3147" y="2097"/>
                  </a:lnTo>
                  <a:lnTo>
                    <a:pt x="3140" y="2050"/>
                  </a:lnTo>
                  <a:lnTo>
                    <a:pt x="3130" y="2007"/>
                  </a:lnTo>
                  <a:lnTo>
                    <a:pt x="3100" y="1930"/>
                  </a:lnTo>
                  <a:cubicBezTo>
                    <a:pt x="3099" y="1926"/>
                    <a:pt x="3097" y="1923"/>
                    <a:pt x="3095" y="1920"/>
                  </a:cubicBezTo>
                  <a:lnTo>
                    <a:pt x="3057" y="1856"/>
                  </a:lnTo>
                  <a:lnTo>
                    <a:pt x="3005" y="1787"/>
                  </a:lnTo>
                  <a:lnTo>
                    <a:pt x="2944" y="1717"/>
                  </a:lnTo>
                  <a:lnTo>
                    <a:pt x="2910" y="1679"/>
                  </a:lnTo>
                  <a:lnTo>
                    <a:pt x="2876" y="1641"/>
                  </a:lnTo>
                  <a:lnTo>
                    <a:pt x="2838" y="1599"/>
                  </a:lnTo>
                  <a:lnTo>
                    <a:pt x="2800" y="1555"/>
                  </a:lnTo>
                  <a:lnTo>
                    <a:pt x="2759" y="1506"/>
                  </a:lnTo>
                  <a:lnTo>
                    <a:pt x="2717" y="1453"/>
                  </a:lnTo>
                  <a:lnTo>
                    <a:pt x="2670" y="1394"/>
                  </a:lnTo>
                  <a:lnTo>
                    <a:pt x="2621" y="1332"/>
                  </a:lnTo>
                  <a:lnTo>
                    <a:pt x="2567" y="1267"/>
                  </a:lnTo>
                  <a:lnTo>
                    <a:pt x="2512" y="1199"/>
                  </a:lnTo>
                  <a:lnTo>
                    <a:pt x="2392" y="1055"/>
                  </a:lnTo>
                  <a:lnTo>
                    <a:pt x="2265" y="902"/>
                  </a:lnTo>
                  <a:lnTo>
                    <a:pt x="2129" y="742"/>
                  </a:lnTo>
                  <a:lnTo>
                    <a:pt x="1989" y="577"/>
                  </a:lnTo>
                  <a:lnTo>
                    <a:pt x="1846" y="409"/>
                  </a:lnTo>
                  <a:lnTo>
                    <a:pt x="1571" y="86"/>
                  </a:lnTo>
                  <a:lnTo>
                    <a:pt x="1673" y="0"/>
                  </a:lnTo>
                  <a:lnTo>
                    <a:pt x="1947" y="322"/>
                  </a:lnTo>
                  <a:lnTo>
                    <a:pt x="2091" y="491"/>
                  </a:lnTo>
                  <a:lnTo>
                    <a:pt x="2231" y="656"/>
                  </a:lnTo>
                  <a:lnTo>
                    <a:pt x="2367" y="817"/>
                  </a:lnTo>
                  <a:lnTo>
                    <a:pt x="2495" y="970"/>
                  </a:lnTo>
                  <a:lnTo>
                    <a:pt x="2615" y="1115"/>
                  </a:lnTo>
                  <a:lnTo>
                    <a:pt x="2670" y="1183"/>
                  </a:lnTo>
                  <a:lnTo>
                    <a:pt x="2725" y="1249"/>
                  </a:lnTo>
                  <a:lnTo>
                    <a:pt x="2775" y="1312"/>
                  </a:lnTo>
                  <a:lnTo>
                    <a:pt x="2821" y="1370"/>
                  </a:lnTo>
                  <a:lnTo>
                    <a:pt x="2861" y="1420"/>
                  </a:lnTo>
                  <a:lnTo>
                    <a:pt x="2900" y="1467"/>
                  </a:lnTo>
                  <a:lnTo>
                    <a:pt x="2937" y="1510"/>
                  </a:lnTo>
                  <a:lnTo>
                    <a:pt x="2976" y="1553"/>
                  </a:lnTo>
                  <a:lnTo>
                    <a:pt x="3008" y="1589"/>
                  </a:lnTo>
                  <a:lnTo>
                    <a:pt x="3045" y="1629"/>
                  </a:lnTo>
                  <a:lnTo>
                    <a:pt x="3111" y="1706"/>
                  </a:lnTo>
                  <a:lnTo>
                    <a:pt x="3172" y="1788"/>
                  </a:lnTo>
                  <a:lnTo>
                    <a:pt x="3210" y="1852"/>
                  </a:lnTo>
                  <a:cubicBezTo>
                    <a:pt x="3215" y="1861"/>
                    <a:pt x="3220" y="1871"/>
                    <a:pt x="3224" y="1881"/>
                  </a:cubicBezTo>
                  <a:lnTo>
                    <a:pt x="3259" y="1976"/>
                  </a:lnTo>
                  <a:lnTo>
                    <a:pt x="3271" y="2029"/>
                  </a:lnTo>
                  <a:lnTo>
                    <a:pt x="3280" y="2089"/>
                  </a:lnTo>
                  <a:lnTo>
                    <a:pt x="3283" y="2157"/>
                  </a:lnTo>
                  <a:lnTo>
                    <a:pt x="3278" y="2219"/>
                  </a:lnTo>
                  <a:lnTo>
                    <a:pt x="3268" y="2279"/>
                  </a:lnTo>
                  <a:lnTo>
                    <a:pt x="3254" y="2339"/>
                  </a:lnTo>
                  <a:lnTo>
                    <a:pt x="3237" y="2393"/>
                  </a:lnTo>
                  <a:lnTo>
                    <a:pt x="3216" y="2454"/>
                  </a:lnTo>
                  <a:lnTo>
                    <a:pt x="3172" y="2560"/>
                  </a:lnTo>
                  <a:lnTo>
                    <a:pt x="3126" y="2659"/>
                  </a:lnTo>
                  <a:lnTo>
                    <a:pt x="3080" y="2753"/>
                  </a:lnTo>
                  <a:lnTo>
                    <a:pt x="3041" y="2837"/>
                  </a:lnTo>
                  <a:lnTo>
                    <a:pt x="3007" y="2918"/>
                  </a:lnTo>
                  <a:lnTo>
                    <a:pt x="2942" y="3082"/>
                  </a:lnTo>
                  <a:lnTo>
                    <a:pt x="2880" y="3235"/>
                  </a:lnTo>
                  <a:lnTo>
                    <a:pt x="2850" y="3305"/>
                  </a:lnTo>
                  <a:lnTo>
                    <a:pt x="2822" y="3372"/>
                  </a:lnTo>
                  <a:lnTo>
                    <a:pt x="2797" y="3434"/>
                  </a:lnTo>
                  <a:lnTo>
                    <a:pt x="2775" y="3492"/>
                  </a:lnTo>
                  <a:lnTo>
                    <a:pt x="2757" y="3541"/>
                  </a:lnTo>
                  <a:lnTo>
                    <a:pt x="2742" y="3587"/>
                  </a:lnTo>
                  <a:lnTo>
                    <a:pt x="2730" y="3632"/>
                  </a:lnTo>
                  <a:lnTo>
                    <a:pt x="2716" y="3681"/>
                  </a:lnTo>
                  <a:lnTo>
                    <a:pt x="2702" y="3729"/>
                  </a:lnTo>
                  <a:lnTo>
                    <a:pt x="2684" y="3783"/>
                  </a:lnTo>
                  <a:lnTo>
                    <a:pt x="2661" y="3841"/>
                  </a:lnTo>
                  <a:lnTo>
                    <a:pt x="2636" y="3897"/>
                  </a:lnTo>
                  <a:lnTo>
                    <a:pt x="2610" y="3951"/>
                  </a:lnTo>
                  <a:lnTo>
                    <a:pt x="2579" y="4017"/>
                  </a:lnTo>
                  <a:lnTo>
                    <a:pt x="2509" y="4154"/>
                  </a:lnTo>
                  <a:lnTo>
                    <a:pt x="2466" y="4226"/>
                  </a:lnTo>
                  <a:lnTo>
                    <a:pt x="2418" y="4298"/>
                  </a:lnTo>
                  <a:lnTo>
                    <a:pt x="2361" y="4369"/>
                  </a:lnTo>
                  <a:lnTo>
                    <a:pt x="2299" y="4431"/>
                  </a:lnTo>
                  <a:lnTo>
                    <a:pt x="2235" y="4485"/>
                  </a:lnTo>
                  <a:lnTo>
                    <a:pt x="2170" y="4530"/>
                  </a:lnTo>
                  <a:lnTo>
                    <a:pt x="2102" y="4570"/>
                  </a:lnTo>
                  <a:lnTo>
                    <a:pt x="2032" y="4606"/>
                  </a:lnTo>
                  <a:lnTo>
                    <a:pt x="1962" y="4637"/>
                  </a:lnTo>
                  <a:lnTo>
                    <a:pt x="1887" y="4667"/>
                  </a:lnTo>
                  <a:lnTo>
                    <a:pt x="1813" y="4692"/>
                  </a:lnTo>
                  <a:lnTo>
                    <a:pt x="1731" y="4719"/>
                  </a:lnTo>
                  <a:lnTo>
                    <a:pt x="1644" y="4744"/>
                  </a:lnTo>
                  <a:lnTo>
                    <a:pt x="1552" y="4767"/>
                  </a:lnTo>
                  <a:lnTo>
                    <a:pt x="1456" y="4787"/>
                  </a:lnTo>
                  <a:lnTo>
                    <a:pt x="1359" y="4804"/>
                  </a:lnTo>
                  <a:lnTo>
                    <a:pt x="1164" y="4836"/>
                  </a:lnTo>
                  <a:lnTo>
                    <a:pt x="1069" y="4850"/>
                  </a:lnTo>
                  <a:lnTo>
                    <a:pt x="975" y="4863"/>
                  </a:lnTo>
                  <a:lnTo>
                    <a:pt x="884" y="4875"/>
                  </a:lnTo>
                  <a:lnTo>
                    <a:pt x="791" y="4888"/>
                  </a:lnTo>
                  <a:lnTo>
                    <a:pt x="608" y="4909"/>
                  </a:lnTo>
                  <a:lnTo>
                    <a:pt x="512" y="4918"/>
                  </a:lnTo>
                  <a:lnTo>
                    <a:pt x="414" y="4924"/>
                  </a:lnTo>
                  <a:lnTo>
                    <a:pt x="309" y="4928"/>
                  </a:lnTo>
                  <a:lnTo>
                    <a:pt x="5" y="4932"/>
                  </a:lnTo>
                  <a:lnTo>
                    <a:pt x="3" y="4799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801"/>
            <p:cNvSpPr/>
            <p:nvPr/>
          </p:nvSpPr>
          <p:spPr>
            <a:xfrm>
              <a:off x="5709600" y="2436840"/>
              <a:ext cx="192960" cy="906840"/>
            </a:xfrm>
            <a:custGeom>
              <a:avLst/>
              <a:gdLst/>
              <a:ahLst/>
              <a:rect l="l" t="t" r="r" b="b"/>
              <a:pathLst>
                <a:path w="604" h="2835">
                  <a:moveTo>
                    <a:pt x="115" y="2835"/>
                  </a:moveTo>
                  <a:lnTo>
                    <a:pt x="43" y="2751"/>
                  </a:lnTo>
                  <a:lnTo>
                    <a:pt x="30" y="2734"/>
                  </a:lnTo>
                  <a:cubicBezTo>
                    <a:pt x="26" y="2729"/>
                    <a:pt x="23" y="2723"/>
                    <a:pt x="21" y="2718"/>
                  </a:cubicBezTo>
                  <a:lnTo>
                    <a:pt x="15" y="2706"/>
                  </a:lnTo>
                  <a:cubicBezTo>
                    <a:pt x="13" y="2700"/>
                    <a:pt x="11" y="2695"/>
                    <a:pt x="10" y="2689"/>
                  </a:cubicBezTo>
                  <a:lnTo>
                    <a:pt x="6" y="2673"/>
                  </a:lnTo>
                  <a:lnTo>
                    <a:pt x="2" y="2651"/>
                  </a:lnTo>
                  <a:lnTo>
                    <a:pt x="1" y="2634"/>
                  </a:lnTo>
                  <a:lnTo>
                    <a:pt x="0" y="2616"/>
                  </a:lnTo>
                  <a:lnTo>
                    <a:pt x="1" y="2596"/>
                  </a:lnTo>
                  <a:lnTo>
                    <a:pt x="2" y="2575"/>
                  </a:lnTo>
                  <a:lnTo>
                    <a:pt x="5" y="2553"/>
                  </a:lnTo>
                  <a:lnTo>
                    <a:pt x="8" y="2529"/>
                  </a:lnTo>
                  <a:lnTo>
                    <a:pt x="11" y="2503"/>
                  </a:lnTo>
                  <a:lnTo>
                    <a:pt x="16" y="2474"/>
                  </a:lnTo>
                  <a:lnTo>
                    <a:pt x="22" y="2442"/>
                  </a:lnTo>
                  <a:lnTo>
                    <a:pt x="29" y="2408"/>
                  </a:lnTo>
                  <a:lnTo>
                    <a:pt x="36" y="2372"/>
                  </a:lnTo>
                  <a:lnTo>
                    <a:pt x="44" y="2335"/>
                  </a:lnTo>
                  <a:lnTo>
                    <a:pt x="53" y="2295"/>
                  </a:lnTo>
                  <a:lnTo>
                    <a:pt x="62" y="2253"/>
                  </a:lnTo>
                  <a:lnTo>
                    <a:pt x="72" y="2211"/>
                  </a:lnTo>
                  <a:lnTo>
                    <a:pt x="92" y="2122"/>
                  </a:lnTo>
                  <a:lnTo>
                    <a:pt x="114" y="2032"/>
                  </a:lnTo>
                  <a:lnTo>
                    <a:pt x="136" y="1941"/>
                  </a:lnTo>
                  <a:lnTo>
                    <a:pt x="158" y="1853"/>
                  </a:lnTo>
                  <a:lnTo>
                    <a:pt x="182" y="1766"/>
                  </a:lnTo>
                  <a:lnTo>
                    <a:pt x="210" y="1678"/>
                  </a:lnTo>
                  <a:lnTo>
                    <a:pt x="238" y="1591"/>
                  </a:lnTo>
                  <a:lnTo>
                    <a:pt x="267" y="1503"/>
                  </a:lnTo>
                  <a:lnTo>
                    <a:pt x="294" y="1414"/>
                  </a:lnTo>
                  <a:lnTo>
                    <a:pt x="319" y="1323"/>
                  </a:lnTo>
                  <a:lnTo>
                    <a:pt x="331" y="1276"/>
                  </a:lnTo>
                  <a:lnTo>
                    <a:pt x="341" y="1228"/>
                  </a:lnTo>
                  <a:lnTo>
                    <a:pt x="350" y="1177"/>
                  </a:lnTo>
                  <a:lnTo>
                    <a:pt x="359" y="1126"/>
                  </a:lnTo>
                  <a:lnTo>
                    <a:pt x="366" y="1071"/>
                  </a:lnTo>
                  <a:lnTo>
                    <a:pt x="373" y="1015"/>
                  </a:lnTo>
                  <a:lnTo>
                    <a:pt x="386" y="897"/>
                  </a:lnTo>
                  <a:lnTo>
                    <a:pt x="396" y="775"/>
                  </a:lnTo>
                  <a:lnTo>
                    <a:pt x="402" y="649"/>
                  </a:lnTo>
                  <a:lnTo>
                    <a:pt x="404" y="520"/>
                  </a:lnTo>
                  <a:lnTo>
                    <a:pt x="402" y="388"/>
                  </a:lnTo>
                  <a:lnTo>
                    <a:pt x="395" y="254"/>
                  </a:lnTo>
                  <a:lnTo>
                    <a:pt x="390" y="187"/>
                  </a:lnTo>
                  <a:lnTo>
                    <a:pt x="372" y="20"/>
                  </a:lnTo>
                  <a:lnTo>
                    <a:pt x="439" y="13"/>
                  </a:lnTo>
                  <a:lnTo>
                    <a:pt x="456" y="182"/>
                  </a:lnTo>
                  <a:lnTo>
                    <a:pt x="462" y="250"/>
                  </a:lnTo>
                  <a:lnTo>
                    <a:pt x="469" y="387"/>
                  </a:lnTo>
                  <a:lnTo>
                    <a:pt x="471" y="521"/>
                  </a:lnTo>
                  <a:lnTo>
                    <a:pt x="469" y="652"/>
                  </a:lnTo>
                  <a:lnTo>
                    <a:pt x="462" y="780"/>
                  </a:lnTo>
                  <a:lnTo>
                    <a:pt x="453" y="904"/>
                  </a:lnTo>
                  <a:lnTo>
                    <a:pt x="440" y="1023"/>
                  </a:lnTo>
                  <a:lnTo>
                    <a:pt x="432" y="1081"/>
                  </a:lnTo>
                  <a:lnTo>
                    <a:pt x="425" y="1136"/>
                  </a:lnTo>
                  <a:lnTo>
                    <a:pt x="416" y="1190"/>
                  </a:lnTo>
                  <a:lnTo>
                    <a:pt x="406" y="1242"/>
                  </a:lnTo>
                  <a:lnTo>
                    <a:pt x="395" y="1292"/>
                  </a:lnTo>
                  <a:lnTo>
                    <a:pt x="384" y="1340"/>
                  </a:lnTo>
                  <a:lnTo>
                    <a:pt x="358" y="1434"/>
                  </a:lnTo>
                  <a:lnTo>
                    <a:pt x="330" y="1524"/>
                  </a:lnTo>
                  <a:lnTo>
                    <a:pt x="302" y="1612"/>
                  </a:lnTo>
                  <a:lnTo>
                    <a:pt x="273" y="1698"/>
                  </a:lnTo>
                  <a:lnTo>
                    <a:pt x="247" y="1783"/>
                  </a:lnTo>
                  <a:lnTo>
                    <a:pt x="223" y="1869"/>
                  </a:lnTo>
                  <a:lnTo>
                    <a:pt x="201" y="1957"/>
                  </a:lnTo>
                  <a:lnTo>
                    <a:pt x="179" y="2047"/>
                  </a:lnTo>
                  <a:lnTo>
                    <a:pt x="157" y="2137"/>
                  </a:lnTo>
                  <a:lnTo>
                    <a:pt x="137" y="2225"/>
                  </a:lnTo>
                  <a:lnTo>
                    <a:pt x="127" y="2267"/>
                  </a:lnTo>
                  <a:lnTo>
                    <a:pt x="118" y="2309"/>
                  </a:lnTo>
                  <a:lnTo>
                    <a:pt x="109" y="2348"/>
                  </a:lnTo>
                  <a:lnTo>
                    <a:pt x="102" y="2386"/>
                  </a:lnTo>
                  <a:lnTo>
                    <a:pt x="94" y="2421"/>
                  </a:lnTo>
                  <a:lnTo>
                    <a:pt x="88" y="2454"/>
                  </a:lnTo>
                  <a:lnTo>
                    <a:pt x="82" y="2485"/>
                  </a:lnTo>
                  <a:lnTo>
                    <a:pt x="77" y="2513"/>
                  </a:lnTo>
                  <a:lnTo>
                    <a:pt x="74" y="2537"/>
                  </a:lnTo>
                  <a:lnTo>
                    <a:pt x="71" y="2560"/>
                  </a:lnTo>
                  <a:lnTo>
                    <a:pt x="69" y="2580"/>
                  </a:lnTo>
                  <a:lnTo>
                    <a:pt x="68" y="2598"/>
                  </a:lnTo>
                  <a:lnTo>
                    <a:pt x="67" y="2615"/>
                  </a:lnTo>
                  <a:lnTo>
                    <a:pt x="67" y="2630"/>
                  </a:lnTo>
                  <a:lnTo>
                    <a:pt x="68" y="2643"/>
                  </a:lnTo>
                  <a:lnTo>
                    <a:pt x="70" y="2657"/>
                  </a:lnTo>
                  <a:lnTo>
                    <a:pt x="74" y="2673"/>
                  </a:lnTo>
                  <a:cubicBezTo>
                    <a:pt x="75" y="2675"/>
                    <a:pt x="75" y="2677"/>
                    <a:pt x="76" y="2679"/>
                  </a:cubicBezTo>
                  <a:lnTo>
                    <a:pt x="82" y="2690"/>
                  </a:lnTo>
                  <a:cubicBezTo>
                    <a:pt x="82" y="2692"/>
                    <a:pt x="83" y="2694"/>
                    <a:pt x="85" y="2696"/>
                  </a:cubicBezTo>
                  <a:lnTo>
                    <a:pt x="93" y="2708"/>
                  </a:lnTo>
                  <a:lnTo>
                    <a:pt x="166" y="2791"/>
                  </a:lnTo>
                  <a:lnTo>
                    <a:pt x="115" y="2835"/>
                  </a:lnTo>
                  <a:close/>
                  <a:moveTo>
                    <a:pt x="216" y="2747"/>
                  </a:moveTo>
                  <a:lnTo>
                    <a:pt x="143" y="2664"/>
                  </a:lnTo>
                  <a:lnTo>
                    <a:pt x="141" y="2660"/>
                  </a:lnTo>
                  <a:lnTo>
                    <a:pt x="138" y="2654"/>
                  </a:lnTo>
                  <a:lnTo>
                    <a:pt x="135" y="2641"/>
                  </a:lnTo>
                  <a:lnTo>
                    <a:pt x="135" y="2635"/>
                  </a:lnTo>
                  <a:lnTo>
                    <a:pt x="134" y="2625"/>
                  </a:lnTo>
                  <a:lnTo>
                    <a:pt x="134" y="2614"/>
                  </a:lnTo>
                  <a:lnTo>
                    <a:pt x="134" y="2601"/>
                  </a:lnTo>
                  <a:lnTo>
                    <a:pt x="135" y="2585"/>
                  </a:lnTo>
                  <a:lnTo>
                    <a:pt x="137" y="2567"/>
                  </a:lnTo>
                  <a:lnTo>
                    <a:pt x="140" y="2546"/>
                  </a:lnTo>
                  <a:lnTo>
                    <a:pt x="143" y="2522"/>
                  </a:lnTo>
                  <a:lnTo>
                    <a:pt x="148" y="2496"/>
                  </a:lnTo>
                  <a:lnTo>
                    <a:pt x="153" y="2466"/>
                  </a:lnTo>
                  <a:lnTo>
                    <a:pt x="160" y="2434"/>
                  </a:lnTo>
                  <a:lnTo>
                    <a:pt x="167" y="2399"/>
                  </a:lnTo>
                  <a:lnTo>
                    <a:pt x="175" y="2362"/>
                  </a:lnTo>
                  <a:lnTo>
                    <a:pt x="183" y="2323"/>
                  </a:lnTo>
                  <a:lnTo>
                    <a:pt x="192" y="2282"/>
                  </a:lnTo>
                  <a:lnTo>
                    <a:pt x="202" y="2240"/>
                  </a:lnTo>
                  <a:lnTo>
                    <a:pt x="222" y="2153"/>
                  </a:lnTo>
                  <a:lnTo>
                    <a:pt x="244" y="2063"/>
                  </a:lnTo>
                  <a:lnTo>
                    <a:pt x="266" y="1973"/>
                  </a:lnTo>
                  <a:lnTo>
                    <a:pt x="288" y="1886"/>
                  </a:lnTo>
                  <a:lnTo>
                    <a:pt x="311" y="1801"/>
                  </a:lnTo>
                  <a:lnTo>
                    <a:pt x="337" y="1717"/>
                  </a:lnTo>
                  <a:lnTo>
                    <a:pt x="365" y="1632"/>
                  </a:lnTo>
                  <a:lnTo>
                    <a:pt x="393" y="1545"/>
                  </a:lnTo>
                  <a:lnTo>
                    <a:pt x="422" y="1454"/>
                  </a:lnTo>
                  <a:lnTo>
                    <a:pt x="448" y="1358"/>
                  </a:lnTo>
                  <a:lnTo>
                    <a:pt x="460" y="1308"/>
                  </a:lnTo>
                  <a:lnTo>
                    <a:pt x="471" y="1256"/>
                  </a:lnTo>
                  <a:lnTo>
                    <a:pt x="481" y="1202"/>
                  </a:lnTo>
                  <a:lnTo>
                    <a:pt x="490" y="1147"/>
                  </a:lnTo>
                  <a:lnTo>
                    <a:pt x="498" y="1090"/>
                  </a:lnTo>
                  <a:lnTo>
                    <a:pt x="506" y="1032"/>
                  </a:lnTo>
                  <a:lnTo>
                    <a:pt x="519" y="911"/>
                  </a:lnTo>
                  <a:lnTo>
                    <a:pt x="529" y="786"/>
                  </a:lnTo>
                  <a:lnTo>
                    <a:pt x="535" y="656"/>
                  </a:lnTo>
                  <a:lnTo>
                    <a:pt x="538" y="522"/>
                  </a:lnTo>
                  <a:lnTo>
                    <a:pt x="536" y="386"/>
                  </a:lnTo>
                  <a:lnTo>
                    <a:pt x="529" y="247"/>
                  </a:lnTo>
                  <a:lnTo>
                    <a:pt x="523" y="176"/>
                  </a:lnTo>
                  <a:lnTo>
                    <a:pt x="505" y="7"/>
                  </a:lnTo>
                  <a:lnTo>
                    <a:pt x="571" y="0"/>
                  </a:lnTo>
                  <a:lnTo>
                    <a:pt x="589" y="171"/>
                  </a:lnTo>
                  <a:lnTo>
                    <a:pt x="595" y="243"/>
                  </a:lnTo>
                  <a:lnTo>
                    <a:pt x="602" y="385"/>
                  </a:lnTo>
                  <a:lnTo>
                    <a:pt x="604" y="523"/>
                  </a:lnTo>
                  <a:lnTo>
                    <a:pt x="602" y="659"/>
                  </a:lnTo>
                  <a:lnTo>
                    <a:pt x="595" y="791"/>
                  </a:lnTo>
                  <a:lnTo>
                    <a:pt x="585" y="919"/>
                  </a:lnTo>
                  <a:lnTo>
                    <a:pt x="572" y="1040"/>
                  </a:lnTo>
                  <a:lnTo>
                    <a:pt x="564" y="1099"/>
                  </a:lnTo>
                  <a:lnTo>
                    <a:pt x="556" y="1157"/>
                  </a:lnTo>
                  <a:lnTo>
                    <a:pt x="547" y="1215"/>
                  </a:lnTo>
                  <a:lnTo>
                    <a:pt x="536" y="1270"/>
                  </a:lnTo>
                  <a:lnTo>
                    <a:pt x="525" y="1323"/>
                  </a:lnTo>
                  <a:lnTo>
                    <a:pt x="512" y="1376"/>
                  </a:lnTo>
                  <a:lnTo>
                    <a:pt x="485" y="1474"/>
                  </a:lnTo>
                  <a:lnTo>
                    <a:pt x="457" y="1565"/>
                  </a:lnTo>
                  <a:lnTo>
                    <a:pt x="428" y="1653"/>
                  </a:lnTo>
                  <a:lnTo>
                    <a:pt x="401" y="1737"/>
                  </a:lnTo>
                  <a:lnTo>
                    <a:pt x="375" y="1819"/>
                  </a:lnTo>
                  <a:lnTo>
                    <a:pt x="352" y="1902"/>
                  </a:lnTo>
                  <a:lnTo>
                    <a:pt x="330" y="1989"/>
                  </a:lnTo>
                  <a:lnTo>
                    <a:pt x="308" y="2079"/>
                  </a:lnTo>
                  <a:lnTo>
                    <a:pt x="287" y="2168"/>
                  </a:lnTo>
                  <a:lnTo>
                    <a:pt x="267" y="2254"/>
                  </a:lnTo>
                  <a:lnTo>
                    <a:pt x="257" y="2297"/>
                  </a:lnTo>
                  <a:lnTo>
                    <a:pt x="248" y="2337"/>
                  </a:lnTo>
                  <a:lnTo>
                    <a:pt x="240" y="2375"/>
                  </a:lnTo>
                  <a:lnTo>
                    <a:pt x="232" y="2413"/>
                  </a:lnTo>
                  <a:lnTo>
                    <a:pt x="225" y="2447"/>
                  </a:lnTo>
                  <a:lnTo>
                    <a:pt x="219" y="2478"/>
                  </a:lnTo>
                  <a:lnTo>
                    <a:pt x="214" y="2507"/>
                  </a:lnTo>
                  <a:lnTo>
                    <a:pt x="209" y="2532"/>
                  </a:lnTo>
                  <a:lnTo>
                    <a:pt x="206" y="2554"/>
                  </a:lnTo>
                  <a:lnTo>
                    <a:pt x="204" y="2574"/>
                  </a:lnTo>
                  <a:lnTo>
                    <a:pt x="202" y="2590"/>
                  </a:lnTo>
                  <a:lnTo>
                    <a:pt x="201" y="2603"/>
                  </a:lnTo>
                  <a:lnTo>
                    <a:pt x="200" y="2613"/>
                  </a:lnTo>
                  <a:lnTo>
                    <a:pt x="200" y="2621"/>
                  </a:lnTo>
                  <a:lnTo>
                    <a:pt x="201" y="2627"/>
                  </a:lnTo>
                  <a:lnTo>
                    <a:pt x="200" y="2625"/>
                  </a:lnTo>
                  <a:lnTo>
                    <a:pt x="202" y="2632"/>
                  </a:lnTo>
                  <a:lnTo>
                    <a:pt x="199" y="2627"/>
                  </a:lnTo>
                  <a:lnTo>
                    <a:pt x="194" y="2620"/>
                  </a:lnTo>
                  <a:lnTo>
                    <a:pt x="266" y="2703"/>
                  </a:lnTo>
                  <a:lnTo>
                    <a:pt x="216" y="2747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802"/>
            <p:cNvSpPr/>
            <p:nvPr/>
          </p:nvSpPr>
          <p:spPr>
            <a:xfrm>
              <a:off x="4779720" y="2062080"/>
              <a:ext cx="1349280" cy="1419840"/>
            </a:xfrm>
            <a:custGeom>
              <a:avLst/>
              <a:gdLst/>
              <a:ahLst/>
              <a:rect l="l" t="t" r="r" b="b"/>
              <a:pathLst>
                <a:path w="801" h="843">
                  <a:moveTo>
                    <a:pt x="801" y="21"/>
                  </a:moveTo>
                  <a:lnTo>
                    <a:pt x="765" y="76"/>
                  </a:lnTo>
                  <a:lnTo>
                    <a:pt x="740" y="114"/>
                  </a:lnTo>
                  <a:lnTo>
                    <a:pt x="715" y="153"/>
                  </a:lnTo>
                  <a:lnTo>
                    <a:pt x="691" y="192"/>
                  </a:lnTo>
                  <a:lnTo>
                    <a:pt x="679" y="212"/>
                  </a:lnTo>
                  <a:lnTo>
                    <a:pt x="668" y="232"/>
                  </a:lnTo>
                  <a:lnTo>
                    <a:pt x="646" y="273"/>
                  </a:lnTo>
                  <a:lnTo>
                    <a:pt x="635" y="294"/>
                  </a:lnTo>
                  <a:lnTo>
                    <a:pt x="623" y="315"/>
                  </a:lnTo>
                  <a:lnTo>
                    <a:pt x="611" y="336"/>
                  </a:lnTo>
                  <a:lnTo>
                    <a:pt x="598" y="357"/>
                  </a:lnTo>
                  <a:lnTo>
                    <a:pt x="585" y="378"/>
                  </a:lnTo>
                  <a:lnTo>
                    <a:pt x="570" y="399"/>
                  </a:lnTo>
                  <a:lnTo>
                    <a:pt x="556" y="420"/>
                  </a:lnTo>
                  <a:lnTo>
                    <a:pt x="540" y="441"/>
                  </a:lnTo>
                  <a:lnTo>
                    <a:pt x="525" y="462"/>
                  </a:lnTo>
                  <a:lnTo>
                    <a:pt x="518" y="472"/>
                  </a:lnTo>
                  <a:lnTo>
                    <a:pt x="511" y="482"/>
                  </a:lnTo>
                  <a:lnTo>
                    <a:pt x="503" y="491"/>
                  </a:lnTo>
                  <a:lnTo>
                    <a:pt x="496" y="500"/>
                  </a:lnTo>
                  <a:lnTo>
                    <a:pt x="489" y="509"/>
                  </a:lnTo>
                  <a:lnTo>
                    <a:pt x="482" y="517"/>
                  </a:lnTo>
                  <a:lnTo>
                    <a:pt x="476" y="525"/>
                  </a:lnTo>
                  <a:lnTo>
                    <a:pt x="470" y="533"/>
                  </a:lnTo>
                  <a:lnTo>
                    <a:pt x="464" y="540"/>
                  </a:lnTo>
                  <a:lnTo>
                    <a:pt x="458" y="546"/>
                  </a:lnTo>
                  <a:lnTo>
                    <a:pt x="453" y="553"/>
                  </a:lnTo>
                  <a:lnTo>
                    <a:pt x="447" y="559"/>
                  </a:lnTo>
                  <a:lnTo>
                    <a:pt x="436" y="571"/>
                  </a:lnTo>
                  <a:lnTo>
                    <a:pt x="425" y="582"/>
                  </a:lnTo>
                  <a:lnTo>
                    <a:pt x="413" y="594"/>
                  </a:lnTo>
                  <a:lnTo>
                    <a:pt x="401" y="605"/>
                  </a:lnTo>
                  <a:lnTo>
                    <a:pt x="395" y="610"/>
                  </a:lnTo>
                  <a:lnTo>
                    <a:pt x="388" y="616"/>
                  </a:lnTo>
                  <a:lnTo>
                    <a:pt x="381" y="622"/>
                  </a:lnTo>
                  <a:lnTo>
                    <a:pt x="373" y="628"/>
                  </a:lnTo>
                  <a:lnTo>
                    <a:pt x="358" y="640"/>
                  </a:lnTo>
                  <a:lnTo>
                    <a:pt x="342" y="652"/>
                  </a:lnTo>
                  <a:lnTo>
                    <a:pt x="325" y="664"/>
                  </a:lnTo>
                  <a:lnTo>
                    <a:pt x="309" y="675"/>
                  </a:lnTo>
                  <a:lnTo>
                    <a:pt x="293" y="686"/>
                  </a:lnTo>
                  <a:lnTo>
                    <a:pt x="277" y="696"/>
                  </a:lnTo>
                  <a:lnTo>
                    <a:pt x="270" y="701"/>
                  </a:lnTo>
                  <a:lnTo>
                    <a:pt x="263" y="705"/>
                  </a:lnTo>
                  <a:lnTo>
                    <a:pt x="249" y="714"/>
                  </a:lnTo>
                  <a:lnTo>
                    <a:pt x="236" y="722"/>
                  </a:lnTo>
                  <a:lnTo>
                    <a:pt x="223" y="730"/>
                  </a:lnTo>
                  <a:lnTo>
                    <a:pt x="210" y="737"/>
                  </a:lnTo>
                  <a:lnTo>
                    <a:pt x="198" y="743"/>
                  </a:lnTo>
                  <a:lnTo>
                    <a:pt x="186" y="750"/>
                  </a:lnTo>
                  <a:lnTo>
                    <a:pt x="164" y="762"/>
                  </a:lnTo>
                  <a:lnTo>
                    <a:pt x="85" y="807"/>
                  </a:lnTo>
                  <a:lnTo>
                    <a:pt x="81" y="809"/>
                  </a:lnTo>
                  <a:lnTo>
                    <a:pt x="77" y="811"/>
                  </a:lnTo>
                  <a:lnTo>
                    <a:pt x="70" y="814"/>
                  </a:lnTo>
                  <a:lnTo>
                    <a:pt x="64" y="818"/>
                  </a:lnTo>
                  <a:lnTo>
                    <a:pt x="59" y="820"/>
                  </a:lnTo>
                  <a:lnTo>
                    <a:pt x="53" y="823"/>
                  </a:lnTo>
                  <a:lnTo>
                    <a:pt x="48" y="826"/>
                  </a:lnTo>
                  <a:lnTo>
                    <a:pt x="42" y="829"/>
                  </a:lnTo>
                  <a:lnTo>
                    <a:pt x="19" y="843"/>
                  </a:lnTo>
                  <a:lnTo>
                    <a:pt x="13" y="832"/>
                  </a:lnTo>
                  <a:lnTo>
                    <a:pt x="36" y="818"/>
                  </a:lnTo>
                  <a:lnTo>
                    <a:pt x="42" y="815"/>
                  </a:lnTo>
                  <a:lnTo>
                    <a:pt x="48" y="812"/>
                  </a:lnTo>
                  <a:lnTo>
                    <a:pt x="53" y="809"/>
                  </a:lnTo>
                  <a:lnTo>
                    <a:pt x="58" y="806"/>
                  </a:lnTo>
                  <a:lnTo>
                    <a:pt x="64" y="803"/>
                  </a:lnTo>
                  <a:lnTo>
                    <a:pt x="71" y="800"/>
                  </a:lnTo>
                  <a:lnTo>
                    <a:pt x="75" y="798"/>
                  </a:lnTo>
                  <a:lnTo>
                    <a:pt x="78" y="796"/>
                  </a:lnTo>
                  <a:lnTo>
                    <a:pt x="158" y="751"/>
                  </a:lnTo>
                  <a:lnTo>
                    <a:pt x="180" y="739"/>
                  </a:lnTo>
                  <a:lnTo>
                    <a:pt x="192" y="732"/>
                  </a:lnTo>
                  <a:lnTo>
                    <a:pt x="204" y="726"/>
                  </a:lnTo>
                  <a:lnTo>
                    <a:pt x="216" y="719"/>
                  </a:lnTo>
                  <a:lnTo>
                    <a:pt x="229" y="712"/>
                  </a:lnTo>
                  <a:lnTo>
                    <a:pt x="242" y="704"/>
                  </a:lnTo>
                  <a:lnTo>
                    <a:pt x="256" y="695"/>
                  </a:lnTo>
                  <a:lnTo>
                    <a:pt x="263" y="690"/>
                  </a:lnTo>
                  <a:lnTo>
                    <a:pt x="270" y="685"/>
                  </a:lnTo>
                  <a:lnTo>
                    <a:pt x="286" y="675"/>
                  </a:lnTo>
                  <a:lnTo>
                    <a:pt x="302" y="665"/>
                  </a:lnTo>
                  <a:lnTo>
                    <a:pt x="318" y="653"/>
                  </a:lnTo>
                  <a:lnTo>
                    <a:pt x="334" y="642"/>
                  </a:lnTo>
                  <a:lnTo>
                    <a:pt x="350" y="630"/>
                  </a:lnTo>
                  <a:lnTo>
                    <a:pt x="365" y="618"/>
                  </a:lnTo>
                  <a:lnTo>
                    <a:pt x="372" y="612"/>
                  </a:lnTo>
                  <a:lnTo>
                    <a:pt x="380" y="607"/>
                  </a:lnTo>
                  <a:lnTo>
                    <a:pt x="386" y="601"/>
                  </a:lnTo>
                  <a:lnTo>
                    <a:pt x="392" y="595"/>
                  </a:lnTo>
                  <a:lnTo>
                    <a:pt x="404" y="584"/>
                  </a:lnTo>
                  <a:lnTo>
                    <a:pt x="416" y="573"/>
                  </a:lnTo>
                  <a:lnTo>
                    <a:pt x="427" y="562"/>
                  </a:lnTo>
                  <a:lnTo>
                    <a:pt x="438" y="551"/>
                  </a:lnTo>
                  <a:lnTo>
                    <a:pt x="443" y="545"/>
                  </a:lnTo>
                  <a:lnTo>
                    <a:pt x="449" y="538"/>
                  </a:lnTo>
                  <a:lnTo>
                    <a:pt x="454" y="532"/>
                  </a:lnTo>
                  <a:lnTo>
                    <a:pt x="460" y="525"/>
                  </a:lnTo>
                  <a:lnTo>
                    <a:pt x="466" y="517"/>
                  </a:lnTo>
                  <a:lnTo>
                    <a:pt x="472" y="509"/>
                  </a:lnTo>
                  <a:lnTo>
                    <a:pt x="479" y="501"/>
                  </a:lnTo>
                  <a:lnTo>
                    <a:pt x="486" y="493"/>
                  </a:lnTo>
                  <a:lnTo>
                    <a:pt x="493" y="484"/>
                  </a:lnTo>
                  <a:lnTo>
                    <a:pt x="500" y="474"/>
                  </a:lnTo>
                  <a:lnTo>
                    <a:pt x="508" y="465"/>
                  </a:lnTo>
                  <a:lnTo>
                    <a:pt x="515" y="454"/>
                  </a:lnTo>
                  <a:lnTo>
                    <a:pt x="530" y="434"/>
                  </a:lnTo>
                  <a:lnTo>
                    <a:pt x="545" y="413"/>
                  </a:lnTo>
                  <a:lnTo>
                    <a:pt x="560" y="392"/>
                  </a:lnTo>
                  <a:lnTo>
                    <a:pt x="574" y="371"/>
                  </a:lnTo>
                  <a:lnTo>
                    <a:pt x="588" y="350"/>
                  </a:lnTo>
                  <a:lnTo>
                    <a:pt x="600" y="330"/>
                  </a:lnTo>
                  <a:lnTo>
                    <a:pt x="612" y="309"/>
                  </a:lnTo>
                  <a:lnTo>
                    <a:pt x="624" y="288"/>
                  </a:lnTo>
                  <a:lnTo>
                    <a:pt x="635" y="267"/>
                  </a:lnTo>
                  <a:lnTo>
                    <a:pt x="657" y="226"/>
                  </a:lnTo>
                  <a:lnTo>
                    <a:pt x="668" y="206"/>
                  </a:lnTo>
                  <a:lnTo>
                    <a:pt x="680" y="186"/>
                  </a:lnTo>
                  <a:lnTo>
                    <a:pt x="704" y="146"/>
                  </a:lnTo>
                  <a:lnTo>
                    <a:pt x="729" y="107"/>
                  </a:lnTo>
                  <a:lnTo>
                    <a:pt x="755" y="69"/>
                  </a:lnTo>
                  <a:lnTo>
                    <a:pt x="791" y="14"/>
                  </a:lnTo>
                  <a:lnTo>
                    <a:pt x="801" y="21"/>
                  </a:lnTo>
                  <a:close/>
                  <a:moveTo>
                    <a:pt x="780" y="7"/>
                  </a:moveTo>
                  <a:lnTo>
                    <a:pt x="744" y="62"/>
                  </a:lnTo>
                  <a:lnTo>
                    <a:pt x="719" y="100"/>
                  </a:lnTo>
                  <a:lnTo>
                    <a:pt x="694" y="139"/>
                  </a:lnTo>
                  <a:lnTo>
                    <a:pt x="669" y="179"/>
                  </a:lnTo>
                  <a:lnTo>
                    <a:pt x="657" y="199"/>
                  </a:lnTo>
                  <a:lnTo>
                    <a:pt x="646" y="220"/>
                  </a:lnTo>
                  <a:lnTo>
                    <a:pt x="624" y="261"/>
                  </a:lnTo>
                  <a:lnTo>
                    <a:pt x="612" y="282"/>
                  </a:lnTo>
                  <a:lnTo>
                    <a:pt x="601" y="303"/>
                  </a:lnTo>
                  <a:lnTo>
                    <a:pt x="589" y="323"/>
                  </a:lnTo>
                  <a:lnTo>
                    <a:pt x="577" y="343"/>
                  </a:lnTo>
                  <a:lnTo>
                    <a:pt x="564" y="364"/>
                  </a:lnTo>
                  <a:lnTo>
                    <a:pt x="549" y="385"/>
                  </a:lnTo>
                  <a:lnTo>
                    <a:pt x="535" y="406"/>
                  </a:lnTo>
                  <a:lnTo>
                    <a:pt x="520" y="427"/>
                  </a:lnTo>
                  <a:lnTo>
                    <a:pt x="505" y="447"/>
                  </a:lnTo>
                  <a:lnTo>
                    <a:pt x="497" y="457"/>
                  </a:lnTo>
                  <a:lnTo>
                    <a:pt x="490" y="466"/>
                  </a:lnTo>
                  <a:lnTo>
                    <a:pt x="483" y="476"/>
                  </a:lnTo>
                  <a:lnTo>
                    <a:pt x="476" y="485"/>
                  </a:lnTo>
                  <a:lnTo>
                    <a:pt x="469" y="493"/>
                  </a:lnTo>
                  <a:lnTo>
                    <a:pt x="463" y="502"/>
                  </a:lnTo>
                  <a:lnTo>
                    <a:pt x="456" y="509"/>
                  </a:lnTo>
                  <a:lnTo>
                    <a:pt x="450" y="517"/>
                  </a:lnTo>
                  <a:lnTo>
                    <a:pt x="445" y="523"/>
                  </a:lnTo>
                  <a:lnTo>
                    <a:pt x="439" y="530"/>
                  </a:lnTo>
                  <a:lnTo>
                    <a:pt x="434" y="536"/>
                  </a:lnTo>
                  <a:lnTo>
                    <a:pt x="428" y="542"/>
                  </a:lnTo>
                  <a:lnTo>
                    <a:pt x="417" y="554"/>
                  </a:lnTo>
                  <a:lnTo>
                    <a:pt x="407" y="565"/>
                  </a:lnTo>
                  <a:lnTo>
                    <a:pt x="396" y="575"/>
                  </a:lnTo>
                  <a:lnTo>
                    <a:pt x="384" y="586"/>
                  </a:lnTo>
                  <a:lnTo>
                    <a:pt x="378" y="591"/>
                  </a:lnTo>
                  <a:lnTo>
                    <a:pt x="371" y="597"/>
                  </a:lnTo>
                  <a:lnTo>
                    <a:pt x="364" y="603"/>
                  </a:lnTo>
                  <a:lnTo>
                    <a:pt x="357" y="609"/>
                  </a:lnTo>
                  <a:lnTo>
                    <a:pt x="342" y="620"/>
                  </a:lnTo>
                  <a:lnTo>
                    <a:pt x="327" y="632"/>
                  </a:lnTo>
                  <a:lnTo>
                    <a:pt x="310" y="643"/>
                  </a:lnTo>
                  <a:lnTo>
                    <a:pt x="295" y="654"/>
                  </a:lnTo>
                  <a:lnTo>
                    <a:pt x="279" y="665"/>
                  </a:lnTo>
                  <a:lnTo>
                    <a:pt x="263" y="675"/>
                  </a:lnTo>
                  <a:lnTo>
                    <a:pt x="256" y="680"/>
                  </a:lnTo>
                  <a:lnTo>
                    <a:pt x="249" y="684"/>
                  </a:lnTo>
                  <a:lnTo>
                    <a:pt x="235" y="693"/>
                  </a:lnTo>
                  <a:lnTo>
                    <a:pt x="222" y="701"/>
                  </a:lnTo>
                  <a:lnTo>
                    <a:pt x="210" y="708"/>
                  </a:lnTo>
                  <a:lnTo>
                    <a:pt x="198" y="715"/>
                  </a:lnTo>
                  <a:lnTo>
                    <a:pt x="186" y="721"/>
                  </a:lnTo>
                  <a:lnTo>
                    <a:pt x="174" y="727"/>
                  </a:lnTo>
                  <a:lnTo>
                    <a:pt x="152" y="740"/>
                  </a:lnTo>
                  <a:lnTo>
                    <a:pt x="72" y="784"/>
                  </a:lnTo>
                  <a:lnTo>
                    <a:pt x="68" y="787"/>
                  </a:lnTo>
                  <a:lnTo>
                    <a:pt x="65" y="789"/>
                  </a:lnTo>
                  <a:lnTo>
                    <a:pt x="58" y="792"/>
                  </a:lnTo>
                  <a:lnTo>
                    <a:pt x="52" y="795"/>
                  </a:lnTo>
                  <a:lnTo>
                    <a:pt x="47" y="798"/>
                  </a:lnTo>
                  <a:lnTo>
                    <a:pt x="42" y="801"/>
                  </a:lnTo>
                  <a:lnTo>
                    <a:pt x="36" y="804"/>
                  </a:lnTo>
                  <a:lnTo>
                    <a:pt x="30" y="807"/>
                  </a:lnTo>
                  <a:lnTo>
                    <a:pt x="6" y="822"/>
                  </a:lnTo>
                  <a:lnTo>
                    <a:pt x="0" y="811"/>
                  </a:lnTo>
                  <a:lnTo>
                    <a:pt x="23" y="796"/>
                  </a:lnTo>
                  <a:lnTo>
                    <a:pt x="30" y="793"/>
                  </a:lnTo>
                  <a:lnTo>
                    <a:pt x="36" y="789"/>
                  </a:lnTo>
                  <a:lnTo>
                    <a:pt x="41" y="787"/>
                  </a:lnTo>
                  <a:lnTo>
                    <a:pt x="47" y="784"/>
                  </a:lnTo>
                  <a:lnTo>
                    <a:pt x="52" y="781"/>
                  </a:lnTo>
                  <a:lnTo>
                    <a:pt x="59" y="777"/>
                  </a:lnTo>
                  <a:lnTo>
                    <a:pt x="62" y="776"/>
                  </a:lnTo>
                  <a:lnTo>
                    <a:pt x="66" y="773"/>
                  </a:lnTo>
                  <a:lnTo>
                    <a:pt x="145" y="729"/>
                  </a:lnTo>
                  <a:lnTo>
                    <a:pt x="168" y="716"/>
                  </a:lnTo>
                  <a:lnTo>
                    <a:pt x="180" y="710"/>
                  </a:lnTo>
                  <a:lnTo>
                    <a:pt x="191" y="704"/>
                  </a:lnTo>
                  <a:lnTo>
                    <a:pt x="204" y="697"/>
                  </a:lnTo>
                  <a:lnTo>
                    <a:pt x="216" y="690"/>
                  </a:lnTo>
                  <a:lnTo>
                    <a:pt x="229" y="682"/>
                  </a:lnTo>
                  <a:lnTo>
                    <a:pt x="242" y="674"/>
                  </a:lnTo>
                  <a:lnTo>
                    <a:pt x="249" y="669"/>
                  </a:lnTo>
                  <a:lnTo>
                    <a:pt x="256" y="664"/>
                  </a:lnTo>
                  <a:lnTo>
                    <a:pt x="272" y="654"/>
                  </a:lnTo>
                  <a:lnTo>
                    <a:pt x="287" y="644"/>
                  </a:lnTo>
                  <a:lnTo>
                    <a:pt x="303" y="633"/>
                  </a:lnTo>
                  <a:lnTo>
                    <a:pt x="319" y="621"/>
                  </a:lnTo>
                  <a:lnTo>
                    <a:pt x="335" y="610"/>
                  </a:lnTo>
                  <a:lnTo>
                    <a:pt x="349" y="599"/>
                  </a:lnTo>
                  <a:lnTo>
                    <a:pt x="356" y="593"/>
                  </a:lnTo>
                  <a:lnTo>
                    <a:pt x="363" y="587"/>
                  </a:lnTo>
                  <a:lnTo>
                    <a:pt x="369" y="582"/>
                  </a:lnTo>
                  <a:lnTo>
                    <a:pt x="375" y="577"/>
                  </a:lnTo>
                  <a:lnTo>
                    <a:pt x="387" y="566"/>
                  </a:lnTo>
                  <a:lnTo>
                    <a:pt x="398" y="556"/>
                  </a:lnTo>
                  <a:lnTo>
                    <a:pt x="408" y="545"/>
                  </a:lnTo>
                  <a:lnTo>
                    <a:pt x="419" y="534"/>
                  </a:lnTo>
                  <a:lnTo>
                    <a:pt x="424" y="528"/>
                  </a:lnTo>
                  <a:lnTo>
                    <a:pt x="429" y="522"/>
                  </a:lnTo>
                  <a:lnTo>
                    <a:pt x="435" y="515"/>
                  </a:lnTo>
                  <a:lnTo>
                    <a:pt x="441" y="508"/>
                  </a:lnTo>
                  <a:lnTo>
                    <a:pt x="447" y="501"/>
                  </a:lnTo>
                  <a:lnTo>
                    <a:pt x="453" y="494"/>
                  </a:lnTo>
                  <a:lnTo>
                    <a:pt x="459" y="485"/>
                  </a:lnTo>
                  <a:lnTo>
                    <a:pt x="466" y="477"/>
                  </a:lnTo>
                  <a:lnTo>
                    <a:pt x="473" y="468"/>
                  </a:lnTo>
                  <a:lnTo>
                    <a:pt x="480" y="459"/>
                  </a:lnTo>
                  <a:lnTo>
                    <a:pt x="487" y="449"/>
                  </a:lnTo>
                  <a:lnTo>
                    <a:pt x="495" y="439"/>
                  </a:lnTo>
                  <a:lnTo>
                    <a:pt x="510" y="419"/>
                  </a:lnTo>
                  <a:lnTo>
                    <a:pt x="524" y="399"/>
                  </a:lnTo>
                  <a:lnTo>
                    <a:pt x="539" y="378"/>
                  </a:lnTo>
                  <a:lnTo>
                    <a:pt x="553" y="357"/>
                  </a:lnTo>
                  <a:lnTo>
                    <a:pt x="566" y="337"/>
                  </a:lnTo>
                  <a:lnTo>
                    <a:pt x="578" y="317"/>
                  </a:lnTo>
                  <a:lnTo>
                    <a:pt x="590" y="297"/>
                  </a:lnTo>
                  <a:lnTo>
                    <a:pt x="601" y="276"/>
                  </a:lnTo>
                  <a:lnTo>
                    <a:pt x="612" y="255"/>
                  </a:lnTo>
                  <a:lnTo>
                    <a:pt x="635" y="214"/>
                  </a:lnTo>
                  <a:lnTo>
                    <a:pt x="646" y="193"/>
                  </a:lnTo>
                  <a:lnTo>
                    <a:pt x="658" y="172"/>
                  </a:lnTo>
                  <a:lnTo>
                    <a:pt x="683" y="133"/>
                  </a:lnTo>
                  <a:lnTo>
                    <a:pt x="708" y="93"/>
                  </a:lnTo>
                  <a:lnTo>
                    <a:pt x="734" y="55"/>
                  </a:lnTo>
                  <a:lnTo>
                    <a:pt x="770" y="0"/>
                  </a:lnTo>
                  <a:lnTo>
                    <a:pt x="780" y="7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Freeform 851"/>
            <p:cNvSpPr/>
            <p:nvPr/>
          </p:nvSpPr>
          <p:spPr>
            <a:xfrm>
              <a:off x="2082960" y="3586320"/>
              <a:ext cx="1578960" cy="538200"/>
            </a:xfrm>
            <a:custGeom>
              <a:avLst/>
              <a:gdLst/>
              <a:ahLst/>
              <a:rect l="l" t="t" r="r" b="b"/>
              <a:pathLst>
                <a:path w="938" h="319">
                  <a:moveTo>
                    <a:pt x="0" y="122"/>
                  </a:moveTo>
                  <a:lnTo>
                    <a:pt x="31" y="113"/>
                  </a:lnTo>
                  <a:lnTo>
                    <a:pt x="44" y="109"/>
                  </a:lnTo>
                  <a:lnTo>
                    <a:pt x="58" y="105"/>
                  </a:lnTo>
                  <a:lnTo>
                    <a:pt x="72" y="101"/>
                  </a:lnTo>
                  <a:lnTo>
                    <a:pt x="79" y="99"/>
                  </a:lnTo>
                  <a:lnTo>
                    <a:pt x="87" y="97"/>
                  </a:lnTo>
                  <a:lnTo>
                    <a:pt x="95" y="95"/>
                  </a:lnTo>
                  <a:lnTo>
                    <a:pt x="103" y="92"/>
                  </a:lnTo>
                  <a:lnTo>
                    <a:pt x="112" y="90"/>
                  </a:lnTo>
                  <a:lnTo>
                    <a:pt x="121" y="88"/>
                  </a:lnTo>
                  <a:lnTo>
                    <a:pt x="130" y="85"/>
                  </a:lnTo>
                  <a:lnTo>
                    <a:pt x="140" y="82"/>
                  </a:lnTo>
                  <a:lnTo>
                    <a:pt x="151" y="80"/>
                  </a:lnTo>
                  <a:lnTo>
                    <a:pt x="162" y="77"/>
                  </a:lnTo>
                  <a:lnTo>
                    <a:pt x="174" y="73"/>
                  </a:lnTo>
                  <a:lnTo>
                    <a:pt x="187" y="70"/>
                  </a:lnTo>
                  <a:lnTo>
                    <a:pt x="199" y="66"/>
                  </a:lnTo>
                  <a:lnTo>
                    <a:pt x="213" y="63"/>
                  </a:lnTo>
                  <a:lnTo>
                    <a:pt x="240" y="55"/>
                  </a:lnTo>
                  <a:lnTo>
                    <a:pt x="268" y="48"/>
                  </a:lnTo>
                  <a:lnTo>
                    <a:pt x="295" y="41"/>
                  </a:lnTo>
                  <a:lnTo>
                    <a:pt x="309" y="37"/>
                  </a:lnTo>
                  <a:lnTo>
                    <a:pt x="322" y="34"/>
                  </a:lnTo>
                  <a:lnTo>
                    <a:pt x="334" y="31"/>
                  </a:lnTo>
                  <a:lnTo>
                    <a:pt x="346" y="28"/>
                  </a:lnTo>
                  <a:lnTo>
                    <a:pt x="370" y="23"/>
                  </a:lnTo>
                  <a:lnTo>
                    <a:pt x="393" y="18"/>
                  </a:lnTo>
                  <a:lnTo>
                    <a:pt x="415" y="14"/>
                  </a:lnTo>
                  <a:lnTo>
                    <a:pt x="437" y="10"/>
                  </a:lnTo>
                  <a:lnTo>
                    <a:pt x="458" y="6"/>
                  </a:lnTo>
                  <a:lnTo>
                    <a:pt x="468" y="5"/>
                  </a:lnTo>
                  <a:lnTo>
                    <a:pt x="478" y="3"/>
                  </a:lnTo>
                  <a:lnTo>
                    <a:pt x="488" y="2"/>
                  </a:lnTo>
                  <a:lnTo>
                    <a:pt x="497" y="1"/>
                  </a:lnTo>
                  <a:lnTo>
                    <a:pt x="507" y="1"/>
                  </a:lnTo>
                  <a:lnTo>
                    <a:pt x="515" y="0"/>
                  </a:lnTo>
                  <a:lnTo>
                    <a:pt x="524" y="0"/>
                  </a:lnTo>
                  <a:lnTo>
                    <a:pt x="531" y="0"/>
                  </a:lnTo>
                  <a:lnTo>
                    <a:pt x="539" y="0"/>
                  </a:lnTo>
                  <a:lnTo>
                    <a:pt x="545" y="1"/>
                  </a:lnTo>
                  <a:lnTo>
                    <a:pt x="552" y="1"/>
                  </a:lnTo>
                  <a:lnTo>
                    <a:pt x="558" y="2"/>
                  </a:lnTo>
                  <a:lnTo>
                    <a:pt x="569" y="4"/>
                  </a:lnTo>
                  <a:lnTo>
                    <a:pt x="581" y="7"/>
                  </a:lnTo>
                  <a:lnTo>
                    <a:pt x="587" y="9"/>
                  </a:lnTo>
                  <a:lnTo>
                    <a:pt x="592" y="11"/>
                  </a:lnTo>
                  <a:lnTo>
                    <a:pt x="598" y="13"/>
                  </a:lnTo>
                  <a:lnTo>
                    <a:pt x="604" y="15"/>
                  </a:lnTo>
                  <a:lnTo>
                    <a:pt x="611" y="17"/>
                  </a:lnTo>
                  <a:lnTo>
                    <a:pt x="618" y="20"/>
                  </a:lnTo>
                  <a:lnTo>
                    <a:pt x="626" y="22"/>
                  </a:lnTo>
                  <a:lnTo>
                    <a:pt x="634" y="25"/>
                  </a:lnTo>
                  <a:lnTo>
                    <a:pt x="642" y="28"/>
                  </a:lnTo>
                  <a:lnTo>
                    <a:pt x="651" y="31"/>
                  </a:lnTo>
                  <a:lnTo>
                    <a:pt x="670" y="38"/>
                  </a:lnTo>
                  <a:lnTo>
                    <a:pt x="689" y="45"/>
                  </a:lnTo>
                  <a:lnTo>
                    <a:pt x="708" y="54"/>
                  </a:lnTo>
                  <a:lnTo>
                    <a:pt x="727" y="62"/>
                  </a:lnTo>
                  <a:lnTo>
                    <a:pt x="737" y="67"/>
                  </a:lnTo>
                  <a:lnTo>
                    <a:pt x="746" y="72"/>
                  </a:lnTo>
                  <a:lnTo>
                    <a:pt x="755" y="76"/>
                  </a:lnTo>
                  <a:lnTo>
                    <a:pt x="763" y="81"/>
                  </a:lnTo>
                  <a:lnTo>
                    <a:pt x="772" y="86"/>
                  </a:lnTo>
                  <a:lnTo>
                    <a:pt x="780" y="92"/>
                  </a:lnTo>
                  <a:lnTo>
                    <a:pt x="797" y="104"/>
                  </a:lnTo>
                  <a:lnTo>
                    <a:pt x="814" y="116"/>
                  </a:lnTo>
                  <a:lnTo>
                    <a:pt x="830" y="129"/>
                  </a:lnTo>
                  <a:lnTo>
                    <a:pt x="838" y="135"/>
                  </a:lnTo>
                  <a:lnTo>
                    <a:pt x="845" y="142"/>
                  </a:lnTo>
                  <a:lnTo>
                    <a:pt x="852" y="148"/>
                  </a:lnTo>
                  <a:lnTo>
                    <a:pt x="859" y="154"/>
                  </a:lnTo>
                  <a:lnTo>
                    <a:pt x="866" y="160"/>
                  </a:lnTo>
                  <a:lnTo>
                    <a:pt x="871" y="166"/>
                  </a:lnTo>
                  <a:lnTo>
                    <a:pt x="877" y="171"/>
                  </a:lnTo>
                  <a:lnTo>
                    <a:pt x="882" y="177"/>
                  </a:lnTo>
                  <a:lnTo>
                    <a:pt x="887" y="182"/>
                  </a:lnTo>
                  <a:lnTo>
                    <a:pt x="891" y="187"/>
                  </a:lnTo>
                  <a:lnTo>
                    <a:pt x="895" y="192"/>
                  </a:lnTo>
                  <a:lnTo>
                    <a:pt x="898" y="197"/>
                  </a:lnTo>
                  <a:lnTo>
                    <a:pt x="902" y="202"/>
                  </a:lnTo>
                  <a:lnTo>
                    <a:pt x="904" y="207"/>
                  </a:lnTo>
                  <a:lnTo>
                    <a:pt x="906" y="212"/>
                  </a:lnTo>
                  <a:lnTo>
                    <a:pt x="908" y="216"/>
                  </a:lnTo>
                  <a:lnTo>
                    <a:pt x="911" y="224"/>
                  </a:lnTo>
                  <a:lnTo>
                    <a:pt x="914" y="232"/>
                  </a:lnTo>
                  <a:lnTo>
                    <a:pt x="916" y="239"/>
                  </a:lnTo>
                  <a:lnTo>
                    <a:pt x="918" y="244"/>
                  </a:lnTo>
                  <a:lnTo>
                    <a:pt x="921" y="251"/>
                  </a:lnTo>
                  <a:lnTo>
                    <a:pt x="923" y="259"/>
                  </a:lnTo>
                  <a:lnTo>
                    <a:pt x="925" y="266"/>
                  </a:lnTo>
                  <a:lnTo>
                    <a:pt x="927" y="272"/>
                  </a:lnTo>
                  <a:lnTo>
                    <a:pt x="928" y="278"/>
                  </a:lnTo>
                  <a:lnTo>
                    <a:pt x="929" y="283"/>
                  </a:lnTo>
                  <a:lnTo>
                    <a:pt x="930" y="286"/>
                  </a:lnTo>
                  <a:lnTo>
                    <a:pt x="931" y="286"/>
                  </a:lnTo>
                  <a:lnTo>
                    <a:pt x="938" y="304"/>
                  </a:lnTo>
                  <a:lnTo>
                    <a:pt x="927" y="309"/>
                  </a:lnTo>
                  <a:lnTo>
                    <a:pt x="919" y="291"/>
                  </a:lnTo>
                  <a:lnTo>
                    <a:pt x="918" y="289"/>
                  </a:lnTo>
                  <a:lnTo>
                    <a:pt x="917" y="286"/>
                  </a:lnTo>
                  <a:lnTo>
                    <a:pt x="916" y="281"/>
                  </a:lnTo>
                  <a:lnTo>
                    <a:pt x="915" y="275"/>
                  </a:lnTo>
                  <a:lnTo>
                    <a:pt x="913" y="269"/>
                  </a:lnTo>
                  <a:lnTo>
                    <a:pt x="911" y="262"/>
                  </a:lnTo>
                  <a:lnTo>
                    <a:pt x="909" y="255"/>
                  </a:lnTo>
                  <a:lnTo>
                    <a:pt x="906" y="249"/>
                  </a:lnTo>
                  <a:lnTo>
                    <a:pt x="904" y="243"/>
                  </a:lnTo>
                  <a:lnTo>
                    <a:pt x="902" y="236"/>
                  </a:lnTo>
                  <a:lnTo>
                    <a:pt x="900" y="229"/>
                  </a:lnTo>
                  <a:lnTo>
                    <a:pt x="897" y="221"/>
                  </a:lnTo>
                  <a:lnTo>
                    <a:pt x="895" y="217"/>
                  </a:lnTo>
                  <a:lnTo>
                    <a:pt x="893" y="213"/>
                  </a:lnTo>
                  <a:lnTo>
                    <a:pt x="891" y="209"/>
                  </a:lnTo>
                  <a:lnTo>
                    <a:pt x="888" y="204"/>
                  </a:lnTo>
                  <a:lnTo>
                    <a:pt x="885" y="200"/>
                  </a:lnTo>
                  <a:lnTo>
                    <a:pt x="882" y="195"/>
                  </a:lnTo>
                  <a:lnTo>
                    <a:pt x="878" y="190"/>
                  </a:lnTo>
                  <a:lnTo>
                    <a:pt x="873" y="185"/>
                  </a:lnTo>
                  <a:lnTo>
                    <a:pt x="868" y="180"/>
                  </a:lnTo>
                  <a:lnTo>
                    <a:pt x="863" y="175"/>
                  </a:lnTo>
                  <a:lnTo>
                    <a:pt x="857" y="169"/>
                  </a:lnTo>
                  <a:lnTo>
                    <a:pt x="851" y="164"/>
                  </a:lnTo>
                  <a:lnTo>
                    <a:pt x="844" y="157"/>
                  </a:lnTo>
                  <a:lnTo>
                    <a:pt x="837" y="151"/>
                  </a:lnTo>
                  <a:lnTo>
                    <a:pt x="830" y="145"/>
                  </a:lnTo>
                  <a:lnTo>
                    <a:pt x="822" y="139"/>
                  </a:lnTo>
                  <a:lnTo>
                    <a:pt x="806" y="126"/>
                  </a:lnTo>
                  <a:lnTo>
                    <a:pt x="790" y="114"/>
                  </a:lnTo>
                  <a:lnTo>
                    <a:pt x="773" y="103"/>
                  </a:lnTo>
                  <a:lnTo>
                    <a:pt x="765" y="97"/>
                  </a:lnTo>
                  <a:lnTo>
                    <a:pt x="757" y="92"/>
                  </a:lnTo>
                  <a:lnTo>
                    <a:pt x="749" y="88"/>
                  </a:lnTo>
                  <a:lnTo>
                    <a:pt x="740" y="83"/>
                  </a:lnTo>
                  <a:lnTo>
                    <a:pt x="731" y="78"/>
                  </a:lnTo>
                  <a:lnTo>
                    <a:pt x="722" y="74"/>
                  </a:lnTo>
                  <a:lnTo>
                    <a:pt x="703" y="65"/>
                  </a:lnTo>
                  <a:lnTo>
                    <a:pt x="684" y="57"/>
                  </a:lnTo>
                  <a:lnTo>
                    <a:pt x="665" y="50"/>
                  </a:lnTo>
                  <a:lnTo>
                    <a:pt x="647" y="43"/>
                  </a:lnTo>
                  <a:lnTo>
                    <a:pt x="638" y="40"/>
                  </a:lnTo>
                  <a:lnTo>
                    <a:pt x="630" y="37"/>
                  </a:lnTo>
                  <a:lnTo>
                    <a:pt x="622" y="34"/>
                  </a:lnTo>
                  <a:lnTo>
                    <a:pt x="614" y="32"/>
                  </a:lnTo>
                  <a:lnTo>
                    <a:pt x="607" y="29"/>
                  </a:lnTo>
                  <a:lnTo>
                    <a:pt x="600" y="27"/>
                  </a:lnTo>
                  <a:lnTo>
                    <a:pt x="594" y="25"/>
                  </a:lnTo>
                  <a:lnTo>
                    <a:pt x="589" y="23"/>
                  </a:lnTo>
                  <a:lnTo>
                    <a:pt x="583" y="21"/>
                  </a:lnTo>
                  <a:lnTo>
                    <a:pt x="577" y="19"/>
                  </a:lnTo>
                  <a:lnTo>
                    <a:pt x="567" y="17"/>
                  </a:lnTo>
                  <a:lnTo>
                    <a:pt x="556" y="15"/>
                  </a:lnTo>
                  <a:lnTo>
                    <a:pt x="551" y="14"/>
                  </a:lnTo>
                  <a:lnTo>
                    <a:pt x="545" y="13"/>
                  </a:lnTo>
                  <a:lnTo>
                    <a:pt x="538" y="13"/>
                  </a:lnTo>
                  <a:lnTo>
                    <a:pt x="531" y="13"/>
                  </a:lnTo>
                  <a:lnTo>
                    <a:pt x="524" y="13"/>
                  </a:lnTo>
                  <a:lnTo>
                    <a:pt x="516" y="13"/>
                  </a:lnTo>
                  <a:lnTo>
                    <a:pt x="508" y="13"/>
                  </a:lnTo>
                  <a:lnTo>
                    <a:pt x="499" y="14"/>
                  </a:lnTo>
                  <a:lnTo>
                    <a:pt x="490" y="15"/>
                  </a:lnTo>
                  <a:lnTo>
                    <a:pt x="480" y="16"/>
                  </a:lnTo>
                  <a:lnTo>
                    <a:pt x="470" y="17"/>
                  </a:lnTo>
                  <a:lnTo>
                    <a:pt x="460" y="19"/>
                  </a:lnTo>
                  <a:lnTo>
                    <a:pt x="439" y="22"/>
                  </a:lnTo>
                  <a:lnTo>
                    <a:pt x="418" y="26"/>
                  </a:lnTo>
                  <a:lnTo>
                    <a:pt x="395" y="31"/>
                  </a:lnTo>
                  <a:lnTo>
                    <a:pt x="372" y="36"/>
                  </a:lnTo>
                  <a:lnTo>
                    <a:pt x="349" y="41"/>
                  </a:lnTo>
                  <a:lnTo>
                    <a:pt x="337" y="43"/>
                  </a:lnTo>
                  <a:lnTo>
                    <a:pt x="325" y="46"/>
                  </a:lnTo>
                  <a:lnTo>
                    <a:pt x="312" y="50"/>
                  </a:lnTo>
                  <a:lnTo>
                    <a:pt x="299" y="53"/>
                  </a:lnTo>
                  <a:lnTo>
                    <a:pt x="271" y="60"/>
                  </a:lnTo>
                  <a:lnTo>
                    <a:pt x="243" y="67"/>
                  </a:lnTo>
                  <a:lnTo>
                    <a:pt x="216" y="75"/>
                  </a:lnTo>
                  <a:lnTo>
                    <a:pt x="203" y="78"/>
                  </a:lnTo>
                  <a:lnTo>
                    <a:pt x="190" y="82"/>
                  </a:lnTo>
                  <a:lnTo>
                    <a:pt x="177" y="86"/>
                  </a:lnTo>
                  <a:lnTo>
                    <a:pt x="165" y="89"/>
                  </a:lnTo>
                  <a:lnTo>
                    <a:pt x="154" y="92"/>
                  </a:lnTo>
                  <a:lnTo>
                    <a:pt x="143" y="95"/>
                  </a:lnTo>
                  <a:lnTo>
                    <a:pt x="133" y="97"/>
                  </a:lnTo>
                  <a:lnTo>
                    <a:pt x="124" y="100"/>
                  </a:lnTo>
                  <a:lnTo>
                    <a:pt x="115" y="102"/>
                  </a:lnTo>
                  <a:lnTo>
                    <a:pt x="106" y="105"/>
                  </a:lnTo>
                  <a:lnTo>
                    <a:pt x="98" y="107"/>
                  </a:lnTo>
                  <a:lnTo>
                    <a:pt x="90" y="109"/>
                  </a:lnTo>
                  <a:lnTo>
                    <a:pt x="82" y="111"/>
                  </a:lnTo>
                  <a:lnTo>
                    <a:pt x="75" y="113"/>
                  </a:lnTo>
                  <a:lnTo>
                    <a:pt x="61" y="117"/>
                  </a:lnTo>
                  <a:lnTo>
                    <a:pt x="48" y="121"/>
                  </a:lnTo>
                  <a:lnTo>
                    <a:pt x="35" y="125"/>
                  </a:lnTo>
                  <a:lnTo>
                    <a:pt x="4" y="134"/>
                  </a:lnTo>
                  <a:lnTo>
                    <a:pt x="0" y="122"/>
                  </a:lnTo>
                  <a:close/>
                  <a:moveTo>
                    <a:pt x="8" y="146"/>
                  </a:moveTo>
                  <a:lnTo>
                    <a:pt x="38" y="137"/>
                  </a:lnTo>
                  <a:lnTo>
                    <a:pt x="51" y="133"/>
                  </a:lnTo>
                  <a:lnTo>
                    <a:pt x="64" y="129"/>
                  </a:lnTo>
                  <a:lnTo>
                    <a:pt x="78" y="126"/>
                  </a:lnTo>
                  <a:lnTo>
                    <a:pt x="86" y="123"/>
                  </a:lnTo>
                  <a:lnTo>
                    <a:pt x="93" y="121"/>
                  </a:lnTo>
                  <a:lnTo>
                    <a:pt x="101" y="119"/>
                  </a:lnTo>
                  <a:lnTo>
                    <a:pt x="110" y="117"/>
                  </a:lnTo>
                  <a:lnTo>
                    <a:pt x="118" y="115"/>
                  </a:lnTo>
                  <a:lnTo>
                    <a:pt x="127" y="112"/>
                  </a:lnTo>
                  <a:lnTo>
                    <a:pt x="137" y="110"/>
                  </a:lnTo>
                  <a:lnTo>
                    <a:pt x="147" y="107"/>
                  </a:lnTo>
                  <a:lnTo>
                    <a:pt x="157" y="104"/>
                  </a:lnTo>
                  <a:lnTo>
                    <a:pt x="169" y="101"/>
                  </a:lnTo>
                  <a:lnTo>
                    <a:pt x="181" y="98"/>
                  </a:lnTo>
                  <a:lnTo>
                    <a:pt x="193" y="94"/>
                  </a:lnTo>
                  <a:lnTo>
                    <a:pt x="206" y="91"/>
                  </a:lnTo>
                  <a:lnTo>
                    <a:pt x="219" y="87"/>
                  </a:lnTo>
                  <a:lnTo>
                    <a:pt x="247" y="80"/>
                  </a:lnTo>
                  <a:lnTo>
                    <a:pt x="274" y="72"/>
                  </a:lnTo>
                  <a:lnTo>
                    <a:pt x="302" y="65"/>
                  </a:lnTo>
                  <a:lnTo>
                    <a:pt x="315" y="62"/>
                  </a:lnTo>
                  <a:lnTo>
                    <a:pt x="328" y="59"/>
                  </a:lnTo>
                  <a:lnTo>
                    <a:pt x="340" y="56"/>
                  </a:lnTo>
                  <a:lnTo>
                    <a:pt x="352" y="53"/>
                  </a:lnTo>
                  <a:lnTo>
                    <a:pt x="375" y="48"/>
                  </a:lnTo>
                  <a:lnTo>
                    <a:pt x="398" y="43"/>
                  </a:lnTo>
                  <a:lnTo>
                    <a:pt x="420" y="39"/>
                  </a:lnTo>
                  <a:lnTo>
                    <a:pt x="442" y="35"/>
                  </a:lnTo>
                  <a:lnTo>
                    <a:pt x="462" y="31"/>
                  </a:lnTo>
                  <a:lnTo>
                    <a:pt x="472" y="30"/>
                  </a:lnTo>
                  <a:lnTo>
                    <a:pt x="482" y="29"/>
                  </a:lnTo>
                  <a:lnTo>
                    <a:pt x="491" y="27"/>
                  </a:lnTo>
                  <a:lnTo>
                    <a:pt x="500" y="27"/>
                  </a:lnTo>
                  <a:lnTo>
                    <a:pt x="509" y="26"/>
                  </a:lnTo>
                  <a:lnTo>
                    <a:pt x="517" y="26"/>
                  </a:lnTo>
                  <a:lnTo>
                    <a:pt x="524" y="25"/>
                  </a:lnTo>
                  <a:lnTo>
                    <a:pt x="531" y="25"/>
                  </a:lnTo>
                  <a:lnTo>
                    <a:pt x="538" y="26"/>
                  </a:lnTo>
                  <a:lnTo>
                    <a:pt x="544" y="26"/>
                  </a:lnTo>
                  <a:lnTo>
                    <a:pt x="549" y="26"/>
                  </a:lnTo>
                  <a:lnTo>
                    <a:pt x="555" y="27"/>
                  </a:lnTo>
                  <a:lnTo>
                    <a:pt x="565" y="29"/>
                  </a:lnTo>
                  <a:lnTo>
                    <a:pt x="574" y="32"/>
                  </a:lnTo>
                  <a:lnTo>
                    <a:pt x="579" y="33"/>
                  </a:lnTo>
                  <a:lnTo>
                    <a:pt x="585" y="35"/>
                  </a:lnTo>
                  <a:lnTo>
                    <a:pt x="590" y="37"/>
                  </a:lnTo>
                  <a:lnTo>
                    <a:pt x="596" y="39"/>
                  </a:lnTo>
                  <a:lnTo>
                    <a:pt x="603" y="41"/>
                  </a:lnTo>
                  <a:lnTo>
                    <a:pt x="610" y="44"/>
                  </a:lnTo>
                  <a:lnTo>
                    <a:pt x="618" y="46"/>
                  </a:lnTo>
                  <a:lnTo>
                    <a:pt x="626" y="49"/>
                  </a:lnTo>
                  <a:lnTo>
                    <a:pt x="634" y="52"/>
                  </a:lnTo>
                  <a:lnTo>
                    <a:pt x="643" y="55"/>
                  </a:lnTo>
                  <a:lnTo>
                    <a:pt x="661" y="62"/>
                  </a:lnTo>
                  <a:lnTo>
                    <a:pt x="679" y="69"/>
                  </a:lnTo>
                  <a:lnTo>
                    <a:pt x="698" y="77"/>
                  </a:lnTo>
                  <a:lnTo>
                    <a:pt x="717" y="85"/>
                  </a:lnTo>
                  <a:lnTo>
                    <a:pt x="725" y="90"/>
                  </a:lnTo>
                  <a:lnTo>
                    <a:pt x="734" y="94"/>
                  </a:lnTo>
                  <a:lnTo>
                    <a:pt x="743" y="99"/>
                  </a:lnTo>
                  <a:lnTo>
                    <a:pt x="751" y="103"/>
                  </a:lnTo>
                  <a:lnTo>
                    <a:pt x="759" y="108"/>
                  </a:lnTo>
                  <a:lnTo>
                    <a:pt x="767" y="113"/>
                  </a:lnTo>
                  <a:lnTo>
                    <a:pt x="783" y="124"/>
                  </a:lnTo>
                  <a:lnTo>
                    <a:pt x="799" y="136"/>
                  </a:lnTo>
                  <a:lnTo>
                    <a:pt x="814" y="149"/>
                  </a:lnTo>
                  <a:lnTo>
                    <a:pt x="821" y="155"/>
                  </a:lnTo>
                  <a:lnTo>
                    <a:pt x="829" y="161"/>
                  </a:lnTo>
                  <a:lnTo>
                    <a:pt x="836" y="167"/>
                  </a:lnTo>
                  <a:lnTo>
                    <a:pt x="842" y="173"/>
                  </a:lnTo>
                  <a:lnTo>
                    <a:pt x="848" y="179"/>
                  </a:lnTo>
                  <a:lnTo>
                    <a:pt x="854" y="184"/>
                  </a:lnTo>
                  <a:lnTo>
                    <a:pt x="859" y="189"/>
                  </a:lnTo>
                  <a:lnTo>
                    <a:pt x="864" y="194"/>
                  </a:lnTo>
                  <a:lnTo>
                    <a:pt x="868" y="199"/>
                  </a:lnTo>
                  <a:lnTo>
                    <a:pt x="872" y="203"/>
                  </a:lnTo>
                  <a:lnTo>
                    <a:pt x="875" y="207"/>
                  </a:lnTo>
                  <a:lnTo>
                    <a:pt x="878" y="211"/>
                  </a:lnTo>
                  <a:lnTo>
                    <a:pt x="880" y="215"/>
                  </a:lnTo>
                  <a:lnTo>
                    <a:pt x="882" y="219"/>
                  </a:lnTo>
                  <a:lnTo>
                    <a:pt x="884" y="223"/>
                  </a:lnTo>
                  <a:lnTo>
                    <a:pt x="885" y="226"/>
                  </a:lnTo>
                  <a:lnTo>
                    <a:pt x="888" y="233"/>
                  </a:lnTo>
                  <a:lnTo>
                    <a:pt x="890" y="240"/>
                  </a:lnTo>
                  <a:lnTo>
                    <a:pt x="892" y="247"/>
                  </a:lnTo>
                  <a:lnTo>
                    <a:pt x="894" y="253"/>
                  </a:lnTo>
                  <a:lnTo>
                    <a:pt x="897" y="260"/>
                  </a:lnTo>
                  <a:lnTo>
                    <a:pt x="899" y="266"/>
                  </a:lnTo>
                  <a:lnTo>
                    <a:pt x="901" y="273"/>
                  </a:lnTo>
                  <a:lnTo>
                    <a:pt x="902" y="278"/>
                  </a:lnTo>
                  <a:lnTo>
                    <a:pt x="903" y="284"/>
                  </a:lnTo>
                  <a:lnTo>
                    <a:pt x="905" y="289"/>
                  </a:lnTo>
                  <a:lnTo>
                    <a:pt x="906" y="293"/>
                  </a:lnTo>
                  <a:lnTo>
                    <a:pt x="907" y="295"/>
                  </a:lnTo>
                  <a:lnTo>
                    <a:pt x="915" y="314"/>
                  </a:lnTo>
                  <a:lnTo>
                    <a:pt x="903" y="319"/>
                  </a:lnTo>
                  <a:lnTo>
                    <a:pt x="895" y="299"/>
                  </a:lnTo>
                  <a:lnTo>
                    <a:pt x="894" y="297"/>
                  </a:lnTo>
                  <a:lnTo>
                    <a:pt x="892" y="292"/>
                  </a:lnTo>
                  <a:lnTo>
                    <a:pt x="891" y="287"/>
                  </a:lnTo>
                  <a:lnTo>
                    <a:pt x="890" y="281"/>
                  </a:lnTo>
                  <a:lnTo>
                    <a:pt x="889" y="276"/>
                  </a:lnTo>
                  <a:lnTo>
                    <a:pt x="887" y="270"/>
                  </a:lnTo>
                  <a:lnTo>
                    <a:pt x="885" y="265"/>
                  </a:lnTo>
                  <a:lnTo>
                    <a:pt x="883" y="258"/>
                  </a:lnTo>
                  <a:lnTo>
                    <a:pt x="880" y="250"/>
                  </a:lnTo>
                  <a:lnTo>
                    <a:pt x="878" y="244"/>
                  </a:lnTo>
                  <a:lnTo>
                    <a:pt x="876" y="237"/>
                  </a:lnTo>
                  <a:lnTo>
                    <a:pt x="873" y="231"/>
                  </a:lnTo>
                  <a:lnTo>
                    <a:pt x="872" y="228"/>
                  </a:lnTo>
                  <a:lnTo>
                    <a:pt x="871" y="225"/>
                  </a:lnTo>
                  <a:lnTo>
                    <a:pt x="869" y="222"/>
                  </a:lnTo>
                  <a:lnTo>
                    <a:pt x="867" y="219"/>
                  </a:lnTo>
                  <a:lnTo>
                    <a:pt x="865" y="215"/>
                  </a:lnTo>
                  <a:lnTo>
                    <a:pt x="862" y="211"/>
                  </a:lnTo>
                  <a:lnTo>
                    <a:pt x="859" y="207"/>
                  </a:lnTo>
                  <a:lnTo>
                    <a:pt x="855" y="203"/>
                  </a:lnTo>
                  <a:lnTo>
                    <a:pt x="850" y="198"/>
                  </a:lnTo>
                  <a:lnTo>
                    <a:pt x="845" y="193"/>
                  </a:lnTo>
                  <a:lnTo>
                    <a:pt x="840" y="188"/>
                  </a:lnTo>
                  <a:lnTo>
                    <a:pt x="834" y="182"/>
                  </a:lnTo>
                  <a:lnTo>
                    <a:pt x="827" y="177"/>
                  </a:lnTo>
                  <a:lnTo>
                    <a:pt x="820" y="171"/>
                  </a:lnTo>
                  <a:lnTo>
                    <a:pt x="813" y="165"/>
                  </a:lnTo>
                  <a:lnTo>
                    <a:pt x="806" y="159"/>
                  </a:lnTo>
                  <a:lnTo>
                    <a:pt x="791" y="147"/>
                  </a:lnTo>
                  <a:lnTo>
                    <a:pt x="776" y="135"/>
                  </a:lnTo>
                  <a:lnTo>
                    <a:pt x="760" y="124"/>
                  </a:lnTo>
                  <a:lnTo>
                    <a:pt x="752" y="119"/>
                  </a:lnTo>
                  <a:lnTo>
                    <a:pt x="744" y="114"/>
                  </a:lnTo>
                  <a:lnTo>
                    <a:pt x="737" y="110"/>
                  </a:lnTo>
                  <a:lnTo>
                    <a:pt x="728" y="105"/>
                  </a:lnTo>
                  <a:lnTo>
                    <a:pt x="720" y="101"/>
                  </a:lnTo>
                  <a:lnTo>
                    <a:pt x="711" y="97"/>
                  </a:lnTo>
                  <a:lnTo>
                    <a:pt x="693" y="89"/>
                  </a:lnTo>
                  <a:lnTo>
                    <a:pt x="675" y="81"/>
                  </a:lnTo>
                  <a:lnTo>
                    <a:pt x="656" y="74"/>
                  </a:lnTo>
                  <a:lnTo>
                    <a:pt x="638" y="67"/>
                  </a:lnTo>
                  <a:lnTo>
                    <a:pt x="630" y="64"/>
                  </a:lnTo>
                  <a:lnTo>
                    <a:pt x="622" y="61"/>
                  </a:lnTo>
                  <a:lnTo>
                    <a:pt x="614" y="58"/>
                  </a:lnTo>
                  <a:lnTo>
                    <a:pt x="606" y="56"/>
                  </a:lnTo>
                  <a:lnTo>
                    <a:pt x="599" y="53"/>
                  </a:lnTo>
                  <a:lnTo>
                    <a:pt x="592" y="51"/>
                  </a:lnTo>
                  <a:lnTo>
                    <a:pt x="586" y="49"/>
                  </a:lnTo>
                  <a:lnTo>
                    <a:pt x="581" y="47"/>
                  </a:lnTo>
                  <a:lnTo>
                    <a:pt x="575" y="45"/>
                  </a:lnTo>
                  <a:lnTo>
                    <a:pt x="571" y="44"/>
                  </a:lnTo>
                  <a:lnTo>
                    <a:pt x="562" y="42"/>
                  </a:lnTo>
                  <a:lnTo>
                    <a:pt x="553" y="40"/>
                  </a:lnTo>
                  <a:lnTo>
                    <a:pt x="548" y="39"/>
                  </a:lnTo>
                  <a:lnTo>
                    <a:pt x="543" y="39"/>
                  </a:lnTo>
                  <a:lnTo>
                    <a:pt x="537" y="38"/>
                  </a:lnTo>
                  <a:lnTo>
                    <a:pt x="531" y="38"/>
                  </a:lnTo>
                  <a:lnTo>
                    <a:pt x="525" y="38"/>
                  </a:lnTo>
                  <a:lnTo>
                    <a:pt x="517" y="38"/>
                  </a:lnTo>
                  <a:lnTo>
                    <a:pt x="510" y="39"/>
                  </a:lnTo>
                  <a:lnTo>
                    <a:pt x="501" y="39"/>
                  </a:lnTo>
                  <a:lnTo>
                    <a:pt x="492" y="40"/>
                  </a:lnTo>
                  <a:lnTo>
                    <a:pt x="483" y="41"/>
                  </a:lnTo>
                  <a:lnTo>
                    <a:pt x="474" y="42"/>
                  </a:lnTo>
                  <a:lnTo>
                    <a:pt x="464" y="44"/>
                  </a:lnTo>
                  <a:lnTo>
                    <a:pt x="444" y="47"/>
                  </a:lnTo>
                  <a:lnTo>
                    <a:pt x="423" y="51"/>
                  </a:lnTo>
                  <a:lnTo>
                    <a:pt x="400" y="56"/>
                  </a:lnTo>
                  <a:lnTo>
                    <a:pt x="378" y="60"/>
                  </a:lnTo>
                  <a:lnTo>
                    <a:pt x="355" y="65"/>
                  </a:lnTo>
                  <a:lnTo>
                    <a:pt x="343" y="68"/>
                  </a:lnTo>
                  <a:lnTo>
                    <a:pt x="331" y="71"/>
                  </a:lnTo>
                  <a:lnTo>
                    <a:pt x="318" y="74"/>
                  </a:lnTo>
                  <a:lnTo>
                    <a:pt x="305" y="77"/>
                  </a:lnTo>
                  <a:lnTo>
                    <a:pt x="278" y="84"/>
                  </a:lnTo>
                  <a:lnTo>
                    <a:pt x="250" y="92"/>
                  </a:lnTo>
                  <a:lnTo>
                    <a:pt x="223" y="99"/>
                  </a:lnTo>
                  <a:lnTo>
                    <a:pt x="210" y="103"/>
                  </a:lnTo>
                  <a:lnTo>
                    <a:pt x="197" y="107"/>
                  </a:lnTo>
                  <a:lnTo>
                    <a:pt x="184" y="110"/>
                  </a:lnTo>
                  <a:lnTo>
                    <a:pt x="172" y="113"/>
                  </a:lnTo>
                  <a:lnTo>
                    <a:pt x="161" y="116"/>
                  </a:lnTo>
                  <a:lnTo>
                    <a:pt x="150" y="119"/>
                  </a:lnTo>
                  <a:lnTo>
                    <a:pt x="140" y="122"/>
                  </a:lnTo>
                  <a:lnTo>
                    <a:pt x="131" y="124"/>
                  </a:lnTo>
                  <a:lnTo>
                    <a:pt x="122" y="127"/>
                  </a:lnTo>
                  <a:lnTo>
                    <a:pt x="113" y="129"/>
                  </a:lnTo>
                  <a:lnTo>
                    <a:pt x="105" y="131"/>
                  </a:lnTo>
                  <a:lnTo>
                    <a:pt x="97" y="134"/>
                  </a:lnTo>
                  <a:lnTo>
                    <a:pt x="89" y="136"/>
                  </a:lnTo>
                  <a:lnTo>
                    <a:pt x="82" y="138"/>
                  </a:lnTo>
                  <a:lnTo>
                    <a:pt x="68" y="142"/>
                  </a:lnTo>
                  <a:lnTo>
                    <a:pt x="55" y="145"/>
                  </a:lnTo>
                  <a:lnTo>
                    <a:pt x="42" y="149"/>
                  </a:lnTo>
                  <a:lnTo>
                    <a:pt x="11" y="158"/>
                  </a:lnTo>
                  <a:lnTo>
                    <a:pt x="8" y="146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852"/>
            <p:cNvSpPr/>
            <p:nvPr/>
          </p:nvSpPr>
          <p:spPr>
            <a:xfrm>
              <a:off x="2869200" y="3586320"/>
              <a:ext cx="320040" cy="765720"/>
            </a:xfrm>
            <a:custGeom>
              <a:avLst/>
              <a:gdLst/>
              <a:ahLst/>
              <a:rect l="l" t="t" r="r" b="b"/>
              <a:pathLst>
                <a:path w="190" h="455">
                  <a:moveTo>
                    <a:pt x="102" y="0"/>
                  </a:moveTo>
                  <a:lnTo>
                    <a:pt x="117" y="35"/>
                  </a:lnTo>
                  <a:lnTo>
                    <a:pt x="124" y="53"/>
                  </a:lnTo>
                  <a:lnTo>
                    <a:pt x="131" y="71"/>
                  </a:lnTo>
                  <a:lnTo>
                    <a:pt x="139" y="88"/>
                  </a:lnTo>
                  <a:lnTo>
                    <a:pt x="145" y="105"/>
                  </a:lnTo>
                  <a:lnTo>
                    <a:pt x="149" y="112"/>
                  </a:lnTo>
                  <a:lnTo>
                    <a:pt x="152" y="120"/>
                  </a:lnTo>
                  <a:lnTo>
                    <a:pt x="155" y="127"/>
                  </a:lnTo>
                  <a:lnTo>
                    <a:pt x="157" y="134"/>
                  </a:lnTo>
                  <a:lnTo>
                    <a:pt x="160" y="140"/>
                  </a:lnTo>
                  <a:lnTo>
                    <a:pt x="162" y="146"/>
                  </a:lnTo>
                  <a:lnTo>
                    <a:pt x="165" y="152"/>
                  </a:lnTo>
                  <a:lnTo>
                    <a:pt x="167" y="156"/>
                  </a:lnTo>
                  <a:lnTo>
                    <a:pt x="169" y="161"/>
                  </a:lnTo>
                  <a:lnTo>
                    <a:pt x="170" y="165"/>
                  </a:lnTo>
                  <a:lnTo>
                    <a:pt x="172" y="168"/>
                  </a:lnTo>
                  <a:lnTo>
                    <a:pt x="173" y="172"/>
                  </a:lnTo>
                  <a:lnTo>
                    <a:pt x="176" y="178"/>
                  </a:lnTo>
                  <a:lnTo>
                    <a:pt x="179" y="184"/>
                  </a:lnTo>
                  <a:lnTo>
                    <a:pt x="181" y="189"/>
                  </a:lnTo>
                  <a:lnTo>
                    <a:pt x="183" y="195"/>
                  </a:lnTo>
                  <a:lnTo>
                    <a:pt x="185" y="202"/>
                  </a:lnTo>
                  <a:lnTo>
                    <a:pt x="187" y="209"/>
                  </a:lnTo>
                  <a:lnTo>
                    <a:pt x="188" y="215"/>
                  </a:lnTo>
                  <a:lnTo>
                    <a:pt x="189" y="221"/>
                  </a:lnTo>
                  <a:lnTo>
                    <a:pt x="189" y="227"/>
                  </a:lnTo>
                  <a:lnTo>
                    <a:pt x="190" y="233"/>
                  </a:lnTo>
                  <a:lnTo>
                    <a:pt x="190" y="239"/>
                  </a:lnTo>
                  <a:lnTo>
                    <a:pt x="189" y="246"/>
                  </a:lnTo>
                  <a:lnTo>
                    <a:pt x="189" y="254"/>
                  </a:lnTo>
                  <a:lnTo>
                    <a:pt x="188" y="261"/>
                  </a:lnTo>
                  <a:lnTo>
                    <a:pt x="187" y="269"/>
                  </a:lnTo>
                  <a:lnTo>
                    <a:pt x="186" y="278"/>
                  </a:lnTo>
                  <a:lnTo>
                    <a:pt x="185" y="288"/>
                  </a:lnTo>
                  <a:lnTo>
                    <a:pt x="183" y="298"/>
                  </a:lnTo>
                  <a:lnTo>
                    <a:pt x="180" y="309"/>
                  </a:lnTo>
                  <a:lnTo>
                    <a:pt x="177" y="319"/>
                  </a:lnTo>
                  <a:lnTo>
                    <a:pt x="172" y="330"/>
                  </a:lnTo>
                  <a:lnTo>
                    <a:pt x="166" y="340"/>
                  </a:lnTo>
                  <a:lnTo>
                    <a:pt x="160" y="350"/>
                  </a:lnTo>
                  <a:lnTo>
                    <a:pt x="153" y="359"/>
                  </a:lnTo>
                  <a:lnTo>
                    <a:pt x="145" y="369"/>
                  </a:lnTo>
                  <a:lnTo>
                    <a:pt x="137" y="378"/>
                  </a:lnTo>
                  <a:lnTo>
                    <a:pt x="128" y="387"/>
                  </a:lnTo>
                  <a:lnTo>
                    <a:pt x="120" y="395"/>
                  </a:lnTo>
                  <a:lnTo>
                    <a:pt x="111" y="403"/>
                  </a:lnTo>
                  <a:lnTo>
                    <a:pt x="102" y="410"/>
                  </a:lnTo>
                  <a:lnTo>
                    <a:pt x="92" y="416"/>
                  </a:lnTo>
                  <a:lnTo>
                    <a:pt x="83" y="422"/>
                  </a:lnTo>
                  <a:lnTo>
                    <a:pt x="73" y="428"/>
                  </a:lnTo>
                  <a:lnTo>
                    <a:pt x="63" y="433"/>
                  </a:lnTo>
                  <a:lnTo>
                    <a:pt x="53" y="438"/>
                  </a:lnTo>
                  <a:lnTo>
                    <a:pt x="16" y="455"/>
                  </a:lnTo>
                  <a:lnTo>
                    <a:pt x="11" y="443"/>
                  </a:lnTo>
                  <a:lnTo>
                    <a:pt x="48" y="426"/>
                  </a:lnTo>
                  <a:lnTo>
                    <a:pt x="57" y="422"/>
                  </a:lnTo>
                  <a:lnTo>
                    <a:pt x="67" y="417"/>
                  </a:lnTo>
                  <a:lnTo>
                    <a:pt x="76" y="412"/>
                  </a:lnTo>
                  <a:lnTo>
                    <a:pt x="85" y="406"/>
                  </a:lnTo>
                  <a:lnTo>
                    <a:pt x="94" y="400"/>
                  </a:lnTo>
                  <a:lnTo>
                    <a:pt x="103" y="393"/>
                  </a:lnTo>
                  <a:lnTo>
                    <a:pt x="111" y="386"/>
                  </a:lnTo>
                  <a:lnTo>
                    <a:pt x="119" y="378"/>
                  </a:lnTo>
                  <a:lnTo>
                    <a:pt x="127" y="369"/>
                  </a:lnTo>
                  <a:lnTo>
                    <a:pt x="135" y="361"/>
                  </a:lnTo>
                  <a:lnTo>
                    <a:pt x="142" y="352"/>
                  </a:lnTo>
                  <a:lnTo>
                    <a:pt x="149" y="343"/>
                  </a:lnTo>
                  <a:lnTo>
                    <a:pt x="155" y="333"/>
                  </a:lnTo>
                  <a:lnTo>
                    <a:pt x="160" y="324"/>
                  </a:lnTo>
                  <a:lnTo>
                    <a:pt x="165" y="315"/>
                  </a:lnTo>
                  <a:lnTo>
                    <a:pt x="168" y="305"/>
                  </a:lnTo>
                  <a:lnTo>
                    <a:pt x="170" y="296"/>
                  </a:lnTo>
                  <a:lnTo>
                    <a:pt x="172" y="286"/>
                  </a:lnTo>
                  <a:lnTo>
                    <a:pt x="174" y="277"/>
                  </a:lnTo>
                  <a:lnTo>
                    <a:pt x="175" y="268"/>
                  </a:lnTo>
                  <a:lnTo>
                    <a:pt x="175" y="260"/>
                  </a:lnTo>
                  <a:lnTo>
                    <a:pt x="176" y="252"/>
                  </a:lnTo>
                  <a:lnTo>
                    <a:pt x="177" y="246"/>
                  </a:lnTo>
                  <a:lnTo>
                    <a:pt x="177" y="239"/>
                  </a:lnTo>
                  <a:lnTo>
                    <a:pt x="177" y="233"/>
                  </a:lnTo>
                  <a:lnTo>
                    <a:pt x="177" y="228"/>
                  </a:lnTo>
                  <a:lnTo>
                    <a:pt x="176" y="223"/>
                  </a:lnTo>
                  <a:lnTo>
                    <a:pt x="175" y="217"/>
                  </a:lnTo>
                  <a:lnTo>
                    <a:pt x="174" y="212"/>
                  </a:lnTo>
                  <a:lnTo>
                    <a:pt x="173" y="206"/>
                  </a:lnTo>
                  <a:lnTo>
                    <a:pt x="171" y="200"/>
                  </a:lnTo>
                  <a:lnTo>
                    <a:pt x="169" y="194"/>
                  </a:lnTo>
                  <a:lnTo>
                    <a:pt x="167" y="189"/>
                  </a:lnTo>
                  <a:lnTo>
                    <a:pt x="165" y="183"/>
                  </a:lnTo>
                  <a:lnTo>
                    <a:pt x="162" y="177"/>
                  </a:lnTo>
                  <a:lnTo>
                    <a:pt x="160" y="174"/>
                  </a:lnTo>
                  <a:lnTo>
                    <a:pt x="159" y="170"/>
                  </a:lnTo>
                  <a:lnTo>
                    <a:pt x="157" y="166"/>
                  </a:lnTo>
                  <a:lnTo>
                    <a:pt x="155" y="161"/>
                  </a:lnTo>
                  <a:lnTo>
                    <a:pt x="153" y="156"/>
                  </a:lnTo>
                  <a:lnTo>
                    <a:pt x="151" y="151"/>
                  </a:lnTo>
                  <a:lnTo>
                    <a:pt x="148" y="145"/>
                  </a:lnTo>
                  <a:lnTo>
                    <a:pt x="146" y="139"/>
                  </a:lnTo>
                  <a:lnTo>
                    <a:pt x="143" y="132"/>
                  </a:lnTo>
                  <a:lnTo>
                    <a:pt x="140" y="125"/>
                  </a:lnTo>
                  <a:lnTo>
                    <a:pt x="137" y="117"/>
                  </a:lnTo>
                  <a:lnTo>
                    <a:pt x="134" y="109"/>
                  </a:lnTo>
                  <a:lnTo>
                    <a:pt x="127" y="93"/>
                  </a:lnTo>
                  <a:lnTo>
                    <a:pt x="120" y="76"/>
                  </a:lnTo>
                  <a:lnTo>
                    <a:pt x="112" y="58"/>
                  </a:lnTo>
                  <a:lnTo>
                    <a:pt x="105" y="40"/>
                  </a:lnTo>
                  <a:lnTo>
                    <a:pt x="90" y="5"/>
                  </a:lnTo>
                  <a:lnTo>
                    <a:pt x="102" y="0"/>
                  </a:lnTo>
                  <a:close/>
                  <a:moveTo>
                    <a:pt x="79" y="10"/>
                  </a:moveTo>
                  <a:lnTo>
                    <a:pt x="93" y="45"/>
                  </a:lnTo>
                  <a:lnTo>
                    <a:pt x="101" y="63"/>
                  </a:lnTo>
                  <a:lnTo>
                    <a:pt x="108" y="81"/>
                  </a:lnTo>
                  <a:lnTo>
                    <a:pt x="115" y="98"/>
                  </a:lnTo>
                  <a:lnTo>
                    <a:pt x="122" y="114"/>
                  </a:lnTo>
                  <a:lnTo>
                    <a:pt x="125" y="122"/>
                  </a:lnTo>
                  <a:lnTo>
                    <a:pt x="128" y="130"/>
                  </a:lnTo>
                  <a:lnTo>
                    <a:pt x="131" y="137"/>
                  </a:lnTo>
                  <a:lnTo>
                    <a:pt x="134" y="144"/>
                  </a:lnTo>
                  <a:lnTo>
                    <a:pt x="137" y="150"/>
                  </a:lnTo>
                  <a:lnTo>
                    <a:pt x="139" y="156"/>
                  </a:lnTo>
                  <a:lnTo>
                    <a:pt x="141" y="161"/>
                  </a:lnTo>
                  <a:lnTo>
                    <a:pt x="143" y="166"/>
                  </a:lnTo>
                  <a:lnTo>
                    <a:pt x="145" y="171"/>
                  </a:lnTo>
                  <a:lnTo>
                    <a:pt x="147" y="175"/>
                  </a:lnTo>
                  <a:lnTo>
                    <a:pt x="149" y="179"/>
                  </a:lnTo>
                  <a:lnTo>
                    <a:pt x="150" y="182"/>
                  </a:lnTo>
                  <a:lnTo>
                    <a:pt x="153" y="188"/>
                  </a:lnTo>
                  <a:lnTo>
                    <a:pt x="155" y="194"/>
                  </a:lnTo>
                  <a:lnTo>
                    <a:pt x="157" y="199"/>
                  </a:lnTo>
                  <a:lnTo>
                    <a:pt x="159" y="204"/>
                  </a:lnTo>
                  <a:lnTo>
                    <a:pt x="161" y="209"/>
                  </a:lnTo>
                  <a:lnTo>
                    <a:pt x="162" y="215"/>
                  </a:lnTo>
                  <a:lnTo>
                    <a:pt x="163" y="220"/>
                  </a:lnTo>
                  <a:lnTo>
                    <a:pt x="164" y="225"/>
                  </a:lnTo>
                  <a:lnTo>
                    <a:pt x="164" y="229"/>
                  </a:lnTo>
                  <a:lnTo>
                    <a:pt x="164" y="234"/>
                  </a:lnTo>
                  <a:lnTo>
                    <a:pt x="164" y="239"/>
                  </a:lnTo>
                  <a:lnTo>
                    <a:pt x="164" y="245"/>
                  </a:lnTo>
                  <a:lnTo>
                    <a:pt x="164" y="251"/>
                  </a:lnTo>
                  <a:lnTo>
                    <a:pt x="163" y="259"/>
                  </a:lnTo>
                  <a:lnTo>
                    <a:pt x="162" y="267"/>
                  </a:lnTo>
                  <a:lnTo>
                    <a:pt x="161" y="276"/>
                  </a:lnTo>
                  <a:lnTo>
                    <a:pt x="160" y="284"/>
                  </a:lnTo>
                  <a:lnTo>
                    <a:pt x="158" y="293"/>
                  </a:lnTo>
                  <a:lnTo>
                    <a:pt x="156" y="302"/>
                  </a:lnTo>
                  <a:lnTo>
                    <a:pt x="153" y="311"/>
                  </a:lnTo>
                  <a:lnTo>
                    <a:pt x="149" y="319"/>
                  </a:lnTo>
                  <a:lnTo>
                    <a:pt x="144" y="327"/>
                  </a:lnTo>
                  <a:lnTo>
                    <a:pt x="139" y="336"/>
                  </a:lnTo>
                  <a:lnTo>
                    <a:pt x="132" y="344"/>
                  </a:lnTo>
                  <a:lnTo>
                    <a:pt x="125" y="353"/>
                  </a:lnTo>
                  <a:lnTo>
                    <a:pt x="118" y="361"/>
                  </a:lnTo>
                  <a:lnTo>
                    <a:pt x="110" y="369"/>
                  </a:lnTo>
                  <a:lnTo>
                    <a:pt x="102" y="377"/>
                  </a:lnTo>
                  <a:lnTo>
                    <a:pt x="94" y="383"/>
                  </a:lnTo>
                  <a:lnTo>
                    <a:pt x="86" y="390"/>
                  </a:lnTo>
                  <a:lnTo>
                    <a:pt x="78" y="395"/>
                  </a:lnTo>
                  <a:lnTo>
                    <a:pt x="69" y="401"/>
                  </a:lnTo>
                  <a:lnTo>
                    <a:pt x="60" y="406"/>
                  </a:lnTo>
                  <a:lnTo>
                    <a:pt x="51" y="410"/>
                  </a:lnTo>
                  <a:lnTo>
                    <a:pt x="42" y="415"/>
                  </a:lnTo>
                  <a:lnTo>
                    <a:pt x="6" y="432"/>
                  </a:lnTo>
                  <a:lnTo>
                    <a:pt x="0" y="420"/>
                  </a:lnTo>
                  <a:lnTo>
                    <a:pt x="36" y="404"/>
                  </a:lnTo>
                  <a:lnTo>
                    <a:pt x="45" y="399"/>
                  </a:lnTo>
                  <a:lnTo>
                    <a:pt x="54" y="395"/>
                  </a:lnTo>
                  <a:lnTo>
                    <a:pt x="63" y="390"/>
                  </a:lnTo>
                  <a:lnTo>
                    <a:pt x="71" y="385"/>
                  </a:lnTo>
                  <a:lnTo>
                    <a:pt x="78" y="380"/>
                  </a:lnTo>
                  <a:lnTo>
                    <a:pt x="86" y="374"/>
                  </a:lnTo>
                  <a:lnTo>
                    <a:pt x="93" y="367"/>
                  </a:lnTo>
                  <a:lnTo>
                    <a:pt x="101" y="360"/>
                  </a:lnTo>
                  <a:lnTo>
                    <a:pt x="108" y="353"/>
                  </a:lnTo>
                  <a:lnTo>
                    <a:pt x="115" y="345"/>
                  </a:lnTo>
                  <a:lnTo>
                    <a:pt x="122" y="337"/>
                  </a:lnTo>
                  <a:lnTo>
                    <a:pt x="128" y="329"/>
                  </a:lnTo>
                  <a:lnTo>
                    <a:pt x="133" y="321"/>
                  </a:lnTo>
                  <a:lnTo>
                    <a:pt x="137" y="314"/>
                  </a:lnTo>
                  <a:lnTo>
                    <a:pt x="141" y="307"/>
                  </a:lnTo>
                  <a:lnTo>
                    <a:pt x="143" y="299"/>
                  </a:lnTo>
                  <a:lnTo>
                    <a:pt x="146" y="291"/>
                  </a:lnTo>
                  <a:lnTo>
                    <a:pt x="147" y="283"/>
                  </a:lnTo>
                  <a:lnTo>
                    <a:pt x="148" y="274"/>
                  </a:lnTo>
                  <a:lnTo>
                    <a:pt x="149" y="266"/>
                  </a:lnTo>
                  <a:lnTo>
                    <a:pt x="150" y="258"/>
                  </a:lnTo>
                  <a:lnTo>
                    <a:pt x="151" y="250"/>
                  </a:lnTo>
                  <a:lnTo>
                    <a:pt x="151" y="244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1"/>
                  </a:lnTo>
                  <a:lnTo>
                    <a:pt x="151" y="227"/>
                  </a:lnTo>
                  <a:lnTo>
                    <a:pt x="151" y="223"/>
                  </a:lnTo>
                  <a:lnTo>
                    <a:pt x="150" y="218"/>
                  </a:lnTo>
                  <a:lnTo>
                    <a:pt x="148" y="213"/>
                  </a:lnTo>
                  <a:lnTo>
                    <a:pt x="147" y="208"/>
                  </a:lnTo>
                  <a:lnTo>
                    <a:pt x="146" y="203"/>
                  </a:lnTo>
                  <a:lnTo>
                    <a:pt x="144" y="199"/>
                  </a:lnTo>
                  <a:lnTo>
                    <a:pt x="141" y="193"/>
                  </a:lnTo>
                  <a:lnTo>
                    <a:pt x="139" y="187"/>
                  </a:lnTo>
                  <a:lnTo>
                    <a:pt x="137" y="184"/>
                  </a:lnTo>
                  <a:lnTo>
                    <a:pt x="135" y="180"/>
                  </a:lnTo>
                  <a:lnTo>
                    <a:pt x="134" y="176"/>
                  </a:lnTo>
                  <a:lnTo>
                    <a:pt x="132" y="171"/>
                  </a:lnTo>
                  <a:lnTo>
                    <a:pt x="130" y="166"/>
                  </a:lnTo>
                  <a:lnTo>
                    <a:pt x="127" y="161"/>
                  </a:lnTo>
                  <a:lnTo>
                    <a:pt x="125" y="155"/>
                  </a:lnTo>
                  <a:lnTo>
                    <a:pt x="122" y="148"/>
                  </a:lnTo>
                  <a:lnTo>
                    <a:pt x="119" y="142"/>
                  </a:lnTo>
                  <a:lnTo>
                    <a:pt x="116" y="134"/>
                  </a:lnTo>
                  <a:lnTo>
                    <a:pt x="113" y="127"/>
                  </a:lnTo>
                  <a:lnTo>
                    <a:pt x="110" y="119"/>
                  </a:lnTo>
                  <a:lnTo>
                    <a:pt x="103" y="103"/>
                  </a:lnTo>
                  <a:lnTo>
                    <a:pt x="96" y="85"/>
                  </a:lnTo>
                  <a:lnTo>
                    <a:pt x="89" y="68"/>
                  </a:lnTo>
                  <a:lnTo>
                    <a:pt x="82" y="50"/>
                  </a:lnTo>
                  <a:lnTo>
                    <a:pt x="67" y="15"/>
                  </a:lnTo>
                  <a:lnTo>
                    <a:pt x="79" y="10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Freeform 853"/>
            <p:cNvSpPr/>
            <p:nvPr/>
          </p:nvSpPr>
          <p:spPr>
            <a:xfrm>
              <a:off x="2048760" y="4103280"/>
              <a:ext cx="1583640" cy="182880"/>
            </a:xfrm>
            <a:custGeom>
              <a:avLst/>
              <a:gdLst/>
              <a:ahLst/>
              <a:rect l="l" t="t" r="r" b="b"/>
              <a:pathLst>
                <a:path w="9898" h="1139">
                  <a:moveTo>
                    <a:pt x="9898" y="396"/>
                  </a:moveTo>
                  <a:lnTo>
                    <a:pt x="9300" y="488"/>
                  </a:lnTo>
                  <a:lnTo>
                    <a:pt x="9101" y="517"/>
                  </a:lnTo>
                  <a:lnTo>
                    <a:pt x="8905" y="545"/>
                  </a:lnTo>
                  <a:lnTo>
                    <a:pt x="8713" y="572"/>
                  </a:lnTo>
                  <a:lnTo>
                    <a:pt x="8526" y="595"/>
                  </a:lnTo>
                  <a:lnTo>
                    <a:pt x="8344" y="616"/>
                  </a:lnTo>
                  <a:lnTo>
                    <a:pt x="8169" y="633"/>
                  </a:lnTo>
                  <a:lnTo>
                    <a:pt x="8001" y="647"/>
                  </a:lnTo>
                  <a:lnTo>
                    <a:pt x="7837" y="658"/>
                  </a:lnTo>
                  <a:lnTo>
                    <a:pt x="7681" y="665"/>
                  </a:lnTo>
                  <a:lnTo>
                    <a:pt x="7529" y="670"/>
                  </a:lnTo>
                  <a:lnTo>
                    <a:pt x="7383" y="673"/>
                  </a:lnTo>
                  <a:lnTo>
                    <a:pt x="7243" y="673"/>
                  </a:lnTo>
                  <a:lnTo>
                    <a:pt x="7108" y="672"/>
                  </a:lnTo>
                  <a:lnTo>
                    <a:pt x="6979" y="668"/>
                  </a:lnTo>
                  <a:lnTo>
                    <a:pt x="6915" y="665"/>
                  </a:lnTo>
                  <a:lnTo>
                    <a:pt x="6855" y="660"/>
                  </a:lnTo>
                  <a:lnTo>
                    <a:pt x="6797" y="654"/>
                  </a:lnTo>
                  <a:lnTo>
                    <a:pt x="6742" y="645"/>
                  </a:lnTo>
                  <a:lnTo>
                    <a:pt x="6649" y="627"/>
                  </a:lnTo>
                  <a:lnTo>
                    <a:pt x="6561" y="609"/>
                  </a:lnTo>
                  <a:lnTo>
                    <a:pt x="6476" y="592"/>
                  </a:lnTo>
                  <a:lnTo>
                    <a:pt x="6435" y="585"/>
                  </a:lnTo>
                  <a:lnTo>
                    <a:pt x="6391" y="578"/>
                  </a:lnTo>
                  <a:lnTo>
                    <a:pt x="6344" y="573"/>
                  </a:lnTo>
                  <a:lnTo>
                    <a:pt x="6293" y="569"/>
                  </a:lnTo>
                  <a:lnTo>
                    <a:pt x="6236" y="567"/>
                  </a:lnTo>
                  <a:lnTo>
                    <a:pt x="6173" y="566"/>
                  </a:lnTo>
                  <a:lnTo>
                    <a:pt x="6140" y="566"/>
                  </a:lnTo>
                  <a:lnTo>
                    <a:pt x="6097" y="567"/>
                  </a:lnTo>
                  <a:lnTo>
                    <a:pt x="6054" y="568"/>
                  </a:lnTo>
                  <a:lnTo>
                    <a:pt x="6007" y="570"/>
                  </a:lnTo>
                  <a:lnTo>
                    <a:pt x="5900" y="575"/>
                  </a:lnTo>
                  <a:lnTo>
                    <a:pt x="5785" y="582"/>
                  </a:lnTo>
                  <a:lnTo>
                    <a:pt x="5663" y="590"/>
                  </a:lnTo>
                  <a:lnTo>
                    <a:pt x="5537" y="598"/>
                  </a:lnTo>
                  <a:lnTo>
                    <a:pt x="5409" y="607"/>
                  </a:lnTo>
                  <a:lnTo>
                    <a:pt x="5285" y="616"/>
                  </a:lnTo>
                  <a:lnTo>
                    <a:pt x="5164" y="626"/>
                  </a:lnTo>
                  <a:lnTo>
                    <a:pt x="5049" y="635"/>
                  </a:lnTo>
                  <a:lnTo>
                    <a:pt x="4996" y="640"/>
                  </a:lnTo>
                  <a:lnTo>
                    <a:pt x="4945" y="644"/>
                  </a:lnTo>
                  <a:lnTo>
                    <a:pt x="4898" y="648"/>
                  </a:lnTo>
                  <a:lnTo>
                    <a:pt x="4856" y="652"/>
                  </a:lnTo>
                  <a:lnTo>
                    <a:pt x="4815" y="655"/>
                  </a:lnTo>
                  <a:lnTo>
                    <a:pt x="4778" y="658"/>
                  </a:lnTo>
                  <a:lnTo>
                    <a:pt x="4749" y="661"/>
                  </a:lnTo>
                  <a:lnTo>
                    <a:pt x="4719" y="663"/>
                  </a:lnTo>
                  <a:lnTo>
                    <a:pt x="4701" y="665"/>
                  </a:lnTo>
                  <a:lnTo>
                    <a:pt x="4686" y="667"/>
                  </a:lnTo>
                  <a:lnTo>
                    <a:pt x="4668" y="668"/>
                  </a:lnTo>
                  <a:lnTo>
                    <a:pt x="4687" y="666"/>
                  </a:lnTo>
                  <a:lnTo>
                    <a:pt x="4453" y="680"/>
                  </a:lnTo>
                  <a:lnTo>
                    <a:pt x="4234" y="692"/>
                  </a:lnTo>
                  <a:lnTo>
                    <a:pt x="4010" y="702"/>
                  </a:lnTo>
                  <a:lnTo>
                    <a:pt x="3782" y="713"/>
                  </a:lnTo>
                  <a:lnTo>
                    <a:pt x="3550" y="725"/>
                  </a:lnTo>
                  <a:lnTo>
                    <a:pt x="3312" y="738"/>
                  </a:lnTo>
                  <a:lnTo>
                    <a:pt x="3070" y="753"/>
                  </a:lnTo>
                  <a:lnTo>
                    <a:pt x="2824" y="771"/>
                  </a:lnTo>
                  <a:lnTo>
                    <a:pt x="2695" y="781"/>
                  </a:lnTo>
                  <a:lnTo>
                    <a:pt x="2559" y="792"/>
                  </a:lnTo>
                  <a:lnTo>
                    <a:pt x="2414" y="804"/>
                  </a:lnTo>
                  <a:lnTo>
                    <a:pt x="2265" y="817"/>
                  </a:lnTo>
                  <a:lnTo>
                    <a:pt x="2114" y="830"/>
                  </a:lnTo>
                  <a:lnTo>
                    <a:pt x="1960" y="844"/>
                  </a:lnTo>
                  <a:lnTo>
                    <a:pt x="1653" y="873"/>
                  </a:lnTo>
                  <a:lnTo>
                    <a:pt x="1503" y="887"/>
                  </a:lnTo>
                  <a:lnTo>
                    <a:pt x="1358" y="901"/>
                  </a:lnTo>
                  <a:lnTo>
                    <a:pt x="1218" y="915"/>
                  </a:lnTo>
                  <a:lnTo>
                    <a:pt x="1086" y="928"/>
                  </a:lnTo>
                  <a:lnTo>
                    <a:pt x="963" y="941"/>
                  </a:lnTo>
                  <a:lnTo>
                    <a:pt x="907" y="948"/>
                  </a:lnTo>
                  <a:lnTo>
                    <a:pt x="851" y="954"/>
                  </a:lnTo>
                  <a:lnTo>
                    <a:pt x="800" y="960"/>
                  </a:lnTo>
                  <a:lnTo>
                    <a:pt x="751" y="965"/>
                  </a:lnTo>
                  <a:lnTo>
                    <a:pt x="707" y="971"/>
                  </a:lnTo>
                  <a:lnTo>
                    <a:pt x="665" y="976"/>
                  </a:lnTo>
                  <a:lnTo>
                    <a:pt x="628" y="980"/>
                  </a:lnTo>
                  <a:lnTo>
                    <a:pt x="596" y="985"/>
                  </a:lnTo>
                  <a:lnTo>
                    <a:pt x="536" y="994"/>
                  </a:lnTo>
                  <a:lnTo>
                    <a:pt x="489" y="1002"/>
                  </a:lnTo>
                  <a:lnTo>
                    <a:pt x="455" y="1010"/>
                  </a:lnTo>
                  <a:lnTo>
                    <a:pt x="431" y="1016"/>
                  </a:lnTo>
                  <a:lnTo>
                    <a:pt x="415" y="1022"/>
                  </a:lnTo>
                  <a:lnTo>
                    <a:pt x="411" y="1024"/>
                  </a:lnTo>
                  <a:lnTo>
                    <a:pt x="413" y="1024"/>
                  </a:lnTo>
                  <a:lnTo>
                    <a:pt x="421" y="1020"/>
                  </a:lnTo>
                  <a:lnTo>
                    <a:pt x="429" y="1015"/>
                  </a:lnTo>
                  <a:lnTo>
                    <a:pt x="431" y="1014"/>
                  </a:lnTo>
                  <a:lnTo>
                    <a:pt x="407" y="1035"/>
                  </a:lnTo>
                  <a:lnTo>
                    <a:pt x="383" y="1051"/>
                  </a:lnTo>
                  <a:cubicBezTo>
                    <a:pt x="371" y="1059"/>
                    <a:pt x="358" y="1066"/>
                    <a:pt x="345" y="1071"/>
                  </a:cubicBezTo>
                  <a:lnTo>
                    <a:pt x="333" y="1075"/>
                  </a:lnTo>
                  <a:lnTo>
                    <a:pt x="108" y="1139"/>
                  </a:lnTo>
                  <a:lnTo>
                    <a:pt x="72" y="1011"/>
                  </a:lnTo>
                  <a:lnTo>
                    <a:pt x="286" y="950"/>
                  </a:lnTo>
                  <a:lnTo>
                    <a:pt x="298" y="946"/>
                  </a:lnTo>
                  <a:cubicBezTo>
                    <a:pt x="302" y="944"/>
                    <a:pt x="307" y="942"/>
                    <a:pt x="311" y="939"/>
                  </a:cubicBezTo>
                  <a:lnTo>
                    <a:pt x="324" y="930"/>
                  </a:lnTo>
                  <a:lnTo>
                    <a:pt x="337" y="920"/>
                  </a:lnTo>
                  <a:lnTo>
                    <a:pt x="345" y="912"/>
                  </a:lnTo>
                  <a:lnTo>
                    <a:pt x="347" y="909"/>
                  </a:lnTo>
                  <a:lnTo>
                    <a:pt x="352" y="906"/>
                  </a:lnTo>
                  <a:lnTo>
                    <a:pt x="361" y="901"/>
                  </a:lnTo>
                  <a:lnTo>
                    <a:pt x="375" y="895"/>
                  </a:lnTo>
                  <a:lnTo>
                    <a:pt x="397" y="887"/>
                  </a:lnTo>
                  <a:lnTo>
                    <a:pt x="427" y="880"/>
                  </a:lnTo>
                  <a:lnTo>
                    <a:pt x="466" y="871"/>
                  </a:lnTo>
                  <a:lnTo>
                    <a:pt x="516" y="862"/>
                  </a:lnTo>
                  <a:lnTo>
                    <a:pt x="577" y="853"/>
                  </a:lnTo>
                  <a:lnTo>
                    <a:pt x="611" y="848"/>
                  </a:lnTo>
                  <a:lnTo>
                    <a:pt x="649" y="843"/>
                  </a:lnTo>
                  <a:lnTo>
                    <a:pt x="691" y="838"/>
                  </a:lnTo>
                  <a:lnTo>
                    <a:pt x="736" y="833"/>
                  </a:lnTo>
                  <a:lnTo>
                    <a:pt x="785" y="827"/>
                  </a:lnTo>
                  <a:lnTo>
                    <a:pt x="837" y="821"/>
                  </a:lnTo>
                  <a:lnTo>
                    <a:pt x="892" y="815"/>
                  </a:lnTo>
                  <a:lnTo>
                    <a:pt x="949" y="809"/>
                  </a:lnTo>
                  <a:lnTo>
                    <a:pt x="1073" y="796"/>
                  </a:lnTo>
                  <a:lnTo>
                    <a:pt x="1205" y="782"/>
                  </a:lnTo>
                  <a:lnTo>
                    <a:pt x="1345" y="768"/>
                  </a:lnTo>
                  <a:lnTo>
                    <a:pt x="1491" y="754"/>
                  </a:lnTo>
                  <a:lnTo>
                    <a:pt x="1641" y="740"/>
                  </a:lnTo>
                  <a:lnTo>
                    <a:pt x="1948" y="711"/>
                  </a:lnTo>
                  <a:lnTo>
                    <a:pt x="2102" y="697"/>
                  </a:lnTo>
                  <a:lnTo>
                    <a:pt x="2254" y="684"/>
                  </a:lnTo>
                  <a:lnTo>
                    <a:pt x="2403" y="671"/>
                  </a:lnTo>
                  <a:lnTo>
                    <a:pt x="2548" y="659"/>
                  </a:lnTo>
                  <a:lnTo>
                    <a:pt x="2685" y="648"/>
                  </a:lnTo>
                  <a:lnTo>
                    <a:pt x="2814" y="638"/>
                  </a:lnTo>
                  <a:lnTo>
                    <a:pt x="3062" y="620"/>
                  </a:lnTo>
                  <a:lnTo>
                    <a:pt x="3305" y="605"/>
                  </a:lnTo>
                  <a:lnTo>
                    <a:pt x="3543" y="592"/>
                  </a:lnTo>
                  <a:lnTo>
                    <a:pt x="3776" y="580"/>
                  </a:lnTo>
                  <a:lnTo>
                    <a:pt x="4004" y="569"/>
                  </a:lnTo>
                  <a:lnTo>
                    <a:pt x="4227" y="559"/>
                  </a:lnTo>
                  <a:lnTo>
                    <a:pt x="4445" y="547"/>
                  </a:lnTo>
                  <a:lnTo>
                    <a:pt x="4665" y="534"/>
                  </a:lnTo>
                  <a:lnTo>
                    <a:pt x="4661" y="535"/>
                  </a:lnTo>
                  <a:lnTo>
                    <a:pt x="4673" y="534"/>
                  </a:lnTo>
                  <a:lnTo>
                    <a:pt x="4689" y="532"/>
                  </a:lnTo>
                  <a:lnTo>
                    <a:pt x="4709" y="530"/>
                  </a:lnTo>
                  <a:lnTo>
                    <a:pt x="4736" y="528"/>
                  </a:lnTo>
                  <a:lnTo>
                    <a:pt x="4767" y="525"/>
                  </a:lnTo>
                  <a:lnTo>
                    <a:pt x="4803" y="522"/>
                  </a:lnTo>
                  <a:lnTo>
                    <a:pt x="4844" y="519"/>
                  </a:lnTo>
                  <a:lnTo>
                    <a:pt x="4887" y="515"/>
                  </a:lnTo>
                  <a:lnTo>
                    <a:pt x="4934" y="511"/>
                  </a:lnTo>
                  <a:lnTo>
                    <a:pt x="4985" y="507"/>
                  </a:lnTo>
                  <a:lnTo>
                    <a:pt x="5039" y="502"/>
                  </a:lnTo>
                  <a:lnTo>
                    <a:pt x="5153" y="493"/>
                  </a:lnTo>
                  <a:lnTo>
                    <a:pt x="5274" y="483"/>
                  </a:lnTo>
                  <a:lnTo>
                    <a:pt x="5400" y="474"/>
                  </a:lnTo>
                  <a:lnTo>
                    <a:pt x="5528" y="465"/>
                  </a:lnTo>
                  <a:lnTo>
                    <a:pt x="5655" y="456"/>
                  </a:lnTo>
                  <a:lnTo>
                    <a:pt x="5778" y="449"/>
                  </a:lnTo>
                  <a:lnTo>
                    <a:pt x="5894" y="442"/>
                  </a:lnTo>
                  <a:lnTo>
                    <a:pt x="6001" y="437"/>
                  </a:lnTo>
                  <a:lnTo>
                    <a:pt x="6050" y="435"/>
                  </a:lnTo>
                  <a:lnTo>
                    <a:pt x="6095" y="434"/>
                  </a:lnTo>
                  <a:lnTo>
                    <a:pt x="6138" y="433"/>
                  </a:lnTo>
                  <a:lnTo>
                    <a:pt x="6175" y="433"/>
                  </a:lnTo>
                  <a:lnTo>
                    <a:pt x="6242" y="434"/>
                  </a:lnTo>
                  <a:lnTo>
                    <a:pt x="6303" y="436"/>
                  </a:lnTo>
                  <a:lnTo>
                    <a:pt x="6359" y="441"/>
                  </a:lnTo>
                  <a:lnTo>
                    <a:pt x="6410" y="446"/>
                  </a:lnTo>
                  <a:lnTo>
                    <a:pt x="6458" y="453"/>
                  </a:lnTo>
                  <a:lnTo>
                    <a:pt x="6502" y="461"/>
                  </a:lnTo>
                  <a:lnTo>
                    <a:pt x="6588" y="478"/>
                  </a:lnTo>
                  <a:lnTo>
                    <a:pt x="6674" y="496"/>
                  </a:lnTo>
                  <a:lnTo>
                    <a:pt x="6763" y="513"/>
                  </a:lnTo>
                  <a:lnTo>
                    <a:pt x="6813" y="521"/>
                  </a:lnTo>
                  <a:lnTo>
                    <a:pt x="6865" y="527"/>
                  </a:lnTo>
                  <a:lnTo>
                    <a:pt x="6922" y="532"/>
                  </a:lnTo>
                  <a:lnTo>
                    <a:pt x="6983" y="535"/>
                  </a:lnTo>
                  <a:lnTo>
                    <a:pt x="7110" y="539"/>
                  </a:lnTo>
                  <a:lnTo>
                    <a:pt x="7243" y="540"/>
                  </a:lnTo>
                  <a:lnTo>
                    <a:pt x="7381" y="540"/>
                  </a:lnTo>
                  <a:lnTo>
                    <a:pt x="7525" y="537"/>
                  </a:lnTo>
                  <a:lnTo>
                    <a:pt x="7674" y="532"/>
                  </a:lnTo>
                  <a:lnTo>
                    <a:pt x="7829" y="524"/>
                  </a:lnTo>
                  <a:lnTo>
                    <a:pt x="7990" y="514"/>
                  </a:lnTo>
                  <a:lnTo>
                    <a:pt x="8156" y="501"/>
                  </a:lnTo>
                  <a:lnTo>
                    <a:pt x="8329" y="484"/>
                  </a:lnTo>
                  <a:lnTo>
                    <a:pt x="8509" y="463"/>
                  </a:lnTo>
                  <a:lnTo>
                    <a:pt x="8695" y="440"/>
                  </a:lnTo>
                  <a:lnTo>
                    <a:pt x="8886" y="413"/>
                  </a:lnTo>
                  <a:lnTo>
                    <a:pt x="9081" y="385"/>
                  </a:lnTo>
                  <a:lnTo>
                    <a:pt x="9280" y="356"/>
                  </a:lnTo>
                  <a:lnTo>
                    <a:pt x="9878" y="264"/>
                  </a:lnTo>
                  <a:lnTo>
                    <a:pt x="9898" y="396"/>
                  </a:lnTo>
                  <a:close/>
                  <a:moveTo>
                    <a:pt x="9858" y="132"/>
                  </a:moveTo>
                  <a:lnTo>
                    <a:pt x="9259" y="224"/>
                  </a:lnTo>
                  <a:lnTo>
                    <a:pt x="9062" y="254"/>
                  </a:lnTo>
                  <a:lnTo>
                    <a:pt x="8867" y="281"/>
                  </a:lnTo>
                  <a:lnTo>
                    <a:pt x="8677" y="307"/>
                  </a:lnTo>
                  <a:lnTo>
                    <a:pt x="8492" y="331"/>
                  </a:lnTo>
                  <a:lnTo>
                    <a:pt x="8314" y="351"/>
                  </a:lnTo>
                  <a:lnTo>
                    <a:pt x="8143" y="368"/>
                  </a:lnTo>
                  <a:lnTo>
                    <a:pt x="7979" y="382"/>
                  </a:lnTo>
                  <a:lnTo>
                    <a:pt x="7821" y="391"/>
                  </a:lnTo>
                  <a:lnTo>
                    <a:pt x="7668" y="399"/>
                  </a:lnTo>
                  <a:lnTo>
                    <a:pt x="7520" y="404"/>
                  </a:lnTo>
                  <a:lnTo>
                    <a:pt x="7378" y="406"/>
                  </a:lnTo>
                  <a:lnTo>
                    <a:pt x="7242" y="407"/>
                  </a:lnTo>
                  <a:lnTo>
                    <a:pt x="7111" y="405"/>
                  </a:lnTo>
                  <a:lnTo>
                    <a:pt x="6986" y="402"/>
                  </a:lnTo>
                  <a:lnTo>
                    <a:pt x="6929" y="399"/>
                  </a:lnTo>
                  <a:lnTo>
                    <a:pt x="6876" y="395"/>
                  </a:lnTo>
                  <a:lnTo>
                    <a:pt x="6829" y="389"/>
                  </a:lnTo>
                  <a:lnTo>
                    <a:pt x="6784" y="382"/>
                  </a:lnTo>
                  <a:lnTo>
                    <a:pt x="6699" y="365"/>
                  </a:lnTo>
                  <a:lnTo>
                    <a:pt x="6616" y="348"/>
                  </a:lnTo>
                  <a:lnTo>
                    <a:pt x="6529" y="330"/>
                  </a:lnTo>
                  <a:lnTo>
                    <a:pt x="6480" y="322"/>
                  </a:lnTo>
                  <a:lnTo>
                    <a:pt x="6429" y="314"/>
                  </a:lnTo>
                  <a:lnTo>
                    <a:pt x="6373" y="308"/>
                  </a:lnTo>
                  <a:lnTo>
                    <a:pt x="6314" y="303"/>
                  </a:lnTo>
                  <a:lnTo>
                    <a:pt x="6248" y="300"/>
                  </a:lnTo>
                  <a:lnTo>
                    <a:pt x="6176" y="299"/>
                  </a:lnTo>
                  <a:lnTo>
                    <a:pt x="6136" y="300"/>
                  </a:lnTo>
                  <a:lnTo>
                    <a:pt x="6094" y="300"/>
                  </a:lnTo>
                  <a:lnTo>
                    <a:pt x="6046" y="302"/>
                  </a:lnTo>
                  <a:lnTo>
                    <a:pt x="5996" y="304"/>
                  </a:lnTo>
                  <a:lnTo>
                    <a:pt x="5888" y="309"/>
                  </a:lnTo>
                  <a:lnTo>
                    <a:pt x="5770" y="315"/>
                  </a:lnTo>
                  <a:lnTo>
                    <a:pt x="5646" y="323"/>
                  </a:lnTo>
                  <a:lnTo>
                    <a:pt x="5519" y="332"/>
                  </a:lnTo>
                  <a:lnTo>
                    <a:pt x="5391" y="341"/>
                  </a:lnTo>
                  <a:lnTo>
                    <a:pt x="5264" y="350"/>
                  </a:lnTo>
                  <a:lnTo>
                    <a:pt x="5142" y="361"/>
                  </a:lnTo>
                  <a:lnTo>
                    <a:pt x="5028" y="370"/>
                  </a:lnTo>
                  <a:lnTo>
                    <a:pt x="4974" y="374"/>
                  </a:lnTo>
                  <a:lnTo>
                    <a:pt x="4924" y="378"/>
                  </a:lnTo>
                  <a:lnTo>
                    <a:pt x="4876" y="382"/>
                  </a:lnTo>
                  <a:lnTo>
                    <a:pt x="4831" y="386"/>
                  </a:lnTo>
                  <a:lnTo>
                    <a:pt x="4792" y="390"/>
                  </a:lnTo>
                  <a:lnTo>
                    <a:pt x="4756" y="393"/>
                  </a:lnTo>
                  <a:lnTo>
                    <a:pt x="4724" y="396"/>
                  </a:lnTo>
                  <a:lnTo>
                    <a:pt x="4699" y="397"/>
                  </a:lnTo>
                  <a:lnTo>
                    <a:pt x="4676" y="400"/>
                  </a:lnTo>
                  <a:lnTo>
                    <a:pt x="4661" y="401"/>
                  </a:lnTo>
                  <a:lnTo>
                    <a:pt x="4654" y="401"/>
                  </a:lnTo>
                  <a:lnTo>
                    <a:pt x="4644" y="403"/>
                  </a:lnTo>
                  <a:lnTo>
                    <a:pt x="4438" y="414"/>
                  </a:lnTo>
                  <a:lnTo>
                    <a:pt x="4220" y="425"/>
                  </a:lnTo>
                  <a:lnTo>
                    <a:pt x="3997" y="436"/>
                  </a:lnTo>
                  <a:lnTo>
                    <a:pt x="3769" y="447"/>
                  </a:lnTo>
                  <a:lnTo>
                    <a:pt x="3536" y="459"/>
                  </a:lnTo>
                  <a:lnTo>
                    <a:pt x="3297" y="472"/>
                  </a:lnTo>
                  <a:lnTo>
                    <a:pt x="3054" y="487"/>
                  </a:lnTo>
                  <a:lnTo>
                    <a:pt x="2805" y="505"/>
                  </a:lnTo>
                  <a:lnTo>
                    <a:pt x="2674" y="515"/>
                  </a:lnTo>
                  <a:lnTo>
                    <a:pt x="2536" y="527"/>
                  </a:lnTo>
                  <a:lnTo>
                    <a:pt x="2392" y="539"/>
                  </a:lnTo>
                  <a:lnTo>
                    <a:pt x="2243" y="551"/>
                  </a:lnTo>
                  <a:lnTo>
                    <a:pt x="2090" y="565"/>
                  </a:lnTo>
                  <a:lnTo>
                    <a:pt x="1936" y="579"/>
                  </a:lnTo>
                  <a:lnTo>
                    <a:pt x="1628" y="607"/>
                  </a:lnTo>
                  <a:lnTo>
                    <a:pt x="1478" y="621"/>
                  </a:lnTo>
                  <a:lnTo>
                    <a:pt x="1332" y="636"/>
                  </a:lnTo>
                  <a:lnTo>
                    <a:pt x="1192" y="650"/>
                  </a:lnTo>
                  <a:lnTo>
                    <a:pt x="1059" y="663"/>
                  </a:lnTo>
                  <a:lnTo>
                    <a:pt x="935" y="676"/>
                  </a:lnTo>
                  <a:lnTo>
                    <a:pt x="877" y="683"/>
                  </a:lnTo>
                  <a:lnTo>
                    <a:pt x="822" y="689"/>
                  </a:lnTo>
                  <a:lnTo>
                    <a:pt x="769" y="695"/>
                  </a:lnTo>
                  <a:lnTo>
                    <a:pt x="721" y="700"/>
                  </a:lnTo>
                  <a:lnTo>
                    <a:pt x="675" y="706"/>
                  </a:lnTo>
                  <a:lnTo>
                    <a:pt x="633" y="711"/>
                  </a:lnTo>
                  <a:lnTo>
                    <a:pt x="594" y="716"/>
                  </a:lnTo>
                  <a:lnTo>
                    <a:pt x="558" y="721"/>
                  </a:lnTo>
                  <a:lnTo>
                    <a:pt x="495" y="731"/>
                  </a:lnTo>
                  <a:lnTo>
                    <a:pt x="443" y="740"/>
                  </a:lnTo>
                  <a:lnTo>
                    <a:pt x="399" y="749"/>
                  </a:lnTo>
                  <a:lnTo>
                    <a:pt x="364" y="758"/>
                  </a:lnTo>
                  <a:lnTo>
                    <a:pt x="335" y="767"/>
                  </a:lnTo>
                  <a:lnTo>
                    <a:pt x="310" y="777"/>
                  </a:lnTo>
                  <a:lnTo>
                    <a:pt x="290" y="787"/>
                  </a:lnTo>
                  <a:lnTo>
                    <a:pt x="273" y="798"/>
                  </a:lnTo>
                  <a:lnTo>
                    <a:pt x="260" y="808"/>
                  </a:lnTo>
                  <a:lnTo>
                    <a:pt x="243" y="825"/>
                  </a:lnTo>
                  <a:lnTo>
                    <a:pt x="242" y="826"/>
                  </a:lnTo>
                  <a:lnTo>
                    <a:pt x="244" y="824"/>
                  </a:lnTo>
                  <a:lnTo>
                    <a:pt x="239" y="826"/>
                  </a:lnTo>
                  <a:lnTo>
                    <a:pt x="36" y="882"/>
                  </a:lnTo>
                  <a:lnTo>
                    <a:pt x="0" y="754"/>
                  </a:lnTo>
                  <a:lnTo>
                    <a:pt x="192" y="701"/>
                  </a:lnTo>
                  <a:lnTo>
                    <a:pt x="184" y="704"/>
                  </a:lnTo>
                  <a:lnTo>
                    <a:pt x="159" y="721"/>
                  </a:lnTo>
                  <a:lnTo>
                    <a:pt x="149" y="731"/>
                  </a:lnTo>
                  <a:lnTo>
                    <a:pt x="176" y="705"/>
                  </a:lnTo>
                  <a:lnTo>
                    <a:pt x="200" y="687"/>
                  </a:lnTo>
                  <a:lnTo>
                    <a:pt x="229" y="669"/>
                  </a:lnTo>
                  <a:lnTo>
                    <a:pt x="260" y="654"/>
                  </a:lnTo>
                  <a:lnTo>
                    <a:pt x="295" y="640"/>
                  </a:lnTo>
                  <a:lnTo>
                    <a:pt x="330" y="629"/>
                  </a:lnTo>
                  <a:lnTo>
                    <a:pt x="371" y="619"/>
                  </a:lnTo>
                  <a:lnTo>
                    <a:pt x="420" y="609"/>
                  </a:lnTo>
                  <a:lnTo>
                    <a:pt x="475" y="599"/>
                  </a:lnTo>
                  <a:lnTo>
                    <a:pt x="539" y="589"/>
                  </a:lnTo>
                  <a:lnTo>
                    <a:pt x="577" y="584"/>
                  </a:lnTo>
                  <a:lnTo>
                    <a:pt x="617" y="578"/>
                  </a:lnTo>
                  <a:lnTo>
                    <a:pt x="659" y="573"/>
                  </a:lnTo>
                  <a:lnTo>
                    <a:pt x="706" y="568"/>
                  </a:lnTo>
                  <a:lnTo>
                    <a:pt x="754" y="562"/>
                  </a:lnTo>
                  <a:lnTo>
                    <a:pt x="808" y="556"/>
                  </a:lnTo>
                  <a:lnTo>
                    <a:pt x="862" y="550"/>
                  </a:lnTo>
                  <a:lnTo>
                    <a:pt x="922" y="544"/>
                  </a:lnTo>
                  <a:lnTo>
                    <a:pt x="1046" y="530"/>
                  </a:lnTo>
                  <a:lnTo>
                    <a:pt x="1179" y="517"/>
                  </a:lnTo>
                  <a:lnTo>
                    <a:pt x="1319" y="503"/>
                  </a:lnTo>
                  <a:lnTo>
                    <a:pt x="1466" y="488"/>
                  </a:lnTo>
                  <a:lnTo>
                    <a:pt x="1616" y="474"/>
                  </a:lnTo>
                  <a:lnTo>
                    <a:pt x="1924" y="446"/>
                  </a:lnTo>
                  <a:lnTo>
                    <a:pt x="2078" y="432"/>
                  </a:lnTo>
                  <a:lnTo>
                    <a:pt x="2232" y="418"/>
                  </a:lnTo>
                  <a:lnTo>
                    <a:pt x="2381" y="406"/>
                  </a:lnTo>
                  <a:lnTo>
                    <a:pt x="2525" y="394"/>
                  </a:lnTo>
                  <a:lnTo>
                    <a:pt x="2664" y="382"/>
                  </a:lnTo>
                  <a:lnTo>
                    <a:pt x="2795" y="372"/>
                  </a:lnTo>
                  <a:lnTo>
                    <a:pt x="3046" y="354"/>
                  </a:lnTo>
                  <a:lnTo>
                    <a:pt x="3290" y="339"/>
                  </a:lnTo>
                  <a:lnTo>
                    <a:pt x="3529" y="326"/>
                  </a:lnTo>
                  <a:lnTo>
                    <a:pt x="3763" y="314"/>
                  </a:lnTo>
                  <a:lnTo>
                    <a:pt x="3991" y="303"/>
                  </a:lnTo>
                  <a:lnTo>
                    <a:pt x="4213" y="292"/>
                  </a:lnTo>
                  <a:lnTo>
                    <a:pt x="4430" y="281"/>
                  </a:lnTo>
                  <a:lnTo>
                    <a:pt x="4622" y="271"/>
                  </a:lnTo>
                  <a:lnTo>
                    <a:pt x="4647" y="268"/>
                  </a:lnTo>
                  <a:lnTo>
                    <a:pt x="4648" y="268"/>
                  </a:lnTo>
                  <a:lnTo>
                    <a:pt x="4664" y="267"/>
                  </a:lnTo>
                  <a:lnTo>
                    <a:pt x="4689" y="265"/>
                  </a:lnTo>
                  <a:lnTo>
                    <a:pt x="4711" y="263"/>
                  </a:lnTo>
                  <a:lnTo>
                    <a:pt x="4745" y="260"/>
                  </a:lnTo>
                  <a:lnTo>
                    <a:pt x="4780" y="257"/>
                  </a:lnTo>
                  <a:lnTo>
                    <a:pt x="4819" y="253"/>
                  </a:lnTo>
                  <a:lnTo>
                    <a:pt x="4865" y="249"/>
                  </a:lnTo>
                  <a:lnTo>
                    <a:pt x="4913" y="245"/>
                  </a:lnTo>
                  <a:lnTo>
                    <a:pt x="4963" y="241"/>
                  </a:lnTo>
                  <a:lnTo>
                    <a:pt x="5018" y="237"/>
                  </a:lnTo>
                  <a:lnTo>
                    <a:pt x="5131" y="228"/>
                  </a:lnTo>
                  <a:lnTo>
                    <a:pt x="5254" y="218"/>
                  </a:lnTo>
                  <a:lnTo>
                    <a:pt x="5381" y="208"/>
                  </a:lnTo>
                  <a:lnTo>
                    <a:pt x="5510" y="199"/>
                  </a:lnTo>
                  <a:lnTo>
                    <a:pt x="5638" y="190"/>
                  </a:lnTo>
                  <a:lnTo>
                    <a:pt x="5763" y="182"/>
                  </a:lnTo>
                  <a:lnTo>
                    <a:pt x="5882" y="176"/>
                  </a:lnTo>
                  <a:lnTo>
                    <a:pt x="5990" y="171"/>
                  </a:lnTo>
                  <a:lnTo>
                    <a:pt x="6042" y="169"/>
                  </a:lnTo>
                  <a:lnTo>
                    <a:pt x="6092" y="167"/>
                  </a:lnTo>
                  <a:lnTo>
                    <a:pt x="6134" y="166"/>
                  </a:lnTo>
                  <a:lnTo>
                    <a:pt x="6178" y="166"/>
                  </a:lnTo>
                  <a:lnTo>
                    <a:pt x="6254" y="167"/>
                  </a:lnTo>
                  <a:lnTo>
                    <a:pt x="6324" y="171"/>
                  </a:lnTo>
                  <a:lnTo>
                    <a:pt x="6388" y="176"/>
                  </a:lnTo>
                  <a:lnTo>
                    <a:pt x="6447" y="182"/>
                  </a:lnTo>
                  <a:lnTo>
                    <a:pt x="6503" y="190"/>
                  </a:lnTo>
                  <a:lnTo>
                    <a:pt x="6555" y="199"/>
                  </a:lnTo>
                  <a:lnTo>
                    <a:pt x="6644" y="217"/>
                  </a:lnTo>
                  <a:lnTo>
                    <a:pt x="6724" y="234"/>
                  </a:lnTo>
                  <a:lnTo>
                    <a:pt x="6805" y="250"/>
                  </a:lnTo>
                  <a:lnTo>
                    <a:pt x="6845" y="256"/>
                  </a:lnTo>
                  <a:lnTo>
                    <a:pt x="6887" y="262"/>
                  </a:lnTo>
                  <a:lnTo>
                    <a:pt x="6936" y="266"/>
                  </a:lnTo>
                  <a:lnTo>
                    <a:pt x="6990" y="269"/>
                  </a:lnTo>
                  <a:lnTo>
                    <a:pt x="7113" y="272"/>
                  </a:lnTo>
                  <a:lnTo>
                    <a:pt x="7242" y="273"/>
                  </a:lnTo>
                  <a:lnTo>
                    <a:pt x="7376" y="273"/>
                  </a:lnTo>
                  <a:lnTo>
                    <a:pt x="7516" y="271"/>
                  </a:lnTo>
                  <a:lnTo>
                    <a:pt x="7661" y="266"/>
                  </a:lnTo>
                  <a:lnTo>
                    <a:pt x="7812" y="258"/>
                  </a:lnTo>
                  <a:lnTo>
                    <a:pt x="7968" y="249"/>
                  </a:lnTo>
                  <a:lnTo>
                    <a:pt x="8130" y="235"/>
                  </a:lnTo>
                  <a:lnTo>
                    <a:pt x="8299" y="219"/>
                  </a:lnTo>
                  <a:lnTo>
                    <a:pt x="8475" y="199"/>
                  </a:lnTo>
                  <a:lnTo>
                    <a:pt x="8659" y="175"/>
                  </a:lnTo>
                  <a:lnTo>
                    <a:pt x="8848" y="150"/>
                  </a:lnTo>
                  <a:lnTo>
                    <a:pt x="9042" y="122"/>
                  </a:lnTo>
                  <a:lnTo>
                    <a:pt x="9239" y="92"/>
                  </a:lnTo>
                  <a:lnTo>
                    <a:pt x="9838" y="0"/>
                  </a:lnTo>
                  <a:lnTo>
                    <a:pt x="9858" y="132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854"/>
            <p:cNvSpPr/>
            <p:nvPr/>
          </p:nvSpPr>
          <p:spPr>
            <a:xfrm>
              <a:off x="3866400" y="3786840"/>
              <a:ext cx="281880" cy="309960"/>
            </a:xfrm>
            <a:custGeom>
              <a:avLst/>
              <a:gdLst/>
              <a:ahLst/>
              <a:rect l="l" t="t" r="r" b="b"/>
              <a:pathLst>
                <a:path w="168" h="183">
                  <a:moveTo>
                    <a:pt x="29" y="0"/>
                  </a:moveTo>
                  <a:lnTo>
                    <a:pt x="52" y="27"/>
                  </a:lnTo>
                  <a:lnTo>
                    <a:pt x="62" y="40"/>
                  </a:lnTo>
                  <a:lnTo>
                    <a:pt x="72" y="52"/>
                  </a:lnTo>
                  <a:lnTo>
                    <a:pt x="82" y="64"/>
                  </a:lnTo>
                  <a:lnTo>
                    <a:pt x="86" y="70"/>
                  </a:lnTo>
                  <a:lnTo>
                    <a:pt x="91" y="76"/>
                  </a:lnTo>
                  <a:lnTo>
                    <a:pt x="99" y="87"/>
                  </a:lnTo>
                  <a:lnTo>
                    <a:pt x="107" y="97"/>
                  </a:lnTo>
                  <a:lnTo>
                    <a:pt x="111" y="102"/>
                  </a:lnTo>
                  <a:lnTo>
                    <a:pt x="115" y="107"/>
                  </a:lnTo>
                  <a:lnTo>
                    <a:pt x="124" y="116"/>
                  </a:lnTo>
                  <a:lnTo>
                    <a:pt x="134" y="125"/>
                  </a:lnTo>
                  <a:lnTo>
                    <a:pt x="168" y="155"/>
                  </a:lnTo>
                  <a:lnTo>
                    <a:pt x="160" y="164"/>
                  </a:lnTo>
                  <a:lnTo>
                    <a:pt x="125" y="134"/>
                  </a:lnTo>
                  <a:lnTo>
                    <a:pt x="115" y="125"/>
                  </a:lnTo>
                  <a:lnTo>
                    <a:pt x="106" y="115"/>
                  </a:lnTo>
                  <a:lnTo>
                    <a:pt x="101" y="110"/>
                  </a:lnTo>
                  <a:lnTo>
                    <a:pt x="97" y="105"/>
                  </a:lnTo>
                  <a:lnTo>
                    <a:pt x="89" y="95"/>
                  </a:lnTo>
                  <a:lnTo>
                    <a:pt x="81" y="83"/>
                  </a:lnTo>
                  <a:lnTo>
                    <a:pt x="76" y="78"/>
                  </a:lnTo>
                  <a:lnTo>
                    <a:pt x="72" y="72"/>
                  </a:lnTo>
                  <a:lnTo>
                    <a:pt x="62" y="60"/>
                  </a:lnTo>
                  <a:lnTo>
                    <a:pt x="52" y="48"/>
                  </a:lnTo>
                  <a:lnTo>
                    <a:pt x="42" y="35"/>
                  </a:lnTo>
                  <a:lnTo>
                    <a:pt x="19" y="8"/>
                  </a:lnTo>
                  <a:lnTo>
                    <a:pt x="29" y="0"/>
                  </a:lnTo>
                  <a:close/>
                  <a:moveTo>
                    <a:pt x="10" y="16"/>
                  </a:moveTo>
                  <a:lnTo>
                    <a:pt x="32" y="43"/>
                  </a:lnTo>
                  <a:lnTo>
                    <a:pt x="42" y="56"/>
                  </a:lnTo>
                  <a:lnTo>
                    <a:pt x="52" y="68"/>
                  </a:lnTo>
                  <a:lnTo>
                    <a:pt x="62" y="80"/>
                  </a:lnTo>
                  <a:lnTo>
                    <a:pt x="66" y="86"/>
                  </a:lnTo>
                  <a:lnTo>
                    <a:pt x="71" y="91"/>
                  </a:lnTo>
                  <a:lnTo>
                    <a:pt x="79" y="102"/>
                  </a:lnTo>
                  <a:lnTo>
                    <a:pt x="87" y="113"/>
                  </a:lnTo>
                  <a:lnTo>
                    <a:pt x="92" y="118"/>
                  </a:lnTo>
                  <a:lnTo>
                    <a:pt x="96" y="123"/>
                  </a:lnTo>
                  <a:lnTo>
                    <a:pt x="106" y="134"/>
                  </a:lnTo>
                  <a:lnTo>
                    <a:pt x="116" y="143"/>
                  </a:lnTo>
                  <a:lnTo>
                    <a:pt x="152" y="174"/>
                  </a:lnTo>
                  <a:lnTo>
                    <a:pt x="143" y="183"/>
                  </a:lnTo>
                  <a:lnTo>
                    <a:pt x="108" y="152"/>
                  </a:lnTo>
                  <a:lnTo>
                    <a:pt x="97" y="142"/>
                  </a:lnTo>
                  <a:lnTo>
                    <a:pt x="87" y="132"/>
                  </a:lnTo>
                  <a:lnTo>
                    <a:pt x="82" y="126"/>
                  </a:lnTo>
                  <a:lnTo>
                    <a:pt x="77" y="121"/>
                  </a:lnTo>
                  <a:lnTo>
                    <a:pt x="69" y="110"/>
                  </a:lnTo>
                  <a:lnTo>
                    <a:pt x="61" y="99"/>
                  </a:lnTo>
                  <a:lnTo>
                    <a:pt x="56" y="93"/>
                  </a:lnTo>
                  <a:lnTo>
                    <a:pt x="52" y="88"/>
                  </a:lnTo>
                  <a:lnTo>
                    <a:pt x="43" y="76"/>
                  </a:lnTo>
                  <a:lnTo>
                    <a:pt x="33" y="64"/>
                  </a:lnTo>
                  <a:lnTo>
                    <a:pt x="22" y="51"/>
                  </a:lnTo>
                  <a:lnTo>
                    <a:pt x="0" y="2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855"/>
            <p:cNvSpPr/>
            <p:nvPr/>
          </p:nvSpPr>
          <p:spPr>
            <a:xfrm>
              <a:off x="6590160" y="893160"/>
              <a:ext cx="430560" cy="300960"/>
            </a:xfrm>
            <a:custGeom>
              <a:avLst/>
              <a:gdLst/>
              <a:ahLst/>
              <a:rect l="l" t="t" r="r" b="b"/>
              <a:pathLst>
                <a:path w="256" h="180">
                  <a:moveTo>
                    <a:pt x="256" y="32"/>
                  </a:moveTo>
                  <a:lnTo>
                    <a:pt x="127" y="115"/>
                  </a:lnTo>
                  <a:lnTo>
                    <a:pt x="114" y="123"/>
                  </a:lnTo>
                  <a:lnTo>
                    <a:pt x="102" y="131"/>
                  </a:lnTo>
                  <a:lnTo>
                    <a:pt x="90" y="138"/>
                  </a:lnTo>
                  <a:lnTo>
                    <a:pt x="79" y="145"/>
                  </a:lnTo>
                  <a:lnTo>
                    <a:pt x="57" y="158"/>
                  </a:lnTo>
                  <a:lnTo>
                    <a:pt x="19" y="180"/>
                  </a:lnTo>
                  <a:lnTo>
                    <a:pt x="12" y="169"/>
                  </a:lnTo>
                  <a:lnTo>
                    <a:pt x="50" y="147"/>
                  </a:lnTo>
                  <a:lnTo>
                    <a:pt x="72" y="134"/>
                  </a:lnTo>
                  <a:lnTo>
                    <a:pt x="84" y="127"/>
                  </a:lnTo>
                  <a:lnTo>
                    <a:pt x="95" y="120"/>
                  </a:lnTo>
                  <a:lnTo>
                    <a:pt x="108" y="113"/>
                  </a:lnTo>
                  <a:lnTo>
                    <a:pt x="120" y="105"/>
                  </a:lnTo>
                  <a:lnTo>
                    <a:pt x="249" y="21"/>
                  </a:lnTo>
                  <a:lnTo>
                    <a:pt x="256" y="32"/>
                  </a:lnTo>
                  <a:close/>
                  <a:moveTo>
                    <a:pt x="242" y="11"/>
                  </a:moveTo>
                  <a:lnTo>
                    <a:pt x="113" y="94"/>
                  </a:lnTo>
                  <a:lnTo>
                    <a:pt x="101" y="102"/>
                  </a:lnTo>
                  <a:lnTo>
                    <a:pt x="89" y="109"/>
                  </a:lnTo>
                  <a:lnTo>
                    <a:pt x="77" y="116"/>
                  </a:lnTo>
                  <a:lnTo>
                    <a:pt x="66" y="123"/>
                  </a:lnTo>
                  <a:lnTo>
                    <a:pt x="44" y="136"/>
                  </a:lnTo>
                  <a:lnTo>
                    <a:pt x="6" y="158"/>
                  </a:lnTo>
                  <a:lnTo>
                    <a:pt x="0" y="147"/>
                  </a:lnTo>
                  <a:lnTo>
                    <a:pt x="37" y="125"/>
                  </a:lnTo>
                  <a:lnTo>
                    <a:pt x="59" y="112"/>
                  </a:lnTo>
                  <a:lnTo>
                    <a:pt x="70" y="105"/>
                  </a:lnTo>
                  <a:lnTo>
                    <a:pt x="82" y="98"/>
                  </a:lnTo>
                  <a:lnTo>
                    <a:pt x="94" y="91"/>
                  </a:lnTo>
                  <a:lnTo>
                    <a:pt x="106" y="83"/>
                  </a:lnTo>
                  <a:lnTo>
                    <a:pt x="235" y="0"/>
                  </a:lnTo>
                  <a:lnTo>
                    <a:pt x="242" y="11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856"/>
            <p:cNvSpPr/>
            <p:nvPr/>
          </p:nvSpPr>
          <p:spPr>
            <a:xfrm>
              <a:off x="6154560" y="1128240"/>
              <a:ext cx="500400" cy="218160"/>
            </a:xfrm>
            <a:custGeom>
              <a:avLst/>
              <a:gdLst/>
              <a:ahLst/>
              <a:rect l="l" t="t" r="r" b="b"/>
              <a:pathLst>
                <a:path w="1558" h="688">
                  <a:moveTo>
                    <a:pt x="1558" y="125"/>
                  </a:moveTo>
                  <a:lnTo>
                    <a:pt x="1435" y="279"/>
                  </a:lnTo>
                  <a:lnTo>
                    <a:pt x="1372" y="354"/>
                  </a:lnTo>
                  <a:lnTo>
                    <a:pt x="1339" y="391"/>
                  </a:lnTo>
                  <a:lnTo>
                    <a:pt x="1307" y="426"/>
                  </a:lnTo>
                  <a:lnTo>
                    <a:pt x="1273" y="460"/>
                  </a:lnTo>
                  <a:lnTo>
                    <a:pt x="1238" y="492"/>
                  </a:lnTo>
                  <a:lnTo>
                    <a:pt x="1174" y="549"/>
                  </a:lnTo>
                  <a:lnTo>
                    <a:pt x="1140" y="577"/>
                  </a:lnTo>
                  <a:lnTo>
                    <a:pt x="1106" y="603"/>
                  </a:lnTo>
                  <a:lnTo>
                    <a:pt x="1068" y="629"/>
                  </a:lnTo>
                  <a:lnTo>
                    <a:pt x="1027" y="651"/>
                  </a:lnTo>
                  <a:lnTo>
                    <a:pt x="981" y="670"/>
                  </a:lnTo>
                  <a:cubicBezTo>
                    <a:pt x="977" y="672"/>
                    <a:pt x="972" y="673"/>
                    <a:pt x="968" y="674"/>
                  </a:cubicBezTo>
                  <a:lnTo>
                    <a:pt x="932" y="683"/>
                  </a:lnTo>
                  <a:cubicBezTo>
                    <a:pt x="927" y="684"/>
                    <a:pt x="922" y="685"/>
                    <a:pt x="917" y="685"/>
                  </a:cubicBezTo>
                  <a:lnTo>
                    <a:pt x="880" y="688"/>
                  </a:lnTo>
                  <a:lnTo>
                    <a:pt x="833" y="688"/>
                  </a:lnTo>
                  <a:lnTo>
                    <a:pt x="784" y="682"/>
                  </a:lnTo>
                  <a:lnTo>
                    <a:pt x="736" y="672"/>
                  </a:lnTo>
                  <a:lnTo>
                    <a:pt x="689" y="659"/>
                  </a:lnTo>
                  <a:lnTo>
                    <a:pt x="640" y="642"/>
                  </a:lnTo>
                  <a:lnTo>
                    <a:pt x="591" y="623"/>
                  </a:lnTo>
                  <a:lnTo>
                    <a:pt x="540" y="603"/>
                  </a:lnTo>
                  <a:lnTo>
                    <a:pt x="482" y="572"/>
                  </a:lnTo>
                  <a:lnTo>
                    <a:pt x="432" y="544"/>
                  </a:lnTo>
                  <a:lnTo>
                    <a:pt x="386" y="520"/>
                  </a:lnTo>
                  <a:lnTo>
                    <a:pt x="367" y="511"/>
                  </a:lnTo>
                  <a:lnTo>
                    <a:pt x="347" y="504"/>
                  </a:lnTo>
                  <a:lnTo>
                    <a:pt x="327" y="498"/>
                  </a:lnTo>
                  <a:lnTo>
                    <a:pt x="308" y="495"/>
                  </a:lnTo>
                  <a:lnTo>
                    <a:pt x="288" y="493"/>
                  </a:lnTo>
                  <a:lnTo>
                    <a:pt x="268" y="493"/>
                  </a:lnTo>
                  <a:lnTo>
                    <a:pt x="247" y="496"/>
                  </a:lnTo>
                  <a:lnTo>
                    <a:pt x="223" y="501"/>
                  </a:lnTo>
                  <a:lnTo>
                    <a:pt x="196" y="510"/>
                  </a:lnTo>
                  <a:lnTo>
                    <a:pt x="73" y="559"/>
                  </a:lnTo>
                  <a:lnTo>
                    <a:pt x="49" y="497"/>
                  </a:lnTo>
                  <a:lnTo>
                    <a:pt x="177" y="446"/>
                  </a:lnTo>
                  <a:lnTo>
                    <a:pt x="210" y="436"/>
                  </a:lnTo>
                  <a:lnTo>
                    <a:pt x="240" y="430"/>
                  </a:lnTo>
                  <a:lnTo>
                    <a:pt x="268" y="427"/>
                  </a:lnTo>
                  <a:lnTo>
                    <a:pt x="295" y="427"/>
                  </a:lnTo>
                  <a:lnTo>
                    <a:pt x="321" y="429"/>
                  </a:lnTo>
                  <a:lnTo>
                    <a:pt x="346" y="434"/>
                  </a:lnTo>
                  <a:lnTo>
                    <a:pt x="371" y="442"/>
                  </a:lnTo>
                  <a:lnTo>
                    <a:pt x="394" y="451"/>
                  </a:lnTo>
                  <a:lnTo>
                    <a:pt x="417" y="461"/>
                  </a:lnTo>
                  <a:lnTo>
                    <a:pt x="465" y="486"/>
                  </a:lnTo>
                  <a:lnTo>
                    <a:pt x="513" y="513"/>
                  </a:lnTo>
                  <a:lnTo>
                    <a:pt x="565" y="541"/>
                  </a:lnTo>
                  <a:lnTo>
                    <a:pt x="615" y="561"/>
                  </a:lnTo>
                  <a:lnTo>
                    <a:pt x="662" y="579"/>
                  </a:lnTo>
                  <a:lnTo>
                    <a:pt x="707" y="595"/>
                  </a:lnTo>
                  <a:lnTo>
                    <a:pt x="750" y="607"/>
                  </a:lnTo>
                  <a:lnTo>
                    <a:pt x="792" y="616"/>
                  </a:lnTo>
                  <a:lnTo>
                    <a:pt x="834" y="621"/>
                  </a:lnTo>
                  <a:lnTo>
                    <a:pt x="875" y="622"/>
                  </a:lnTo>
                  <a:lnTo>
                    <a:pt x="912" y="619"/>
                  </a:lnTo>
                  <a:cubicBezTo>
                    <a:pt x="913" y="619"/>
                    <a:pt x="915" y="618"/>
                    <a:pt x="916" y="618"/>
                  </a:cubicBezTo>
                  <a:lnTo>
                    <a:pt x="953" y="609"/>
                  </a:lnTo>
                  <a:cubicBezTo>
                    <a:pt x="954" y="609"/>
                    <a:pt x="956" y="609"/>
                    <a:pt x="957" y="608"/>
                  </a:cubicBezTo>
                  <a:lnTo>
                    <a:pt x="995" y="593"/>
                  </a:lnTo>
                  <a:lnTo>
                    <a:pt x="1031" y="573"/>
                  </a:lnTo>
                  <a:lnTo>
                    <a:pt x="1065" y="551"/>
                  </a:lnTo>
                  <a:lnTo>
                    <a:pt x="1098" y="526"/>
                  </a:lnTo>
                  <a:lnTo>
                    <a:pt x="1130" y="499"/>
                  </a:lnTo>
                  <a:lnTo>
                    <a:pt x="1193" y="443"/>
                  </a:lnTo>
                  <a:lnTo>
                    <a:pt x="1226" y="413"/>
                  </a:lnTo>
                  <a:lnTo>
                    <a:pt x="1258" y="381"/>
                  </a:lnTo>
                  <a:lnTo>
                    <a:pt x="1289" y="347"/>
                  </a:lnTo>
                  <a:lnTo>
                    <a:pt x="1321" y="311"/>
                  </a:lnTo>
                  <a:lnTo>
                    <a:pt x="1383" y="237"/>
                  </a:lnTo>
                  <a:lnTo>
                    <a:pt x="1506" y="83"/>
                  </a:lnTo>
                  <a:lnTo>
                    <a:pt x="1558" y="125"/>
                  </a:lnTo>
                  <a:close/>
                  <a:moveTo>
                    <a:pt x="1454" y="42"/>
                  </a:moveTo>
                  <a:lnTo>
                    <a:pt x="1331" y="196"/>
                  </a:lnTo>
                  <a:lnTo>
                    <a:pt x="1270" y="269"/>
                  </a:lnTo>
                  <a:lnTo>
                    <a:pt x="1240" y="303"/>
                  </a:lnTo>
                  <a:lnTo>
                    <a:pt x="1209" y="335"/>
                  </a:lnTo>
                  <a:lnTo>
                    <a:pt x="1178" y="366"/>
                  </a:lnTo>
                  <a:lnTo>
                    <a:pt x="1148" y="394"/>
                  </a:lnTo>
                  <a:lnTo>
                    <a:pt x="1086" y="449"/>
                  </a:lnTo>
                  <a:lnTo>
                    <a:pt x="1055" y="474"/>
                  </a:lnTo>
                  <a:lnTo>
                    <a:pt x="1025" y="498"/>
                  </a:lnTo>
                  <a:lnTo>
                    <a:pt x="994" y="518"/>
                  </a:lnTo>
                  <a:lnTo>
                    <a:pt x="964" y="534"/>
                  </a:lnTo>
                  <a:lnTo>
                    <a:pt x="935" y="545"/>
                  </a:lnTo>
                  <a:lnTo>
                    <a:pt x="903" y="552"/>
                  </a:lnTo>
                  <a:lnTo>
                    <a:pt x="869" y="556"/>
                  </a:lnTo>
                  <a:lnTo>
                    <a:pt x="835" y="555"/>
                  </a:lnTo>
                  <a:lnTo>
                    <a:pt x="801" y="550"/>
                  </a:lnTo>
                  <a:lnTo>
                    <a:pt x="765" y="542"/>
                  </a:lnTo>
                  <a:lnTo>
                    <a:pt x="726" y="530"/>
                  </a:lnTo>
                  <a:lnTo>
                    <a:pt x="684" y="516"/>
                  </a:lnTo>
                  <a:lnTo>
                    <a:pt x="639" y="499"/>
                  </a:lnTo>
                  <a:lnTo>
                    <a:pt x="589" y="479"/>
                  </a:lnTo>
                  <a:lnTo>
                    <a:pt x="545" y="455"/>
                  </a:lnTo>
                  <a:lnTo>
                    <a:pt x="498" y="428"/>
                  </a:lnTo>
                  <a:lnTo>
                    <a:pt x="448" y="402"/>
                  </a:lnTo>
                  <a:lnTo>
                    <a:pt x="422" y="390"/>
                  </a:lnTo>
                  <a:lnTo>
                    <a:pt x="394" y="379"/>
                  </a:lnTo>
                  <a:lnTo>
                    <a:pt x="365" y="371"/>
                  </a:lnTo>
                  <a:lnTo>
                    <a:pt x="335" y="364"/>
                  </a:lnTo>
                  <a:lnTo>
                    <a:pt x="303" y="360"/>
                  </a:lnTo>
                  <a:lnTo>
                    <a:pt x="269" y="360"/>
                  </a:lnTo>
                  <a:lnTo>
                    <a:pt x="233" y="363"/>
                  </a:lnTo>
                  <a:lnTo>
                    <a:pt x="196" y="371"/>
                  </a:lnTo>
                  <a:lnTo>
                    <a:pt x="158" y="382"/>
                  </a:lnTo>
                  <a:lnTo>
                    <a:pt x="24" y="435"/>
                  </a:lnTo>
                  <a:lnTo>
                    <a:pt x="0" y="373"/>
                  </a:lnTo>
                  <a:lnTo>
                    <a:pt x="138" y="318"/>
                  </a:lnTo>
                  <a:lnTo>
                    <a:pt x="183" y="305"/>
                  </a:lnTo>
                  <a:lnTo>
                    <a:pt x="227" y="297"/>
                  </a:lnTo>
                  <a:lnTo>
                    <a:pt x="270" y="293"/>
                  </a:lnTo>
                  <a:lnTo>
                    <a:pt x="310" y="294"/>
                  </a:lnTo>
                  <a:lnTo>
                    <a:pt x="348" y="299"/>
                  </a:lnTo>
                  <a:lnTo>
                    <a:pt x="384" y="307"/>
                  </a:lnTo>
                  <a:lnTo>
                    <a:pt x="418" y="317"/>
                  </a:lnTo>
                  <a:lnTo>
                    <a:pt x="449" y="329"/>
                  </a:lnTo>
                  <a:lnTo>
                    <a:pt x="480" y="343"/>
                  </a:lnTo>
                  <a:lnTo>
                    <a:pt x="531" y="370"/>
                  </a:lnTo>
                  <a:lnTo>
                    <a:pt x="576" y="396"/>
                  </a:lnTo>
                  <a:lnTo>
                    <a:pt x="614" y="417"/>
                  </a:lnTo>
                  <a:lnTo>
                    <a:pt x="663" y="436"/>
                  </a:lnTo>
                  <a:lnTo>
                    <a:pt x="706" y="453"/>
                  </a:lnTo>
                  <a:lnTo>
                    <a:pt x="744" y="466"/>
                  </a:lnTo>
                  <a:lnTo>
                    <a:pt x="779" y="477"/>
                  </a:lnTo>
                  <a:lnTo>
                    <a:pt x="810" y="484"/>
                  </a:lnTo>
                  <a:lnTo>
                    <a:pt x="837" y="488"/>
                  </a:lnTo>
                  <a:lnTo>
                    <a:pt x="863" y="489"/>
                  </a:lnTo>
                  <a:lnTo>
                    <a:pt x="893" y="486"/>
                  </a:lnTo>
                  <a:lnTo>
                    <a:pt x="915" y="481"/>
                  </a:lnTo>
                  <a:lnTo>
                    <a:pt x="932" y="476"/>
                  </a:lnTo>
                  <a:lnTo>
                    <a:pt x="958" y="462"/>
                  </a:lnTo>
                  <a:lnTo>
                    <a:pt x="984" y="445"/>
                  </a:lnTo>
                  <a:lnTo>
                    <a:pt x="1013" y="423"/>
                  </a:lnTo>
                  <a:lnTo>
                    <a:pt x="1042" y="399"/>
                  </a:lnTo>
                  <a:lnTo>
                    <a:pt x="1103" y="345"/>
                  </a:lnTo>
                  <a:lnTo>
                    <a:pt x="1131" y="319"/>
                  </a:lnTo>
                  <a:lnTo>
                    <a:pt x="1160" y="290"/>
                  </a:lnTo>
                  <a:lnTo>
                    <a:pt x="1190" y="259"/>
                  </a:lnTo>
                  <a:lnTo>
                    <a:pt x="1219" y="226"/>
                  </a:lnTo>
                  <a:lnTo>
                    <a:pt x="1279" y="154"/>
                  </a:lnTo>
                  <a:lnTo>
                    <a:pt x="1402" y="0"/>
                  </a:lnTo>
                  <a:lnTo>
                    <a:pt x="1454" y="42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Oval 858"/>
            <p:cNvSpPr/>
            <p:nvPr/>
          </p:nvSpPr>
          <p:spPr>
            <a:xfrm>
              <a:off x="5720040" y="3244320"/>
              <a:ext cx="65880" cy="66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Oval 860"/>
            <p:cNvSpPr/>
            <p:nvPr/>
          </p:nvSpPr>
          <p:spPr>
            <a:xfrm>
              <a:off x="6959880" y="885600"/>
              <a:ext cx="65880" cy="69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Oval 861"/>
            <p:cNvSpPr/>
            <p:nvPr/>
          </p:nvSpPr>
          <p:spPr>
            <a:xfrm>
              <a:off x="6959880" y="885600"/>
              <a:ext cx="65880" cy="6984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Oval 864"/>
            <p:cNvSpPr/>
            <p:nvPr/>
          </p:nvSpPr>
          <p:spPr>
            <a:xfrm>
              <a:off x="5825520" y="243684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Oval 865"/>
            <p:cNvSpPr/>
            <p:nvPr/>
          </p:nvSpPr>
          <p:spPr>
            <a:xfrm>
              <a:off x="5825520" y="2436840"/>
              <a:ext cx="66960" cy="6480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Oval 868"/>
            <p:cNvSpPr/>
            <p:nvPr/>
          </p:nvSpPr>
          <p:spPr>
            <a:xfrm>
              <a:off x="6080760" y="2040480"/>
              <a:ext cx="65880" cy="65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Oval 1079"/>
            <p:cNvSpPr/>
            <p:nvPr/>
          </p:nvSpPr>
          <p:spPr>
            <a:xfrm>
              <a:off x="4106520" y="4039920"/>
              <a:ext cx="6732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Rectangle 1114"/>
            <p:cNvSpPr/>
            <p:nvPr/>
          </p:nvSpPr>
          <p:spPr>
            <a:xfrm>
              <a:off x="2054880" y="3799440"/>
              <a:ext cx="69480" cy="6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Oval 1115"/>
            <p:cNvSpPr/>
            <p:nvPr/>
          </p:nvSpPr>
          <p:spPr>
            <a:xfrm>
              <a:off x="2056320" y="3812400"/>
              <a:ext cx="6588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Oval 1117"/>
            <p:cNvSpPr/>
            <p:nvPr/>
          </p:nvSpPr>
          <p:spPr>
            <a:xfrm>
              <a:off x="2053440" y="3822480"/>
              <a:ext cx="65880" cy="6336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Oval 1118"/>
            <p:cNvSpPr/>
            <p:nvPr/>
          </p:nvSpPr>
          <p:spPr>
            <a:xfrm>
              <a:off x="2835000" y="3620880"/>
              <a:ext cx="61920" cy="66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Oval 1119"/>
            <p:cNvSpPr/>
            <p:nvPr/>
          </p:nvSpPr>
          <p:spPr>
            <a:xfrm>
              <a:off x="2835000" y="3620880"/>
              <a:ext cx="61920" cy="6696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1120"/>
            <p:cNvSpPr/>
            <p:nvPr/>
          </p:nvSpPr>
          <p:spPr>
            <a:xfrm>
              <a:off x="2832120" y="4285080"/>
              <a:ext cx="66240" cy="6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Oval 1121"/>
            <p:cNvSpPr/>
            <p:nvPr/>
          </p:nvSpPr>
          <p:spPr>
            <a:xfrm>
              <a:off x="2832120" y="4285080"/>
              <a:ext cx="66240" cy="65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Rectangle 1122"/>
            <p:cNvSpPr/>
            <p:nvPr/>
          </p:nvSpPr>
          <p:spPr>
            <a:xfrm>
              <a:off x="2832120" y="4285080"/>
              <a:ext cx="66240" cy="6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Oval 1123"/>
            <p:cNvSpPr/>
            <p:nvPr/>
          </p:nvSpPr>
          <p:spPr>
            <a:xfrm>
              <a:off x="2832120" y="4285080"/>
              <a:ext cx="66240" cy="6588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Rectangle 1132"/>
            <p:cNvSpPr/>
            <p:nvPr/>
          </p:nvSpPr>
          <p:spPr>
            <a:xfrm>
              <a:off x="3110760" y="3906360"/>
              <a:ext cx="67320" cy="6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Oval 1133"/>
            <p:cNvSpPr/>
            <p:nvPr/>
          </p:nvSpPr>
          <p:spPr>
            <a:xfrm>
              <a:off x="3110760" y="3906360"/>
              <a:ext cx="67320" cy="65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Rectangle 1134"/>
            <p:cNvSpPr/>
            <p:nvPr/>
          </p:nvSpPr>
          <p:spPr>
            <a:xfrm>
              <a:off x="3110760" y="3906360"/>
              <a:ext cx="67320" cy="6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Oval 1135"/>
            <p:cNvSpPr/>
            <p:nvPr/>
          </p:nvSpPr>
          <p:spPr>
            <a:xfrm>
              <a:off x="3110760" y="3906360"/>
              <a:ext cx="67320" cy="6588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Oval 1136"/>
            <p:cNvSpPr/>
            <p:nvPr/>
          </p:nvSpPr>
          <p:spPr>
            <a:xfrm>
              <a:off x="2031840" y="4221360"/>
              <a:ext cx="6732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Oval 1137"/>
            <p:cNvSpPr/>
            <p:nvPr/>
          </p:nvSpPr>
          <p:spPr>
            <a:xfrm>
              <a:off x="2031840" y="4221360"/>
              <a:ext cx="67320" cy="6480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790"/>
            <p:cNvSpPr/>
            <p:nvPr/>
          </p:nvSpPr>
          <p:spPr>
            <a:xfrm>
              <a:off x="5970240" y="115920"/>
              <a:ext cx="2122560" cy="1693080"/>
            </a:xfrm>
            <a:custGeom>
              <a:avLst/>
              <a:gdLst/>
              <a:ahLst/>
              <a:rect l="l" t="t" r="r" b="b"/>
              <a:pathLst>
                <a:path w="1262" h="1007">
                  <a:moveTo>
                    <a:pt x="27" y="1006"/>
                  </a:moveTo>
                  <a:cubicBezTo>
                    <a:pt x="36" y="1004"/>
                    <a:pt x="51" y="986"/>
                    <a:pt x="61" y="983"/>
                  </a:cubicBezTo>
                  <a:cubicBezTo>
                    <a:pt x="71" y="980"/>
                    <a:pt x="80" y="986"/>
                    <a:pt x="84" y="982"/>
                  </a:cubicBezTo>
                  <a:cubicBezTo>
                    <a:pt x="87" y="977"/>
                    <a:pt x="81" y="963"/>
                    <a:pt x="82" y="958"/>
                  </a:cubicBezTo>
                  <a:cubicBezTo>
                    <a:pt x="83" y="952"/>
                    <a:pt x="86" y="949"/>
                    <a:pt x="91" y="948"/>
                  </a:cubicBezTo>
                  <a:cubicBezTo>
                    <a:pt x="97" y="947"/>
                    <a:pt x="108" y="950"/>
                    <a:pt x="116" y="947"/>
                  </a:cubicBezTo>
                  <a:cubicBezTo>
                    <a:pt x="124" y="944"/>
                    <a:pt x="132" y="936"/>
                    <a:pt x="139" y="935"/>
                  </a:cubicBezTo>
                  <a:cubicBezTo>
                    <a:pt x="146" y="933"/>
                    <a:pt x="149" y="938"/>
                    <a:pt x="156" y="938"/>
                  </a:cubicBezTo>
                  <a:cubicBezTo>
                    <a:pt x="162" y="938"/>
                    <a:pt x="171" y="932"/>
                    <a:pt x="176" y="935"/>
                  </a:cubicBezTo>
                  <a:cubicBezTo>
                    <a:pt x="181" y="939"/>
                    <a:pt x="181" y="955"/>
                    <a:pt x="185" y="959"/>
                  </a:cubicBezTo>
                  <a:cubicBezTo>
                    <a:pt x="189" y="964"/>
                    <a:pt x="195" y="964"/>
                    <a:pt x="200" y="963"/>
                  </a:cubicBezTo>
                  <a:cubicBezTo>
                    <a:pt x="205" y="963"/>
                    <a:pt x="207" y="956"/>
                    <a:pt x="213" y="956"/>
                  </a:cubicBezTo>
                  <a:cubicBezTo>
                    <a:pt x="219" y="955"/>
                    <a:pt x="232" y="962"/>
                    <a:pt x="237" y="960"/>
                  </a:cubicBezTo>
                  <a:cubicBezTo>
                    <a:pt x="243" y="958"/>
                    <a:pt x="246" y="949"/>
                    <a:pt x="247" y="943"/>
                  </a:cubicBezTo>
                  <a:cubicBezTo>
                    <a:pt x="249" y="937"/>
                    <a:pt x="252" y="933"/>
                    <a:pt x="247" y="926"/>
                  </a:cubicBezTo>
                  <a:cubicBezTo>
                    <a:pt x="242" y="919"/>
                    <a:pt x="224" y="912"/>
                    <a:pt x="218" y="903"/>
                  </a:cubicBezTo>
                  <a:cubicBezTo>
                    <a:pt x="212" y="894"/>
                    <a:pt x="214" y="882"/>
                    <a:pt x="210" y="874"/>
                  </a:cubicBezTo>
                  <a:cubicBezTo>
                    <a:pt x="207" y="867"/>
                    <a:pt x="200" y="865"/>
                    <a:pt x="196" y="858"/>
                  </a:cubicBezTo>
                  <a:cubicBezTo>
                    <a:pt x="192" y="852"/>
                    <a:pt x="196" y="840"/>
                    <a:pt x="188" y="836"/>
                  </a:cubicBezTo>
                  <a:cubicBezTo>
                    <a:pt x="180" y="831"/>
                    <a:pt x="163" y="838"/>
                    <a:pt x="151" y="831"/>
                  </a:cubicBezTo>
                  <a:cubicBezTo>
                    <a:pt x="139" y="825"/>
                    <a:pt x="123" y="808"/>
                    <a:pt x="118" y="798"/>
                  </a:cubicBezTo>
                  <a:cubicBezTo>
                    <a:pt x="112" y="787"/>
                    <a:pt x="106" y="779"/>
                    <a:pt x="110" y="766"/>
                  </a:cubicBezTo>
                  <a:cubicBezTo>
                    <a:pt x="114" y="753"/>
                    <a:pt x="129" y="730"/>
                    <a:pt x="139" y="720"/>
                  </a:cubicBezTo>
                  <a:cubicBezTo>
                    <a:pt x="150" y="710"/>
                    <a:pt x="161" y="708"/>
                    <a:pt x="172" y="707"/>
                  </a:cubicBezTo>
                  <a:cubicBezTo>
                    <a:pt x="182" y="707"/>
                    <a:pt x="193" y="712"/>
                    <a:pt x="201" y="717"/>
                  </a:cubicBezTo>
                  <a:cubicBezTo>
                    <a:pt x="209" y="721"/>
                    <a:pt x="215" y="728"/>
                    <a:pt x="219" y="735"/>
                  </a:cubicBezTo>
                  <a:cubicBezTo>
                    <a:pt x="223" y="742"/>
                    <a:pt x="222" y="747"/>
                    <a:pt x="224" y="754"/>
                  </a:cubicBezTo>
                  <a:cubicBezTo>
                    <a:pt x="227" y="761"/>
                    <a:pt x="234" y="772"/>
                    <a:pt x="236" y="779"/>
                  </a:cubicBezTo>
                  <a:cubicBezTo>
                    <a:pt x="239" y="787"/>
                    <a:pt x="239" y="793"/>
                    <a:pt x="241" y="798"/>
                  </a:cubicBezTo>
                  <a:cubicBezTo>
                    <a:pt x="243" y="802"/>
                    <a:pt x="249" y="806"/>
                    <a:pt x="257" y="803"/>
                  </a:cubicBezTo>
                  <a:cubicBezTo>
                    <a:pt x="264" y="801"/>
                    <a:pt x="278" y="786"/>
                    <a:pt x="287" y="781"/>
                  </a:cubicBezTo>
                  <a:cubicBezTo>
                    <a:pt x="297" y="776"/>
                    <a:pt x="305" y="776"/>
                    <a:pt x="314" y="772"/>
                  </a:cubicBezTo>
                  <a:cubicBezTo>
                    <a:pt x="323" y="768"/>
                    <a:pt x="329" y="759"/>
                    <a:pt x="342" y="756"/>
                  </a:cubicBezTo>
                  <a:cubicBezTo>
                    <a:pt x="356" y="754"/>
                    <a:pt x="366" y="750"/>
                    <a:pt x="387" y="755"/>
                  </a:cubicBezTo>
                  <a:cubicBezTo>
                    <a:pt x="408" y="760"/>
                    <a:pt x="443" y="772"/>
                    <a:pt x="466" y="788"/>
                  </a:cubicBezTo>
                  <a:cubicBezTo>
                    <a:pt x="489" y="805"/>
                    <a:pt x="504" y="834"/>
                    <a:pt x="524" y="854"/>
                  </a:cubicBezTo>
                  <a:cubicBezTo>
                    <a:pt x="544" y="873"/>
                    <a:pt x="569" y="890"/>
                    <a:pt x="587" y="905"/>
                  </a:cubicBezTo>
                  <a:cubicBezTo>
                    <a:pt x="606" y="919"/>
                    <a:pt x="618" y="928"/>
                    <a:pt x="633" y="943"/>
                  </a:cubicBezTo>
                  <a:cubicBezTo>
                    <a:pt x="648" y="958"/>
                    <a:pt x="660" y="981"/>
                    <a:pt x="671" y="994"/>
                  </a:cubicBezTo>
                  <a:cubicBezTo>
                    <a:pt x="681" y="979"/>
                    <a:pt x="681" y="976"/>
                    <a:pt x="685" y="967"/>
                  </a:cubicBezTo>
                  <a:cubicBezTo>
                    <a:pt x="690" y="958"/>
                    <a:pt x="697" y="952"/>
                    <a:pt x="701" y="942"/>
                  </a:cubicBezTo>
                  <a:cubicBezTo>
                    <a:pt x="704" y="932"/>
                    <a:pt x="703" y="916"/>
                    <a:pt x="706" y="908"/>
                  </a:cubicBezTo>
                  <a:cubicBezTo>
                    <a:pt x="709" y="899"/>
                    <a:pt x="717" y="890"/>
                    <a:pt x="725" y="878"/>
                  </a:cubicBezTo>
                  <a:cubicBezTo>
                    <a:pt x="733" y="866"/>
                    <a:pt x="737" y="861"/>
                    <a:pt x="757" y="844"/>
                  </a:cubicBezTo>
                  <a:cubicBezTo>
                    <a:pt x="778" y="828"/>
                    <a:pt x="825" y="788"/>
                    <a:pt x="847" y="777"/>
                  </a:cubicBezTo>
                  <a:cubicBezTo>
                    <a:pt x="868" y="765"/>
                    <a:pt x="875" y="780"/>
                    <a:pt x="885" y="775"/>
                  </a:cubicBezTo>
                  <a:cubicBezTo>
                    <a:pt x="895" y="771"/>
                    <a:pt x="898" y="754"/>
                    <a:pt x="910" y="749"/>
                  </a:cubicBezTo>
                  <a:cubicBezTo>
                    <a:pt x="921" y="745"/>
                    <a:pt x="947" y="746"/>
                    <a:pt x="953" y="749"/>
                  </a:cubicBezTo>
                  <a:cubicBezTo>
                    <a:pt x="959" y="752"/>
                    <a:pt x="942" y="766"/>
                    <a:pt x="944" y="769"/>
                  </a:cubicBezTo>
                  <a:cubicBezTo>
                    <a:pt x="947" y="772"/>
                    <a:pt x="962" y="767"/>
                    <a:pt x="970" y="767"/>
                  </a:cubicBezTo>
                  <a:cubicBezTo>
                    <a:pt x="978" y="768"/>
                    <a:pt x="985" y="770"/>
                    <a:pt x="992" y="772"/>
                  </a:cubicBezTo>
                  <a:cubicBezTo>
                    <a:pt x="999" y="773"/>
                    <a:pt x="1005" y="773"/>
                    <a:pt x="1011" y="775"/>
                  </a:cubicBezTo>
                  <a:cubicBezTo>
                    <a:pt x="1017" y="778"/>
                    <a:pt x="1022" y="788"/>
                    <a:pt x="1026" y="785"/>
                  </a:cubicBezTo>
                  <a:cubicBezTo>
                    <a:pt x="1030" y="784"/>
                    <a:pt x="1029" y="770"/>
                    <a:pt x="1035" y="763"/>
                  </a:cubicBezTo>
                  <a:cubicBezTo>
                    <a:pt x="1040" y="757"/>
                    <a:pt x="1055" y="747"/>
                    <a:pt x="1058" y="748"/>
                  </a:cubicBezTo>
                  <a:cubicBezTo>
                    <a:pt x="1062" y="749"/>
                    <a:pt x="1053" y="767"/>
                    <a:pt x="1054" y="770"/>
                  </a:cubicBezTo>
                  <a:cubicBezTo>
                    <a:pt x="1056" y="773"/>
                    <a:pt x="1065" y="767"/>
                    <a:pt x="1068" y="767"/>
                  </a:cubicBezTo>
                  <a:cubicBezTo>
                    <a:pt x="1071" y="766"/>
                    <a:pt x="1075" y="767"/>
                    <a:pt x="1078" y="767"/>
                  </a:cubicBezTo>
                  <a:cubicBezTo>
                    <a:pt x="1082" y="766"/>
                    <a:pt x="1084" y="763"/>
                    <a:pt x="1089" y="763"/>
                  </a:cubicBezTo>
                  <a:cubicBezTo>
                    <a:pt x="1094" y="762"/>
                    <a:pt x="1099" y="766"/>
                    <a:pt x="1102" y="762"/>
                  </a:cubicBezTo>
                  <a:cubicBezTo>
                    <a:pt x="1104" y="759"/>
                    <a:pt x="1101" y="749"/>
                    <a:pt x="1105" y="745"/>
                  </a:cubicBezTo>
                  <a:cubicBezTo>
                    <a:pt x="1109" y="740"/>
                    <a:pt x="1118" y="735"/>
                    <a:pt x="1126" y="736"/>
                  </a:cubicBezTo>
                  <a:cubicBezTo>
                    <a:pt x="1134" y="737"/>
                    <a:pt x="1145" y="748"/>
                    <a:pt x="1152" y="749"/>
                  </a:cubicBezTo>
                  <a:cubicBezTo>
                    <a:pt x="1159" y="750"/>
                    <a:pt x="1165" y="744"/>
                    <a:pt x="1171" y="743"/>
                  </a:cubicBezTo>
                  <a:cubicBezTo>
                    <a:pt x="1177" y="741"/>
                    <a:pt x="1183" y="743"/>
                    <a:pt x="1187" y="740"/>
                  </a:cubicBezTo>
                  <a:cubicBezTo>
                    <a:pt x="1191" y="736"/>
                    <a:pt x="1192" y="729"/>
                    <a:pt x="1196" y="724"/>
                  </a:cubicBezTo>
                  <a:cubicBezTo>
                    <a:pt x="1201" y="719"/>
                    <a:pt x="1209" y="716"/>
                    <a:pt x="1216" y="713"/>
                  </a:cubicBezTo>
                  <a:cubicBezTo>
                    <a:pt x="1223" y="710"/>
                    <a:pt x="1230" y="704"/>
                    <a:pt x="1240" y="705"/>
                  </a:cubicBezTo>
                  <a:cubicBezTo>
                    <a:pt x="1249" y="706"/>
                    <a:pt x="1256" y="705"/>
                    <a:pt x="1259" y="703"/>
                  </a:cubicBezTo>
                  <a:cubicBezTo>
                    <a:pt x="1262" y="701"/>
                    <a:pt x="1260" y="698"/>
                    <a:pt x="1256" y="695"/>
                  </a:cubicBezTo>
                  <a:cubicBezTo>
                    <a:pt x="1252" y="691"/>
                    <a:pt x="1249" y="696"/>
                    <a:pt x="1243" y="694"/>
                  </a:cubicBezTo>
                  <a:cubicBezTo>
                    <a:pt x="1237" y="692"/>
                    <a:pt x="1236" y="691"/>
                    <a:pt x="1231" y="691"/>
                  </a:cubicBezTo>
                  <a:cubicBezTo>
                    <a:pt x="1227" y="692"/>
                    <a:pt x="1222" y="696"/>
                    <a:pt x="1218" y="697"/>
                  </a:cubicBezTo>
                  <a:cubicBezTo>
                    <a:pt x="1213" y="698"/>
                    <a:pt x="1207" y="695"/>
                    <a:pt x="1203" y="697"/>
                  </a:cubicBezTo>
                  <a:cubicBezTo>
                    <a:pt x="1199" y="700"/>
                    <a:pt x="1197" y="707"/>
                    <a:pt x="1192" y="710"/>
                  </a:cubicBezTo>
                  <a:cubicBezTo>
                    <a:pt x="1186" y="713"/>
                    <a:pt x="1178" y="717"/>
                    <a:pt x="1170" y="715"/>
                  </a:cubicBezTo>
                  <a:cubicBezTo>
                    <a:pt x="1162" y="713"/>
                    <a:pt x="1143" y="703"/>
                    <a:pt x="1142" y="700"/>
                  </a:cubicBezTo>
                  <a:cubicBezTo>
                    <a:pt x="1140" y="696"/>
                    <a:pt x="1155" y="697"/>
                    <a:pt x="1159" y="695"/>
                  </a:cubicBezTo>
                  <a:cubicBezTo>
                    <a:pt x="1163" y="692"/>
                    <a:pt x="1165" y="690"/>
                    <a:pt x="1166" y="684"/>
                  </a:cubicBezTo>
                  <a:cubicBezTo>
                    <a:pt x="1167" y="679"/>
                    <a:pt x="1166" y="669"/>
                    <a:pt x="1163" y="661"/>
                  </a:cubicBezTo>
                  <a:cubicBezTo>
                    <a:pt x="1161" y="653"/>
                    <a:pt x="1153" y="639"/>
                    <a:pt x="1152" y="634"/>
                  </a:cubicBezTo>
                  <a:cubicBezTo>
                    <a:pt x="1150" y="630"/>
                    <a:pt x="1148" y="621"/>
                    <a:pt x="1150" y="619"/>
                  </a:cubicBezTo>
                  <a:cubicBezTo>
                    <a:pt x="1151" y="617"/>
                    <a:pt x="1160" y="617"/>
                    <a:pt x="1163" y="620"/>
                  </a:cubicBezTo>
                  <a:cubicBezTo>
                    <a:pt x="1166" y="623"/>
                    <a:pt x="1167" y="633"/>
                    <a:pt x="1169" y="632"/>
                  </a:cubicBezTo>
                  <a:cubicBezTo>
                    <a:pt x="1172" y="631"/>
                    <a:pt x="1172" y="622"/>
                    <a:pt x="1169" y="618"/>
                  </a:cubicBezTo>
                  <a:cubicBezTo>
                    <a:pt x="1166" y="613"/>
                    <a:pt x="1158" y="611"/>
                    <a:pt x="1154" y="605"/>
                  </a:cubicBezTo>
                  <a:cubicBezTo>
                    <a:pt x="1149" y="599"/>
                    <a:pt x="1144" y="597"/>
                    <a:pt x="1142" y="583"/>
                  </a:cubicBezTo>
                  <a:cubicBezTo>
                    <a:pt x="1141" y="570"/>
                    <a:pt x="1140" y="539"/>
                    <a:pt x="1145" y="525"/>
                  </a:cubicBezTo>
                  <a:cubicBezTo>
                    <a:pt x="1151" y="512"/>
                    <a:pt x="1165" y="510"/>
                    <a:pt x="1175" y="500"/>
                  </a:cubicBezTo>
                  <a:cubicBezTo>
                    <a:pt x="1185" y="490"/>
                    <a:pt x="1200" y="475"/>
                    <a:pt x="1207" y="464"/>
                  </a:cubicBezTo>
                  <a:cubicBezTo>
                    <a:pt x="1214" y="453"/>
                    <a:pt x="1216" y="440"/>
                    <a:pt x="1216" y="434"/>
                  </a:cubicBezTo>
                  <a:cubicBezTo>
                    <a:pt x="1215" y="427"/>
                    <a:pt x="1208" y="424"/>
                    <a:pt x="1204" y="425"/>
                  </a:cubicBezTo>
                  <a:cubicBezTo>
                    <a:pt x="1200" y="427"/>
                    <a:pt x="1197" y="428"/>
                    <a:pt x="1191" y="434"/>
                  </a:cubicBezTo>
                  <a:cubicBezTo>
                    <a:pt x="1185" y="440"/>
                    <a:pt x="1177" y="452"/>
                    <a:pt x="1169" y="460"/>
                  </a:cubicBezTo>
                  <a:cubicBezTo>
                    <a:pt x="1160" y="468"/>
                    <a:pt x="1145" y="473"/>
                    <a:pt x="1135" y="481"/>
                  </a:cubicBezTo>
                  <a:cubicBezTo>
                    <a:pt x="1124" y="488"/>
                    <a:pt x="1118" y="498"/>
                    <a:pt x="1104" y="505"/>
                  </a:cubicBezTo>
                  <a:cubicBezTo>
                    <a:pt x="1091" y="513"/>
                    <a:pt x="1065" y="526"/>
                    <a:pt x="1052" y="525"/>
                  </a:cubicBezTo>
                  <a:cubicBezTo>
                    <a:pt x="1039" y="525"/>
                    <a:pt x="1033" y="507"/>
                    <a:pt x="1027" y="503"/>
                  </a:cubicBezTo>
                  <a:cubicBezTo>
                    <a:pt x="1020" y="499"/>
                    <a:pt x="1016" y="502"/>
                    <a:pt x="1011" y="501"/>
                  </a:cubicBezTo>
                  <a:cubicBezTo>
                    <a:pt x="1006" y="500"/>
                    <a:pt x="999" y="501"/>
                    <a:pt x="996" y="496"/>
                  </a:cubicBezTo>
                  <a:cubicBezTo>
                    <a:pt x="993" y="492"/>
                    <a:pt x="995" y="483"/>
                    <a:pt x="993" y="475"/>
                  </a:cubicBezTo>
                  <a:cubicBezTo>
                    <a:pt x="992" y="467"/>
                    <a:pt x="985" y="449"/>
                    <a:pt x="982" y="449"/>
                  </a:cubicBezTo>
                  <a:cubicBezTo>
                    <a:pt x="979" y="448"/>
                    <a:pt x="981" y="466"/>
                    <a:pt x="978" y="472"/>
                  </a:cubicBezTo>
                  <a:cubicBezTo>
                    <a:pt x="976" y="478"/>
                    <a:pt x="970" y="484"/>
                    <a:pt x="967" y="483"/>
                  </a:cubicBezTo>
                  <a:cubicBezTo>
                    <a:pt x="964" y="482"/>
                    <a:pt x="960" y="470"/>
                    <a:pt x="960" y="464"/>
                  </a:cubicBezTo>
                  <a:cubicBezTo>
                    <a:pt x="961" y="458"/>
                    <a:pt x="971" y="449"/>
                    <a:pt x="969" y="445"/>
                  </a:cubicBezTo>
                  <a:cubicBezTo>
                    <a:pt x="965" y="441"/>
                    <a:pt x="949" y="442"/>
                    <a:pt x="943" y="440"/>
                  </a:cubicBezTo>
                  <a:cubicBezTo>
                    <a:pt x="937" y="437"/>
                    <a:pt x="929" y="425"/>
                    <a:pt x="925" y="425"/>
                  </a:cubicBezTo>
                  <a:cubicBezTo>
                    <a:pt x="922" y="424"/>
                    <a:pt x="925" y="432"/>
                    <a:pt x="923" y="435"/>
                  </a:cubicBezTo>
                  <a:cubicBezTo>
                    <a:pt x="921" y="437"/>
                    <a:pt x="921" y="441"/>
                    <a:pt x="915" y="440"/>
                  </a:cubicBezTo>
                  <a:cubicBezTo>
                    <a:pt x="908" y="439"/>
                    <a:pt x="888" y="430"/>
                    <a:pt x="886" y="426"/>
                  </a:cubicBezTo>
                  <a:cubicBezTo>
                    <a:pt x="883" y="422"/>
                    <a:pt x="910" y="427"/>
                    <a:pt x="902" y="416"/>
                  </a:cubicBezTo>
                  <a:cubicBezTo>
                    <a:pt x="893" y="404"/>
                    <a:pt x="855" y="377"/>
                    <a:pt x="834" y="358"/>
                  </a:cubicBezTo>
                  <a:cubicBezTo>
                    <a:pt x="812" y="339"/>
                    <a:pt x="791" y="318"/>
                    <a:pt x="777" y="300"/>
                  </a:cubicBezTo>
                  <a:cubicBezTo>
                    <a:pt x="762" y="283"/>
                    <a:pt x="758" y="267"/>
                    <a:pt x="748" y="253"/>
                  </a:cubicBezTo>
                  <a:cubicBezTo>
                    <a:pt x="738" y="240"/>
                    <a:pt x="723" y="234"/>
                    <a:pt x="716" y="219"/>
                  </a:cubicBezTo>
                  <a:cubicBezTo>
                    <a:pt x="709" y="203"/>
                    <a:pt x="709" y="184"/>
                    <a:pt x="702" y="171"/>
                  </a:cubicBezTo>
                  <a:cubicBezTo>
                    <a:pt x="696" y="157"/>
                    <a:pt x="682" y="149"/>
                    <a:pt x="676" y="139"/>
                  </a:cubicBezTo>
                  <a:cubicBezTo>
                    <a:pt x="670" y="130"/>
                    <a:pt x="669" y="125"/>
                    <a:pt x="666" y="117"/>
                  </a:cubicBezTo>
                  <a:cubicBezTo>
                    <a:pt x="663" y="110"/>
                    <a:pt x="663" y="100"/>
                    <a:pt x="659" y="94"/>
                  </a:cubicBezTo>
                  <a:cubicBezTo>
                    <a:pt x="655" y="89"/>
                    <a:pt x="649" y="84"/>
                    <a:pt x="644" y="80"/>
                  </a:cubicBezTo>
                  <a:cubicBezTo>
                    <a:pt x="640" y="76"/>
                    <a:pt x="638" y="82"/>
                    <a:pt x="632" y="70"/>
                  </a:cubicBezTo>
                  <a:cubicBezTo>
                    <a:pt x="625" y="59"/>
                    <a:pt x="612" y="19"/>
                    <a:pt x="604" y="13"/>
                  </a:cubicBezTo>
                  <a:cubicBezTo>
                    <a:pt x="597" y="6"/>
                    <a:pt x="593" y="26"/>
                    <a:pt x="586" y="29"/>
                  </a:cubicBezTo>
                  <a:cubicBezTo>
                    <a:pt x="580" y="33"/>
                    <a:pt x="569" y="36"/>
                    <a:pt x="563" y="33"/>
                  </a:cubicBezTo>
                  <a:cubicBezTo>
                    <a:pt x="557" y="30"/>
                    <a:pt x="555" y="15"/>
                    <a:pt x="551" y="10"/>
                  </a:cubicBezTo>
                  <a:cubicBezTo>
                    <a:pt x="547" y="6"/>
                    <a:pt x="543" y="0"/>
                    <a:pt x="538" y="5"/>
                  </a:cubicBezTo>
                  <a:cubicBezTo>
                    <a:pt x="533" y="10"/>
                    <a:pt x="525" y="31"/>
                    <a:pt x="522" y="40"/>
                  </a:cubicBezTo>
                  <a:cubicBezTo>
                    <a:pt x="518" y="50"/>
                    <a:pt x="519" y="54"/>
                    <a:pt x="519" y="62"/>
                  </a:cubicBezTo>
                  <a:cubicBezTo>
                    <a:pt x="519" y="70"/>
                    <a:pt x="524" y="81"/>
                    <a:pt x="523" y="88"/>
                  </a:cubicBezTo>
                  <a:cubicBezTo>
                    <a:pt x="521" y="95"/>
                    <a:pt x="507" y="91"/>
                    <a:pt x="508" y="105"/>
                  </a:cubicBezTo>
                  <a:cubicBezTo>
                    <a:pt x="510" y="118"/>
                    <a:pt x="530" y="153"/>
                    <a:pt x="532" y="170"/>
                  </a:cubicBezTo>
                  <a:cubicBezTo>
                    <a:pt x="534" y="187"/>
                    <a:pt x="522" y="194"/>
                    <a:pt x="520" y="206"/>
                  </a:cubicBezTo>
                  <a:cubicBezTo>
                    <a:pt x="519" y="217"/>
                    <a:pt x="526" y="227"/>
                    <a:pt x="523" y="236"/>
                  </a:cubicBezTo>
                  <a:cubicBezTo>
                    <a:pt x="521" y="245"/>
                    <a:pt x="510" y="251"/>
                    <a:pt x="505" y="261"/>
                  </a:cubicBezTo>
                  <a:cubicBezTo>
                    <a:pt x="500" y="270"/>
                    <a:pt x="499" y="284"/>
                    <a:pt x="494" y="294"/>
                  </a:cubicBezTo>
                  <a:cubicBezTo>
                    <a:pt x="489" y="303"/>
                    <a:pt x="477" y="308"/>
                    <a:pt x="475" y="318"/>
                  </a:cubicBezTo>
                  <a:cubicBezTo>
                    <a:pt x="471" y="327"/>
                    <a:pt x="480" y="335"/>
                    <a:pt x="477" y="350"/>
                  </a:cubicBezTo>
                  <a:cubicBezTo>
                    <a:pt x="473" y="365"/>
                    <a:pt x="463" y="395"/>
                    <a:pt x="451" y="408"/>
                  </a:cubicBezTo>
                  <a:cubicBezTo>
                    <a:pt x="438" y="421"/>
                    <a:pt x="411" y="420"/>
                    <a:pt x="400" y="429"/>
                  </a:cubicBezTo>
                  <a:cubicBezTo>
                    <a:pt x="390" y="439"/>
                    <a:pt x="392" y="456"/>
                    <a:pt x="389" y="466"/>
                  </a:cubicBezTo>
                  <a:cubicBezTo>
                    <a:pt x="386" y="476"/>
                    <a:pt x="387" y="482"/>
                    <a:pt x="384" y="487"/>
                  </a:cubicBezTo>
                  <a:cubicBezTo>
                    <a:pt x="381" y="493"/>
                    <a:pt x="374" y="501"/>
                    <a:pt x="375" y="509"/>
                  </a:cubicBezTo>
                  <a:cubicBezTo>
                    <a:pt x="376" y="518"/>
                    <a:pt x="386" y="529"/>
                    <a:pt x="388" y="538"/>
                  </a:cubicBezTo>
                  <a:cubicBezTo>
                    <a:pt x="390" y="548"/>
                    <a:pt x="391" y="560"/>
                    <a:pt x="388" y="566"/>
                  </a:cubicBezTo>
                  <a:cubicBezTo>
                    <a:pt x="385" y="573"/>
                    <a:pt x="373" y="583"/>
                    <a:pt x="360" y="586"/>
                  </a:cubicBezTo>
                  <a:cubicBezTo>
                    <a:pt x="347" y="588"/>
                    <a:pt x="319" y="584"/>
                    <a:pt x="309" y="580"/>
                  </a:cubicBezTo>
                  <a:cubicBezTo>
                    <a:pt x="300" y="576"/>
                    <a:pt x="305" y="564"/>
                    <a:pt x="302" y="560"/>
                  </a:cubicBezTo>
                  <a:cubicBezTo>
                    <a:pt x="300" y="556"/>
                    <a:pt x="300" y="554"/>
                    <a:pt x="294" y="555"/>
                  </a:cubicBezTo>
                  <a:cubicBezTo>
                    <a:pt x="288" y="555"/>
                    <a:pt x="274" y="562"/>
                    <a:pt x="267" y="561"/>
                  </a:cubicBezTo>
                  <a:cubicBezTo>
                    <a:pt x="260" y="560"/>
                    <a:pt x="255" y="554"/>
                    <a:pt x="252" y="549"/>
                  </a:cubicBezTo>
                  <a:cubicBezTo>
                    <a:pt x="248" y="544"/>
                    <a:pt x="250" y="537"/>
                    <a:pt x="246" y="533"/>
                  </a:cubicBezTo>
                  <a:cubicBezTo>
                    <a:pt x="241" y="528"/>
                    <a:pt x="229" y="527"/>
                    <a:pt x="224" y="523"/>
                  </a:cubicBezTo>
                  <a:cubicBezTo>
                    <a:pt x="219" y="518"/>
                    <a:pt x="218" y="510"/>
                    <a:pt x="215" y="506"/>
                  </a:cubicBezTo>
                  <a:cubicBezTo>
                    <a:pt x="212" y="502"/>
                    <a:pt x="205" y="499"/>
                    <a:pt x="200" y="501"/>
                  </a:cubicBezTo>
                  <a:cubicBezTo>
                    <a:pt x="195" y="503"/>
                    <a:pt x="192" y="512"/>
                    <a:pt x="185" y="516"/>
                  </a:cubicBezTo>
                  <a:cubicBezTo>
                    <a:pt x="177" y="520"/>
                    <a:pt x="163" y="521"/>
                    <a:pt x="161" y="528"/>
                  </a:cubicBezTo>
                  <a:cubicBezTo>
                    <a:pt x="159" y="534"/>
                    <a:pt x="166" y="543"/>
                    <a:pt x="172" y="553"/>
                  </a:cubicBezTo>
                  <a:cubicBezTo>
                    <a:pt x="177" y="563"/>
                    <a:pt x="184" y="572"/>
                    <a:pt x="188" y="579"/>
                  </a:cubicBezTo>
                  <a:cubicBezTo>
                    <a:pt x="191" y="586"/>
                    <a:pt x="194" y="590"/>
                    <a:pt x="191" y="594"/>
                  </a:cubicBezTo>
                  <a:cubicBezTo>
                    <a:pt x="188" y="598"/>
                    <a:pt x="175" y="601"/>
                    <a:pt x="171" y="606"/>
                  </a:cubicBezTo>
                  <a:cubicBezTo>
                    <a:pt x="166" y="610"/>
                    <a:pt x="163" y="616"/>
                    <a:pt x="159" y="621"/>
                  </a:cubicBezTo>
                  <a:cubicBezTo>
                    <a:pt x="155" y="626"/>
                    <a:pt x="152" y="637"/>
                    <a:pt x="148" y="641"/>
                  </a:cubicBezTo>
                  <a:cubicBezTo>
                    <a:pt x="143" y="646"/>
                    <a:pt x="139" y="647"/>
                    <a:pt x="132" y="646"/>
                  </a:cubicBezTo>
                  <a:cubicBezTo>
                    <a:pt x="125" y="646"/>
                    <a:pt x="114" y="638"/>
                    <a:pt x="105" y="639"/>
                  </a:cubicBezTo>
                  <a:cubicBezTo>
                    <a:pt x="95" y="639"/>
                    <a:pt x="85" y="641"/>
                    <a:pt x="76" y="649"/>
                  </a:cubicBezTo>
                  <a:cubicBezTo>
                    <a:pt x="66" y="657"/>
                    <a:pt x="59" y="670"/>
                    <a:pt x="51" y="684"/>
                  </a:cubicBezTo>
                  <a:cubicBezTo>
                    <a:pt x="43" y="698"/>
                    <a:pt x="36" y="721"/>
                    <a:pt x="28" y="732"/>
                  </a:cubicBezTo>
                  <a:cubicBezTo>
                    <a:pt x="20" y="743"/>
                    <a:pt x="4" y="740"/>
                    <a:pt x="2" y="751"/>
                  </a:cubicBezTo>
                  <a:cubicBezTo>
                    <a:pt x="0" y="762"/>
                    <a:pt x="8" y="786"/>
                    <a:pt x="16" y="798"/>
                  </a:cubicBezTo>
                  <a:cubicBezTo>
                    <a:pt x="24" y="809"/>
                    <a:pt x="44" y="809"/>
                    <a:pt x="50" y="820"/>
                  </a:cubicBezTo>
                  <a:cubicBezTo>
                    <a:pt x="56" y="830"/>
                    <a:pt x="52" y="852"/>
                    <a:pt x="51" y="861"/>
                  </a:cubicBezTo>
                  <a:cubicBezTo>
                    <a:pt x="49" y="871"/>
                    <a:pt x="45" y="869"/>
                    <a:pt x="42" y="875"/>
                  </a:cubicBezTo>
                  <a:cubicBezTo>
                    <a:pt x="39" y="882"/>
                    <a:pt x="36" y="894"/>
                    <a:pt x="32" y="900"/>
                  </a:cubicBezTo>
                  <a:cubicBezTo>
                    <a:pt x="28" y="905"/>
                    <a:pt x="29" y="909"/>
                    <a:pt x="24" y="913"/>
                  </a:cubicBezTo>
                  <a:cubicBezTo>
                    <a:pt x="19" y="917"/>
                    <a:pt x="8" y="923"/>
                    <a:pt x="4" y="929"/>
                  </a:cubicBezTo>
                  <a:cubicBezTo>
                    <a:pt x="0" y="935"/>
                    <a:pt x="6" y="943"/>
                    <a:pt x="6" y="950"/>
                  </a:cubicBezTo>
                  <a:cubicBezTo>
                    <a:pt x="6" y="957"/>
                    <a:pt x="2" y="965"/>
                    <a:pt x="2" y="971"/>
                  </a:cubicBezTo>
                  <a:cubicBezTo>
                    <a:pt x="2" y="978"/>
                    <a:pt x="0" y="984"/>
                    <a:pt x="4" y="989"/>
                  </a:cubicBezTo>
                  <a:cubicBezTo>
                    <a:pt x="8" y="995"/>
                    <a:pt x="17" y="1007"/>
                    <a:pt x="27" y="1006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791"/>
            <p:cNvSpPr/>
            <p:nvPr/>
          </p:nvSpPr>
          <p:spPr>
            <a:xfrm>
              <a:off x="2003040" y="1789920"/>
              <a:ext cx="4484160" cy="2849040"/>
            </a:xfrm>
            <a:custGeom>
              <a:avLst/>
              <a:gdLst/>
              <a:ahLst/>
              <a:rect l="l" t="t" r="r" b="b"/>
              <a:pathLst>
                <a:path w="2666" h="1694">
                  <a:moveTo>
                    <a:pt x="2539" y="0"/>
                  </a:moveTo>
                  <a:cubicBezTo>
                    <a:pt x="2549" y="0"/>
                    <a:pt x="2552" y="16"/>
                    <a:pt x="2567" y="27"/>
                  </a:cubicBezTo>
                  <a:cubicBezTo>
                    <a:pt x="2577" y="33"/>
                    <a:pt x="2583" y="43"/>
                    <a:pt x="2593" y="49"/>
                  </a:cubicBezTo>
                  <a:cubicBezTo>
                    <a:pt x="2604" y="55"/>
                    <a:pt x="2627" y="54"/>
                    <a:pt x="2632" y="61"/>
                  </a:cubicBezTo>
                  <a:cubicBezTo>
                    <a:pt x="2637" y="68"/>
                    <a:pt x="2626" y="80"/>
                    <a:pt x="2623" y="89"/>
                  </a:cubicBezTo>
                  <a:cubicBezTo>
                    <a:pt x="2620" y="99"/>
                    <a:pt x="2616" y="106"/>
                    <a:pt x="2613" y="115"/>
                  </a:cubicBezTo>
                  <a:cubicBezTo>
                    <a:pt x="2610" y="125"/>
                    <a:pt x="2610" y="135"/>
                    <a:pt x="2606" y="147"/>
                  </a:cubicBezTo>
                  <a:cubicBezTo>
                    <a:pt x="2603" y="158"/>
                    <a:pt x="2598" y="172"/>
                    <a:pt x="2595" y="185"/>
                  </a:cubicBezTo>
                  <a:cubicBezTo>
                    <a:pt x="2592" y="199"/>
                    <a:pt x="2590" y="216"/>
                    <a:pt x="2593" y="229"/>
                  </a:cubicBezTo>
                  <a:cubicBezTo>
                    <a:pt x="2595" y="241"/>
                    <a:pt x="2604" y="251"/>
                    <a:pt x="2610" y="261"/>
                  </a:cubicBezTo>
                  <a:cubicBezTo>
                    <a:pt x="2615" y="271"/>
                    <a:pt x="2619" y="278"/>
                    <a:pt x="2623" y="286"/>
                  </a:cubicBezTo>
                  <a:cubicBezTo>
                    <a:pt x="2627" y="294"/>
                    <a:pt x="2632" y="299"/>
                    <a:pt x="2634" y="307"/>
                  </a:cubicBezTo>
                  <a:cubicBezTo>
                    <a:pt x="2636" y="315"/>
                    <a:pt x="2637" y="330"/>
                    <a:pt x="2639" y="339"/>
                  </a:cubicBezTo>
                  <a:cubicBezTo>
                    <a:pt x="2641" y="348"/>
                    <a:pt x="2645" y="342"/>
                    <a:pt x="2647" y="353"/>
                  </a:cubicBezTo>
                  <a:cubicBezTo>
                    <a:pt x="2649" y="364"/>
                    <a:pt x="2647" y="380"/>
                    <a:pt x="2650" y="390"/>
                  </a:cubicBezTo>
                  <a:cubicBezTo>
                    <a:pt x="2652" y="400"/>
                    <a:pt x="2660" y="403"/>
                    <a:pt x="2660" y="414"/>
                  </a:cubicBezTo>
                  <a:cubicBezTo>
                    <a:pt x="2661" y="426"/>
                    <a:pt x="2660" y="431"/>
                    <a:pt x="2658" y="443"/>
                  </a:cubicBezTo>
                  <a:cubicBezTo>
                    <a:pt x="2657" y="454"/>
                    <a:pt x="2664" y="469"/>
                    <a:pt x="2665" y="477"/>
                  </a:cubicBezTo>
                  <a:cubicBezTo>
                    <a:pt x="2666" y="485"/>
                    <a:pt x="2665" y="484"/>
                    <a:pt x="2665" y="489"/>
                  </a:cubicBezTo>
                  <a:cubicBezTo>
                    <a:pt x="2665" y="495"/>
                    <a:pt x="2664" y="504"/>
                    <a:pt x="2663" y="511"/>
                  </a:cubicBezTo>
                  <a:cubicBezTo>
                    <a:pt x="2661" y="519"/>
                    <a:pt x="2658" y="532"/>
                    <a:pt x="2656" y="539"/>
                  </a:cubicBezTo>
                  <a:cubicBezTo>
                    <a:pt x="2653" y="547"/>
                    <a:pt x="2649" y="549"/>
                    <a:pt x="2647" y="556"/>
                  </a:cubicBezTo>
                  <a:cubicBezTo>
                    <a:pt x="2645" y="564"/>
                    <a:pt x="2649" y="575"/>
                    <a:pt x="2644" y="579"/>
                  </a:cubicBezTo>
                  <a:cubicBezTo>
                    <a:pt x="2639" y="582"/>
                    <a:pt x="2625" y="577"/>
                    <a:pt x="2622" y="580"/>
                  </a:cubicBezTo>
                  <a:cubicBezTo>
                    <a:pt x="2618" y="583"/>
                    <a:pt x="2621" y="593"/>
                    <a:pt x="2621" y="598"/>
                  </a:cubicBezTo>
                  <a:cubicBezTo>
                    <a:pt x="2621" y="602"/>
                    <a:pt x="2617" y="609"/>
                    <a:pt x="2616" y="614"/>
                  </a:cubicBezTo>
                  <a:cubicBezTo>
                    <a:pt x="2615" y="618"/>
                    <a:pt x="2617" y="626"/>
                    <a:pt x="2615" y="631"/>
                  </a:cubicBezTo>
                  <a:cubicBezTo>
                    <a:pt x="2613" y="635"/>
                    <a:pt x="2607" y="632"/>
                    <a:pt x="2604" y="634"/>
                  </a:cubicBezTo>
                  <a:cubicBezTo>
                    <a:pt x="2600" y="636"/>
                    <a:pt x="2601" y="641"/>
                    <a:pt x="2596" y="646"/>
                  </a:cubicBezTo>
                  <a:cubicBezTo>
                    <a:pt x="2591" y="651"/>
                    <a:pt x="2589" y="650"/>
                    <a:pt x="2585" y="653"/>
                  </a:cubicBezTo>
                  <a:cubicBezTo>
                    <a:pt x="2580" y="657"/>
                    <a:pt x="2583" y="665"/>
                    <a:pt x="2579" y="669"/>
                  </a:cubicBezTo>
                  <a:cubicBezTo>
                    <a:pt x="2576" y="673"/>
                    <a:pt x="2551" y="658"/>
                    <a:pt x="2544" y="663"/>
                  </a:cubicBezTo>
                  <a:cubicBezTo>
                    <a:pt x="2538" y="668"/>
                    <a:pt x="2547" y="685"/>
                    <a:pt x="2547" y="692"/>
                  </a:cubicBezTo>
                  <a:cubicBezTo>
                    <a:pt x="2546" y="699"/>
                    <a:pt x="2546" y="705"/>
                    <a:pt x="2540" y="707"/>
                  </a:cubicBezTo>
                  <a:cubicBezTo>
                    <a:pt x="2534" y="710"/>
                    <a:pt x="2520" y="706"/>
                    <a:pt x="2515" y="708"/>
                  </a:cubicBezTo>
                  <a:cubicBezTo>
                    <a:pt x="2509" y="710"/>
                    <a:pt x="2505" y="689"/>
                    <a:pt x="2502" y="692"/>
                  </a:cubicBezTo>
                  <a:cubicBezTo>
                    <a:pt x="2498" y="696"/>
                    <a:pt x="2498" y="715"/>
                    <a:pt x="2495" y="726"/>
                  </a:cubicBezTo>
                  <a:cubicBezTo>
                    <a:pt x="2492" y="736"/>
                    <a:pt x="2485" y="737"/>
                    <a:pt x="2481" y="742"/>
                  </a:cubicBezTo>
                  <a:cubicBezTo>
                    <a:pt x="2478" y="747"/>
                    <a:pt x="2478" y="755"/>
                    <a:pt x="2475" y="760"/>
                  </a:cubicBezTo>
                  <a:cubicBezTo>
                    <a:pt x="2473" y="764"/>
                    <a:pt x="2464" y="766"/>
                    <a:pt x="2465" y="770"/>
                  </a:cubicBezTo>
                  <a:cubicBezTo>
                    <a:pt x="2466" y="775"/>
                    <a:pt x="2478" y="778"/>
                    <a:pt x="2479" y="785"/>
                  </a:cubicBezTo>
                  <a:cubicBezTo>
                    <a:pt x="2480" y="791"/>
                    <a:pt x="2472" y="793"/>
                    <a:pt x="2470" y="799"/>
                  </a:cubicBezTo>
                  <a:cubicBezTo>
                    <a:pt x="2467" y="806"/>
                    <a:pt x="2472" y="827"/>
                    <a:pt x="2470" y="835"/>
                  </a:cubicBezTo>
                  <a:cubicBezTo>
                    <a:pt x="2467" y="842"/>
                    <a:pt x="2457" y="845"/>
                    <a:pt x="2453" y="844"/>
                  </a:cubicBezTo>
                  <a:cubicBezTo>
                    <a:pt x="2449" y="843"/>
                    <a:pt x="2448" y="832"/>
                    <a:pt x="2444" y="826"/>
                  </a:cubicBezTo>
                  <a:cubicBezTo>
                    <a:pt x="2441" y="820"/>
                    <a:pt x="2435" y="813"/>
                    <a:pt x="2429" y="808"/>
                  </a:cubicBezTo>
                  <a:cubicBezTo>
                    <a:pt x="2424" y="804"/>
                    <a:pt x="2424" y="801"/>
                    <a:pt x="2420" y="798"/>
                  </a:cubicBezTo>
                  <a:cubicBezTo>
                    <a:pt x="2415" y="796"/>
                    <a:pt x="2389" y="806"/>
                    <a:pt x="2383" y="804"/>
                  </a:cubicBezTo>
                  <a:cubicBezTo>
                    <a:pt x="2378" y="803"/>
                    <a:pt x="2392" y="788"/>
                    <a:pt x="2386" y="790"/>
                  </a:cubicBezTo>
                  <a:cubicBezTo>
                    <a:pt x="2380" y="792"/>
                    <a:pt x="2370" y="799"/>
                    <a:pt x="2366" y="805"/>
                  </a:cubicBezTo>
                  <a:cubicBezTo>
                    <a:pt x="2362" y="812"/>
                    <a:pt x="2365" y="816"/>
                    <a:pt x="2361" y="827"/>
                  </a:cubicBezTo>
                  <a:cubicBezTo>
                    <a:pt x="2358" y="839"/>
                    <a:pt x="2334" y="840"/>
                    <a:pt x="2327" y="856"/>
                  </a:cubicBezTo>
                  <a:cubicBezTo>
                    <a:pt x="2322" y="872"/>
                    <a:pt x="2327" y="909"/>
                    <a:pt x="2325" y="926"/>
                  </a:cubicBezTo>
                  <a:cubicBezTo>
                    <a:pt x="2324" y="943"/>
                    <a:pt x="2317" y="955"/>
                    <a:pt x="2316" y="965"/>
                  </a:cubicBezTo>
                  <a:cubicBezTo>
                    <a:pt x="2316" y="976"/>
                    <a:pt x="2322" y="980"/>
                    <a:pt x="2322" y="988"/>
                  </a:cubicBezTo>
                  <a:cubicBezTo>
                    <a:pt x="2321" y="997"/>
                    <a:pt x="2318" y="1007"/>
                    <a:pt x="2313" y="1018"/>
                  </a:cubicBezTo>
                  <a:cubicBezTo>
                    <a:pt x="2309" y="1029"/>
                    <a:pt x="2303" y="1042"/>
                    <a:pt x="2294" y="1055"/>
                  </a:cubicBezTo>
                  <a:cubicBezTo>
                    <a:pt x="2286" y="1069"/>
                    <a:pt x="2287" y="1096"/>
                    <a:pt x="2278" y="1109"/>
                  </a:cubicBezTo>
                  <a:cubicBezTo>
                    <a:pt x="2269" y="1123"/>
                    <a:pt x="2254" y="1142"/>
                    <a:pt x="2242" y="1153"/>
                  </a:cubicBezTo>
                  <a:cubicBezTo>
                    <a:pt x="2229" y="1163"/>
                    <a:pt x="2216" y="1157"/>
                    <a:pt x="2203" y="1173"/>
                  </a:cubicBezTo>
                  <a:cubicBezTo>
                    <a:pt x="2190" y="1189"/>
                    <a:pt x="2172" y="1231"/>
                    <a:pt x="2164" y="1247"/>
                  </a:cubicBezTo>
                  <a:cubicBezTo>
                    <a:pt x="2155" y="1263"/>
                    <a:pt x="2157" y="1264"/>
                    <a:pt x="2152" y="1273"/>
                  </a:cubicBezTo>
                  <a:cubicBezTo>
                    <a:pt x="2148" y="1283"/>
                    <a:pt x="2138" y="1289"/>
                    <a:pt x="2137" y="1304"/>
                  </a:cubicBezTo>
                  <a:cubicBezTo>
                    <a:pt x="2137" y="1319"/>
                    <a:pt x="2147" y="1348"/>
                    <a:pt x="2152" y="1364"/>
                  </a:cubicBezTo>
                  <a:cubicBezTo>
                    <a:pt x="2156" y="1380"/>
                    <a:pt x="2159" y="1390"/>
                    <a:pt x="2163" y="1400"/>
                  </a:cubicBezTo>
                  <a:cubicBezTo>
                    <a:pt x="2167" y="1411"/>
                    <a:pt x="2175" y="1419"/>
                    <a:pt x="2177" y="1424"/>
                  </a:cubicBezTo>
                  <a:cubicBezTo>
                    <a:pt x="2178" y="1429"/>
                    <a:pt x="2173" y="1429"/>
                    <a:pt x="2170" y="1432"/>
                  </a:cubicBezTo>
                  <a:cubicBezTo>
                    <a:pt x="2167" y="1435"/>
                    <a:pt x="2170" y="1439"/>
                    <a:pt x="2164" y="1440"/>
                  </a:cubicBezTo>
                  <a:cubicBezTo>
                    <a:pt x="2157" y="1440"/>
                    <a:pt x="2142" y="1435"/>
                    <a:pt x="2130" y="1435"/>
                  </a:cubicBezTo>
                  <a:cubicBezTo>
                    <a:pt x="2118" y="1436"/>
                    <a:pt x="2111" y="1443"/>
                    <a:pt x="2098" y="1455"/>
                  </a:cubicBezTo>
                  <a:cubicBezTo>
                    <a:pt x="2084" y="1467"/>
                    <a:pt x="2059" y="1491"/>
                    <a:pt x="2049" y="1508"/>
                  </a:cubicBezTo>
                  <a:cubicBezTo>
                    <a:pt x="2039" y="1525"/>
                    <a:pt x="2046" y="1534"/>
                    <a:pt x="2041" y="1542"/>
                  </a:cubicBezTo>
                  <a:cubicBezTo>
                    <a:pt x="2036" y="1550"/>
                    <a:pt x="2030" y="1553"/>
                    <a:pt x="2021" y="1556"/>
                  </a:cubicBezTo>
                  <a:cubicBezTo>
                    <a:pt x="2012" y="1559"/>
                    <a:pt x="1994" y="1561"/>
                    <a:pt x="1985" y="1563"/>
                  </a:cubicBezTo>
                  <a:cubicBezTo>
                    <a:pt x="1976" y="1565"/>
                    <a:pt x="1975" y="1569"/>
                    <a:pt x="1969" y="1571"/>
                  </a:cubicBezTo>
                  <a:cubicBezTo>
                    <a:pt x="1962" y="1573"/>
                    <a:pt x="1953" y="1573"/>
                    <a:pt x="1946" y="1576"/>
                  </a:cubicBezTo>
                  <a:cubicBezTo>
                    <a:pt x="1938" y="1579"/>
                    <a:pt x="1927" y="1587"/>
                    <a:pt x="1916" y="1584"/>
                  </a:cubicBezTo>
                  <a:cubicBezTo>
                    <a:pt x="1905" y="1581"/>
                    <a:pt x="1905" y="1568"/>
                    <a:pt x="1905" y="1556"/>
                  </a:cubicBezTo>
                  <a:cubicBezTo>
                    <a:pt x="1905" y="1544"/>
                    <a:pt x="1915" y="1526"/>
                    <a:pt x="1916" y="1514"/>
                  </a:cubicBezTo>
                  <a:cubicBezTo>
                    <a:pt x="1918" y="1502"/>
                    <a:pt x="1911" y="1492"/>
                    <a:pt x="1914" y="1486"/>
                  </a:cubicBezTo>
                  <a:cubicBezTo>
                    <a:pt x="1918" y="1480"/>
                    <a:pt x="1930" y="1482"/>
                    <a:pt x="1938" y="1477"/>
                  </a:cubicBezTo>
                  <a:cubicBezTo>
                    <a:pt x="1946" y="1473"/>
                    <a:pt x="1945" y="1469"/>
                    <a:pt x="1950" y="1464"/>
                  </a:cubicBezTo>
                  <a:cubicBezTo>
                    <a:pt x="1955" y="1459"/>
                    <a:pt x="1963" y="1464"/>
                    <a:pt x="1969" y="1460"/>
                  </a:cubicBezTo>
                  <a:cubicBezTo>
                    <a:pt x="1976" y="1457"/>
                    <a:pt x="1981" y="1448"/>
                    <a:pt x="1987" y="1440"/>
                  </a:cubicBezTo>
                  <a:cubicBezTo>
                    <a:pt x="1993" y="1431"/>
                    <a:pt x="2008" y="1419"/>
                    <a:pt x="2005" y="1413"/>
                  </a:cubicBezTo>
                  <a:cubicBezTo>
                    <a:pt x="2003" y="1408"/>
                    <a:pt x="1981" y="1408"/>
                    <a:pt x="1972" y="1407"/>
                  </a:cubicBezTo>
                  <a:cubicBezTo>
                    <a:pt x="1962" y="1405"/>
                    <a:pt x="1955" y="1405"/>
                    <a:pt x="1947" y="1406"/>
                  </a:cubicBezTo>
                  <a:cubicBezTo>
                    <a:pt x="1938" y="1406"/>
                    <a:pt x="1926" y="1402"/>
                    <a:pt x="1919" y="1409"/>
                  </a:cubicBezTo>
                  <a:cubicBezTo>
                    <a:pt x="1912" y="1415"/>
                    <a:pt x="1913" y="1434"/>
                    <a:pt x="1906" y="1445"/>
                  </a:cubicBezTo>
                  <a:cubicBezTo>
                    <a:pt x="1900" y="1456"/>
                    <a:pt x="1890" y="1454"/>
                    <a:pt x="1887" y="1459"/>
                  </a:cubicBezTo>
                  <a:cubicBezTo>
                    <a:pt x="1883" y="1463"/>
                    <a:pt x="1888" y="1464"/>
                    <a:pt x="1888" y="1468"/>
                  </a:cubicBezTo>
                  <a:cubicBezTo>
                    <a:pt x="1888" y="1472"/>
                    <a:pt x="1885" y="1478"/>
                    <a:pt x="1886" y="1484"/>
                  </a:cubicBezTo>
                  <a:cubicBezTo>
                    <a:pt x="1886" y="1489"/>
                    <a:pt x="1887" y="1498"/>
                    <a:pt x="1888" y="1503"/>
                  </a:cubicBezTo>
                  <a:cubicBezTo>
                    <a:pt x="1888" y="1507"/>
                    <a:pt x="1888" y="1510"/>
                    <a:pt x="1886" y="1512"/>
                  </a:cubicBezTo>
                  <a:cubicBezTo>
                    <a:pt x="1884" y="1514"/>
                    <a:pt x="1881" y="1519"/>
                    <a:pt x="1877" y="1517"/>
                  </a:cubicBezTo>
                  <a:cubicBezTo>
                    <a:pt x="1874" y="1515"/>
                    <a:pt x="1874" y="1506"/>
                    <a:pt x="1864" y="1499"/>
                  </a:cubicBezTo>
                  <a:cubicBezTo>
                    <a:pt x="1854" y="1492"/>
                    <a:pt x="1840" y="1474"/>
                    <a:pt x="1827" y="1470"/>
                  </a:cubicBezTo>
                  <a:cubicBezTo>
                    <a:pt x="1813" y="1467"/>
                    <a:pt x="1790" y="1476"/>
                    <a:pt x="1781" y="1480"/>
                  </a:cubicBezTo>
                  <a:cubicBezTo>
                    <a:pt x="1771" y="1484"/>
                    <a:pt x="1775" y="1489"/>
                    <a:pt x="1769" y="1497"/>
                  </a:cubicBezTo>
                  <a:cubicBezTo>
                    <a:pt x="1763" y="1505"/>
                    <a:pt x="1760" y="1504"/>
                    <a:pt x="1753" y="1510"/>
                  </a:cubicBezTo>
                  <a:cubicBezTo>
                    <a:pt x="1746" y="1517"/>
                    <a:pt x="1746" y="1550"/>
                    <a:pt x="1738" y="1564"/>
                  </a:cubicBezTo>
                  <a:cubicBezTo>
                    <a:pt x="1731" y="1577"/>
                    <a:pt x="1703" y="1582"/>
                    <a:pt x="1694" y="1589"/>
                  </a:cubicBezTo>
                  <a:cubicBezTo>
                    <a:pt x="1685" y="1596"/>
                    <a:pt x="1693" y="1605"/>
                    <a:pt x="1685" y="1605"/>
                  </a:cubicBezTo>
                  <a:cubicBezTo>
                    <a:pt x="1676" y="1606"/>
                    <a:pt x="1659" y="1599"/>
                    <a:pt x="1655" y="1593"/>
                  </a:cubicBezTo>
                  <a:cubicBezTo>
                    <a:pt x="1652" y="1586"/>
                    <a:pt x="1659" y="1575"/>
                    <a:pt x="1663" y="1567"/>
                  </a:cubicBezTo>
                  <a:cubicBezTo>
                    <a:pt x="1667" y="1558"/>
                    <a:pt x="1666" y="1537"/>
                    <a:pt x="1669" y="1528"/>
                  </a:cubicBezTo>
                  <a:cubicBezTo>
                    <a:pt x="1672" y="1519"/>
                    <a:pt x="1681" y="1523"/>
                    <a:pt x="1687" y="1519"/>
                  </a:cubicBezTo>
                  <a:cubicBezTo>
                    <a:pt x="1692" y="1514"/>
                    <a:pt x="1687" y="1510"/>
                    <a:pt x="1692" y="1503"/>
                  </a:cubicBezTo>
                  <a:cubicBezTo>
                    <a:pt x="1696" y="1496"/>
                    <a:pt x="1705" y="1497"/>
                    <a:pt x="1704" y="1493"/>
                  </a:cubicBezTo>
                  <a:cubicBezTo>
                    <a:pt x="1704" y="1489"/>
                    <a:pt x="1693" y="1484"/>
                    <a:pt x="1689" y="1479"/>
                  </a:cubicBezTo>
                  <a:cubicBezTo>
                    <a:pt x="1685" y="1474"/>
                    <a:pt x="1683" y="1467"/>
                    <a:pt x="1677" y="1465"/>
                  </a:cubicBezTo>
                  <a:cubicBezTo>
                    <a:pt x="1671" y="1462"/>
                    <a:pt x="1659" y="1461"/>
                    <a:pt x="1652" y="1463"/>
                  </a:cubicBezTo>
                  <a:cubicBezTo>
                    <a:pt x="1645" y="1466"/>
                    <a:pt x="1638" y="1471"/>
                    <a:pt x="1634" y="1477"/>
                  </a:cubicBezTo>
                  <a:cubicBezTo>
                    <a:pt x="1629" y="1484"/>
                    <a:pt x="1627" y="1496"/>
                    <a:pt x="1623" y="1502"/>
                  </a:cubicBezTo>
                  <a:cubicBezTo>
                    <a:pt x="1619" y="1508"/>
                    <a:pt x="1615" y="1505"/>
                    <a:pt x="1607" y="1509"/>
                  </a:cubicBezTo>
                  <a:cubicBezTo>
                    <a:pt x="1600" y="1513"/>
                    <a:pt x="1586" y="1521"/>
                    <a:pt x="1573" y="1531"/>
                  </a:cubicBezTo>
                  <a:cubicBezTo>
                    <a:pt x="1560" y="1541"/>
                    <a:pt x="1546" y="1562"/>
                    <a:pt x="1537" y="1568"/>
                  </a:cubicBezTo>
                  <a:cubicBezTo>
                    <a:pt x="1529" y="1575"/>
                    <a:pt x="1527" y="1572"/>
                    <a:pt x="1524" y="1567"/>
                  </a:cubicBezTo>
                  <a:cubicBezTo>
                    <a:pt x="1519" y="1565"/>
                    <a:pt x="1515" y="1558"/>
                    <a:pt x="1509" y="1554"/>
                  </a:cubicBezTo>
                  <a:cubicBezTo>
                    <a:pt x="1504" y="1550"/>
                    <a:pt x="1495" y="1548"/>
                    <a:pt x="1490" y="1544"/>
                  </a:cubicBezTo>
                  <a:cubicBezTo>
                    <a:pt x="1484" y="1540"/>
                    <a:pt x="1484" y="1534"/>
                    <a:pt x="1475" y="1531"/>
                  </a:cubicBezTo>
                  <a:cubicBezTo>
                    <a:pt x="1467" y="1528"/>
                    <a:pt x="1445" y="1527"/>
                    <a:pt x="1440" y="1523"/>
                  </a:cubicBezTo>
                  <a:cubicBezTo>
                    <a:pt x="1436" y="1519"/>
                    <a:pt x="1443" y="1516"/>
                    <a:pt x="1437" y="1513"/>
                  </a:cubicBezTo>
                  <a:cubicBezTo>
                    <a:pt x="1432" y="1510"/>
                    <a:pt x="1426" y="1505"/>
                    <a:pt x="1421" y="1506"/>
                  </a:cubicBezTo>
                  <a:cubicBezTo>
                    <a:pt x="1417" y="1507"/>
                    <a:pt x="1416" y="1516"/>
                    <a:pt x="1411" y="1517"/>
                  </a:cubicBezTo>
                  <a:cubicBezTo>
                    <a:pt x="1405" y="1519"/>
                    <a:pt x="1397" y="1515"/>
                    <a:pt x="1389" y="1514"/>
                  </a:cubicBezTo>
                  <a:cubicBezTo>
                    <a:pt x="1381" y="1512"/>
                    <a:pt x="1373" y="1524"/>
                    <a:pt x="1363" y="1524"/>
                  </a:cubicBezTo>
                  <a:cubicBezTo>
                    <a:pt x="1352" y="1525"/>
                    <a:pt x="1347" y="1517"/>
                    <a:pt x="1335" y="1513"/>
                  </a:cubicBezTo>
                  <a:cubicBezTo>
                    <a:pt x="1323" y="1509"/>
                    <a:pt x="1305" y="1512"/>
                    <a:pt x="1302" y="1509"/>
                  </a:cubicBezTo>
                  <a:cubicBezTo>
                    <a:pt x="1299" y="1505"/>
                    <a:pt x="1315" y="1496"/>
                    <a:pt x="1319" y="1493"/>
                  </a:cubicBezTo>
                  <a:cubicBezTo>
                    <a:pt x="1323" y="1490"/>
                    <a:pt x="1324" y="1491"/>
                    <a:pt x="1328" y="1491"/>
                  </a:cubicBezTo>
                  <a:cubicBezTo>
                    <a:pt x="1331" y="1492"/>
                    <a:pt x="1334" y="1496"/>
                    <a:pt x="1339" y="1497"/>
                  </a:cubicBezTo>
                  <a:cubicBezTo>
                    <a:pt x="1344" y="1498"/>
                    <a:pt x="1353" y="1501"/>
                    <a:pt x="1356" y="1498"/>
                  </a:cubicBezTo>
                  <a:cubicBezTo>
                    <a:pt x="1358" y="1494"/>
                    <a:pt x="1359" y="1482"/>
                    <a:pt x="1354" y="1476"/>
                  </a:cubicBezTo>
                  <a:cubicBezTo>
                    <a:pt x="1349" y="1471"/>
                    <a:pt x="1326" y="1477"/>
                    <a:pt x="1319" y="1474"/>
                  </a:cubicBezTo>
                  <a:cubicBezTo>
                    <a:pt x="1311" y="1470"/>
                    <a:pt x="1309" y="1464"/>
                    <a:pt x="1307" y="1455"/>
                  </a:cubicBezTo>
                  <a:cubicBezTo>
                    <a:pt x="1304" y="1446"/>
                    <a:pt x="1306" y="1426"/>
                    <a:pt x="1304" y="1422"/>
                  </a:cubicBezTo>
                  <a:cubicBezTo>
                    <a:pt x="1302" y="1419"/>
                    <a:pt x="1299" y="1428"/>
                    <a:pt x="1295" y="1435"/>
                  </a:cubicBezTo>
                  <a:cubicBezTo>
                    <a:pt x="1292" y="1443"/>
                    <a:pt x="1286" y="1469"/>
                    <a:pt x="1281" y="1469"/>
                  </a:cubicBezTo>
                  <a:cubicBezTo>
                    <a:pt x="1277" y="1469"/>
                    <a:pt x="1269" y="1449"/>
                    <a:pt x="1268" y="1436"/>
                  </a:cubicBezTo>
                  <a:cubicBezTo>
                    <a:pt x="1267" y="1423"/>
                    <a:pt x="1280" y="1396"/>
                    <a:pt x="1277" y="1390"/>
                  </a:cubicBezTo>
                  <a:cubicBezTo>
                    <a:pt x="1274" y="1383"/>
                    <a:pt x="1261" y="1393"/>
                    <a:pt x="1249" y="1396"/>
                  </a:cubicBezTo>
                  <a:cubicBezTo>
                    <a:pt x="1238" y="1400"/>
                    <a:pt x="1225" y="1398"/>
                    <a:pt x="1218" y="1403"/>
                  </a:cubicBezTo>
                  <a:cubicBezTo>
                    <a:pt x="1211" y="1407"/>
                    <a:pt x="1213" y="1413"/>
                    <a:pt x="1206" y="1422"/>
                  </a:cubicBezTo>
                  <a:cubicBezTo>
                    <a:pt x="1200" y="1432"/>
                    <a:pt x="1189" y="1443"/>
                    <a:pt x="1188" y="1453"/>
                  </a:cubicBezTo>
                  <a:cubicBezTo>
                    <a:pt x="1188" y="1463"/>
                    <a:pt x="1195" y="1470"/>
                    <a:pt x="1203" y="1482"/>
                  </a:cubicBezTo>
                  <a:cubicBezTo>
                    <a:pt x="1212" y="1494"/>
                    <a:pt x="1231" y="1505"/>
                    <a:pt x="1240" y="1514"/>
                  </a:cubicBezTo>
                  <a:cubicBezTo>
                    <a:pt x="1248" y="1522"/>
                    <a:pt x="1253" y="1528"/>
                    <a:pt x="1253" y="1533"/>
                  </a:cubicBezTo>
                  <a:cubicBezTo>
                    <a:pt x="1254" y="1538"/>
                    <a:pt x="1246" y="1536"/>
                    <a:pt x="1244" y="1543"/>
                  </a:cubicBezTo>
                  <a:cubicBezTo>
                    <a:pt x="1242" y="1550"/>
                    <a:pt x="1241" y="1561"/>
                    <a:pt x="1236" y="1563"/>
                  </a:cubicBezTo>
                  <a:cubicBezTo>
                    <a:pt x="1231" y="1565"/>
                    <a:pt x="1219" y="1560"/>
                    <a:pt x="1212" y="1557"/>
                  </a:cubicBezTo>
                  <a:cubicBezTo>
                    <a:pt x="1204" y="1555"/>
                    <a:pt x="1204" y="1547"/>
                    <a:pt x="1193" y="1547"/>
                  </a:cubicBezTo>
                  <a:cubicBezTo>
                    <a:pt x="1181" y="1547"/>
                    <a:pt x="1154" y="1558"/>
                    <a:pt x="1142" y="1560"/>
                  </a:cubicBezTo>
                  <a:cubicBezTo>
                    <a:pt x="1129" y="1562"/>
                    <a:pt x="1124" y="1560"/>
                    <a:pt x="1117" y="1558"/>
                  </a:cubicBezTo>
                  <a:cubicBezTo>
                    <a:pt x="1110" y="1557"/>
                    <a:pt x="1105" y="1552"/>
                    <a:pt x="1101" y="1553"/>
                  </a:cubicBezTo>
                  <a:cubicBezTo>
                    <a:pt x="1097" y="1554"/>
                    <a:pt x="1094" y="1559"/>
                    <a:pt x="1092" y="1566"/>
                  </a:cubicBezTo>
                  <a:cubicBezTo>
                    <a:pt x="1090" y="1574"/>
                    <a:pt x="1082" y="1569"/>
                    <a:pt x="1079" y="1575"/>
                  </a:cubicBezTo>
                  <a:cubicBezTo>
                    <a:pt x="1077" y="1581"/>
                    <a:pt x="1079" y="1598"/>
                    <a:pt x="1076" y="1605"/>
                  </a:cubicBezTo>
                  <a:cubicBezTo>
                    <a:pt x="1074" y="1611"/>
                    <a:pt x="1062" y="1611"/>
                    <a:pt x="1058" y="1614"/>
                  </a:cubicBezTo>
                  <a:cubicBezTo>
                    <a:pt x="1054" y="1616"/>
                    <a:pt x="1057" y="1618"/>
                    <a:pt x="1052" y="1620"/>
                  </a:cubicBezTo>
                  <a:cubicBezTo>
                    <a:pt x="1047" y="1622"/>
                    <a:pt x="1039" y="1622"/>
                    <a:pt x="1034" y="1627"/>
                  </a:cubicBezTo>
                  <a:cubicBezTo>
                    <a:pt x="1029" y="1632"/>
                    <a:pt x="1024" y="1643"/>
                    <a:pt x="1020" y="1650"/>
                  </a:cubicBezTo>
                  <a:cubicBezTo>
                    <a:pt x="1016" y="1658"/>
                    <a:pt x="1015" y="1666"/>
                    <a:pt x="1010" y="1671"/>
                  </a:cubicBezTo>
                  <a:cubicBezTo>
                    <a:pt x="1004" y="1675"/>
                    <a:pt x="1001" y="1675"/>
                    <a:pt x="989" y="1678"/>
                  </a:cubicBezTo>
                  <a:cubicBezTo>
                    <a:pt x="976" y="1682"/>
                    <a:pt x="949" y="1694"/>
                    <a:pt x="935" y="1692"/>
                  </a:cubicBezTo>
                  <a:cubicBezTo>
                    <a:pt x="921" y="1689"/>
                    <a:pt x="915" y="1673"/>
                    <a:pt x="905" y="1664"/>
                  </a:cubicBezTo>
                  <a:cubicBezTo>
                    <a:pt x="895" y="1654"/>
                    <a:pt x="880" y="1645"/>
                    <a:pt x="877" y="1636"/>
                  </a:cubicBezTo>
                  <a:cubicBezTo>
                    <a:pt x="873" y="1627"/>
                    <a:pt x="885" y="1617"/>
                    <a:pt x="882" y="1610"/>
                  </a:cubicBezTo>
                  <a:cubicBezTo>
                    <a:pt x="879" y="1603"/>
                    <a:pt x="865" y="1603"/>
                    <a:pt x="858" y="1593"/>
                  </a:cubicBezTo>
                  <a:cubicBezTo>
                    <a:pt x="852" y="1584"/>
                    <a:pt x="845" y="1561"/>
                    <a:pt x="845" y="1549"/>
                  </a:cubicBezTo>
                  <a:cubicBezTo>
                    <a:pt x="844" y="1538"/>
                    <a:pt x="855" y="1532"/>
                    <a:pt x="858" y="1526"/>
                  </a:cubicBezTo>
                  <a:cubicBezTo>
                    <a:pt x="860" y="1519"/>
                    <a:pt x="856" y="1513"/>
                    <a:pt x="858" y="1509"/>
                  </a:cubicBezTo>
                  <a:cubicBezTo>
                    <a:pt x="861" y="1505"/>
                    <a:pt x="869" y="1507"/>
                    <a:pt x="873" y="1500"/>
                  </a:cubicBezTo>
                  <a:cubicBezTo>
                    <a:pt x="878" y="1492"/>
                    <a:pt x="870" y="1475"/>
                    <a:pt x="870" y="1466"/>
                  </a:cubicBezTo>
                  <a:cubicBezTo>
                    <a:pt x="869" y="1458"/>
                    <a:pt x="864" y="1452"/>
                    <a:pt x="870" y="1449"/>
                  </a:cubicBezTo>
                  <a:cubicBezTo>
                    <a:pt x="875" y="1446"/>
                    <a:pt x="891" y="1452"/>
                    <a:pt x="901" y="1449"/>
                  </a:cubicBezTo>
                  <a:cubicBezTo>
                    <a:pt x="911" y="1446"/>
                    <a:pt x="921" y="1440"/>
                    <a:pt x="930" y="1434"/>
                  </a:cubicBezTo>
                  <a:cubicBezTo>
                    <a:pt x="939" y="1427"/>
                    <a:pt x="938" y="1411"/>
                    <a:pt x="944" y="1403"/>
                  </a:cubicBezTo>
                  <a:cubicBezTo>
                    <a:pt x="950" y="1396"/>
                    <a:pt x="965" y="1393"/>
                    <a:pt x="966" y="1388"/>
                  </a:cubicBezTo>
                  <a:cubicBezTo>
                    <a:pt x="967" y="1383"/>
                    <a:pt x="955" y="1378"/>
                    <a:pt x="950" y="1376"/>
                  </a:cubicBezTo>
                  <a:cubicBezTo>
                    <a:pt x="944" y="1373"/>
                    <a:pt x="943" y="1370"/>
                    <a:pt x="938" y="1369"/>
                  </a:cubicBezTo>
                  <a:cubicBezTo>
                    <a:pt x="934" y="1369"/>
                    <a:pt x="932" y="1373"/>
                    <a:pt x="924" y="1374"/>
                  </a:cubicBezTo>
                  <a:cubicBezTo>
                    <a:pt x="915" y="1374"/>
                    <a:pt x="899" y="1377"/>
                    <a:pt x="889" y="1371"/>
                  </a:cubicBezTo>
                  <a:cubicBezTo>
                    <a:pt x="878" y="1365"/>
                    <a:pt x="869" y="1347"/>
                    <a:pt x="860" y="1338"/>
                  </a:cubicBezTo>
                  <a:cubicBezTo>
                    <a:pt x="851" y="1329"/>
                    <a:pt x="840" y="1325"/>
                    <a:pt x="830" y="1318"/>
                  </a:cubicBezTo>
                  <a:cubicBezTo>
                    <a:pt x="819" y="1311"/>
                    <a:pt x="809" y="1300"/>
                    <a:pt x="799" y="1296"/>
                  </a:cubicBezTo>
                  <a:cubicBezTo>
                    <a:pt x="788" y="1292"/>
                    <a:pt x="778" y="1296"/>
                    <a:pt x="766" y="1295"/>
                  </a:cubicBezTo>
                  <a:cubicBezTo>
                    <a:pt x="754" y="1294"/>
                    <a:pt x="736" y="1289"/>
                    <a:pt x="726" y="1291"/>
                  </a:cubicBezTo>
                  <a:cubicBezTo>
                    <a:pt x="716" y="1292"/>
                    <a:pt x="713" y="1297"/>
                    <a:pt x="707" y="1302"/>
                  </a:cubicBezTo>
                  <a:cubicBezTo>
                    <a:pt x="700" y="1306"/>
                    <a:pt x="697" y="1311"/>
                    <a:pt x="691" y="1314"/>
                  </a:cubicBezTo>
                  <a:cubicBezTo>
                    <a:pt x="686" y="1318"/>
                    <a:pt x="678" y="1322"/>
                    <a:pt x="672" y="1323"/>
                  </a:cubicBezTo>
                  <a:cubicBezTo>
                    <a:pt x="666" y="1323"/>
                    <a:pt x="657" y="1320"/>
                    <a:pt x="648" y="1321"/>
                  </a:cubicBezTo>
                  <a:cubicBezTo>
                    <a:pt x="640" y="1322"/>
                    <a:pt x="624" y="1330"/>
                    <a:pt x="619" y="1326"/>
                  </a:cubicBezTo>
                  <a:cubicBezTo>
                    <a:pt x="615" y="1323"/>
                    <a:pt x="625" y="1306"/>
                    <a:pt x="622" y="1302"/>
                  </a:cubicBezTo>
                  <a:cubicBezTo>
                    <a:pt x="619" y="1298"/>
                    <a:pt x="607" y="1301"/>
                    <a:pt x="600" y="1302"/>
                  </a:cubicBezTo>
                  <a:cubicBezTo>
                    <a:pt x="594" y="1304"/>
                    <a:pt x="589" y="1310"/>
                    <a:pt x="581" y="1309"/>
                  </a:cubicBezTo>
                  <a:cubicBezTo>
                    <a:pt x="573" y="1308"/>
                    <a:pt x="561" y="1300"/>
                    <a:pt x="554" y="1298"/>
                  </a:cubicBezTo>
                  <a:cubicBezTo>
                    <a:pt x="547" y="1297"/>
                    <a:pt x="546" y="1302"/>
                    <a:pt x="541" y="1303"/>
                  </a:cubicBezTo>
                  <a:cubicBezTo>
                    <a:pt x="536" y="1304"/>
                    <a:pt x="529" y="1303"/>
                    <a:pt x="522" y="1305"/>
                  </a:cubicBezTo>
                  <a:cubicBezTo>
                    <a:pt x="516" y="1307"/>
                    <a:pt x="512" y="1312"/>
                    <a:pt x="504" y="1311"/>
                  </a:cubicBezTo>
                  <a:cubicBezTo>
                    <a:pt x="495" y="1310"/>
                    <a:pt x="482" y="1302"/>
                    <a:pt x="471" y="1299"/>
                  </a:cubicBezTo>
                  <a:cubicBezTo>
                    <a:pt x="461" y="1296"/>
                    <a:pt x="449" y="1294"/>
                    <a:pt x="439" y="1294"/>
                  </a:cubicBezTo>
                  <a:cubicBezTo>
                    <a:pt x="430" y="1293"/>
                    <a:pt x="417" y="1298"/>
                    <a:pt x="409" y="1298"/>
                  </a:cubicBezTo>
                  <a:cubicBezTo>
                    <a:pt x="401" y="1299"/>
                    <a:pt x="403" y="1295"/>
                    <a:pt x="391" y="1296"/>
                  </a:cubicBezTo>
                  <a:cubicBezTo>
                    <a:pt x="378" y="1297"/>
                    <a:pt x="343" y="1300"/>
                    <a:pt x="334" y="1297"/>
                  </a:cubicBezTo>
                  <a:cubicBezTo>
                    <a:pt x="325" y="1294"/>
                    <a:pt x="336" y="1284"/>
                    <a:pt x="336" y="1279"/>
                  </a:cubicBezTo>
                  <a:cubicBezTo>
                    <a:pt x="336" y="1273"/>
                    <a:pt x="340" y="1267"/>
                    <a:pt x="336" y="1262"/>
                  </a:cubicBezTo>
                  <a:cubicBezTo>
                    <a:pt x="332" y="1257"/>
                    <a:pt x="321" y="1252"/>
                    <a:pt x="314" y="1251"/>
                  </a:cubicBezTo>
                  <a:cubicBezTo>
                    <a:pt x="307" y="1250"/>
                    <a:pt x="300" y="1255"/>
                    <a:pt x="293" y="1259"/>
                  </a:cubicBezTo>
                  <a:cubicBezTo>
                    <a:pt x="285" y="1263"/>
                    <a:pt x="275" y="1268"/>
                    <a:pt x="271" y="1273"/>
                  </a:cubicBezTo>
                  <a:cubicBezTo>
                    <a:pt x="266" y="1279"/>
                    <a:pt x="268" y="1284"/>
                    <a:pt x="268" y="1291"/>
                  </a:cubicBezTo>
                  <a:cubicBezTo>
                    <a:pt x="267" y="1297"/>
                    <a:pt x="269" y="1306"/>
                    <a:pt x="266" y="1312"/>
                  </a:cubicBezTo>
                  <a:cubicBezTo>
                    <a:pt x="263" y="1318"/>
                    <a:pt x="257" y="1322"/>
                    <a:pt x="251" y="1328"/>
                  </a:cubicBezTo>
                  <a:cubicBezTo>
                    <a:pt x="245" y="1334"/>
                    <a:pt x="236" y="1347"/>
                    <a:pt x="231" y="1348"/>
                  </a:cubicBezTo>
                  <a:cubicBezTo>
                    <a:pt x="227" y="1348"/>
                    <a:pt x="227" y="1337"/>
                    <a:pt x="223" y="1330"/>
                  </a:cubicBezTo>
                  <a:cubicBezTo>
                    <a:pt x="217" y="1324"/>
                    <a:pt x="206" y="1328"/>
                    <a:pt x="200" y="1324"/>
                  </a:cubicBezTo>
                  <a:cubicBezTo>
                    <a:pt x="194" y="1321"/>
                    <a:pt x="190" y="1315"/>
                    <a:pt x="186" y="1311"/>
                  </a:cubicBezTo>
                  <a:cubicBezTo>
                    <a:pt x="181" y="1307"/>
                    <a:pt x="176" y="1305"/>
                    <a:pt x="173" y="1301"/>
                  </a:cubicBezTo>
                  <a:cubicBezTo>
                    <a:pt x="169" y="1296"/>
                    <a:pt x="175" y="1290"/>
                    <a:pt x="171" y="1285"/>
                  </a:cubicBezTo>
                  <a:cubicBezTo>
                    <a:pt x="167" y="1279"/>
                    <a:pt x="156" y="1275"/>
                    <a:pt x="148" y="1273"/>
                  </a:cubicBezTo>
                  <a:cubicBezTo>
                    <a:pt x="141" y="1271"/>
                    <a:pt x="133" y="1275"/>
                    <a:pt x="126" y="1274"/>
                  </a:cubicBezTo>
                  <a:cubicBezTo>
                    <a:pt x="119" y="1273"/>
                    <a:pt x="113" y="1265"/>
                    <a:pt x="106" y="1266"/>
                  </a:cubicBezTo>
                  <a:cubicBezTo>
                    <a:pt x="99" y="1266"/>
                    <a:pt x="96" y="1269"/>
                    <a:pt x="91" y="1269"/>
                  </a:cubicBezTo>
                  <a:cubicBezTo>
                    <a:pt x="85" y="1269"/>
                    <a:pt x="80" y="1266"/>
                    <a:pt x="71" y="1264"/>
                  </a:cubicBezTo>
                  <a:cubicBezTo>
                    <a:pt x="62" y="1263"/>
                    <a:pt x="45" y="1266"/>
                    <a:pt x="39" y="1261"/>
                  </a:cubicBezTo>
                  <a:cubicBezTo>
                    <a:pt x="33" y="1257"/>
                    <a:pt x="41" y="1247"/>
                    <a:pt x="37" y="1240"/>
                  </a:cubicBezTo>
                  <a:cubicBezTo>
                    <a:pt x="32" y="1232"/>
                    <a:pt x="14" y="1232"/>
                    <a:pt x="9" y="1226"/>
                  </a:cubicBezTo>
                  <a:cubicBezTo>
                    <a:pt x="3" y="1220"/>
                    <a:pt x="0" y="1209"/>
                    <a:pt x="2" y="1203"/>
                  </a:cubicBezTo>
                  <a:cubicBezTo>
                    <a:pt x="4" y="1197"/>
                    <a:pt x="18" y="1196"/>
                    <a:pt x="23" y="1190"/>
                  </a:cubicBezTo>
                  <a:cubicBezTo>
                    <a:pt x="28" y="1184"/>
                    <a:pt x="28" y="1184"/>
                    <a:pt x="34" y="1176"/>
                  </a:cubicBezTo>
                  <a:cubicBezTo>
                    <a:pt x="39" y="1168"/>
                    <a:pt x="42" y="1151"/>
                    <a:pt x="47" y="1146"/>
                  </a:cubicBezTo>
                  <a:cubicBezTo>
                    <a:pt x="51" y="1140"/>
                    <a:pt x="53" y="1145"/>
                    <a:pt x="60" y="1144"/>
                  </a:cubicBezTo>
                  <a:cubicBezTo>
                    <a:pt x="68" y="1144"/>
                    <a:pt x="60" y="1158"/>
                    <a:pt x="67" y="1158"/>
                  </a:cubicBezTo>
                  <a:cubicBezTo>
                    <a:pt x="75" y="1157"/>
                    <a:pt x="102" y="1159"/>
                    <a:pt x="113" y="1158"/>
                  </a:cubicBezTo>
                  <a:cubicBezTo>
                    <a:pt x="124" y="1157"/>
                    <a:pt x="127" y="1154"/>
                    <a:pt x="135" y="1151"/>
                  </a:cubicBezTo>
                  <a:cubicBezTo>
                    <a:pt x="142" y="1148"/>
                    <a:pt x="151" y="1141"/>
                    <a:pt x="159" y="1139"/>
                  </a:cubicBezTo>
                  <a:cubicBezTo>
                    <a:pt x="167" y="1136"/>
                    <a:pt x="171" y="1140"/>
                    <a:pt x="183" y="1139"/>
                  </a:cubicBezTo>
                  <a:cubicBezTo>
                    <a:pt x="195" y="1137"/>
                    <a:pt x="210" y="1139"/>
                    <a:pt x="219" y="1135"/>
                  </a:cubicBezTo>
                  <a:cubicBezTo>
                    <a:pt x="229" y="1132"/>
                    <a:pt x="227" y="1126"/>
                    <a:pt x="241" y="1119"/>
                  </a:cubicBezTo>
                  <a:cubicBezTo>
                    <a:pt x="254" y="1112"/>
                    <a:pt x="286" y="1102"/>
                    <a:pt x="303" y="1095"/>
                  </a:cubicBezTo>
                  <a:cubicBezTo>
                    <a:pt x="320" y="1087"/>
                    <a:pt x="331" y="1070"/>
                    <a:pt x="350" y="1064"/>
                  </a:cubicBezTo>
                  <a:cubicBezTo>
                    <a:pt x="368" y="1058"/>
                    <a:pt x="402" y="1061"/>
                    <a:pt x="417" y="1058"/>
                  </a:cubicBezTo>
                  <a:cubicBezTo>
                    <a:pt x="432" y="1055"/>
                    <a:pt x="435" y="1048"/>
                    <a:pt x="441" y="1045"/>
                  </a:cubicBezTo>
                  <a:cubicBezTo>
                    <a:pt x="446" y="1041"/>
                    <a:pt x="450" y="1042"/>
                    <a:pt x="452" y="1038"/>
                  </a:cubicBezTo>
                  <a:cubicBezTo>
                    <a:pt x="455" y="1033"/>
                    <a:pt x="456" y="1024"/>
                    <a:pt x="458" y="1019"/>
                  </a:cubicBezTo>
                  <a:cubicBezTo>
                    <a:pt x="460" y="1014"/>
                    <a:pt x="460" y="1007"/>
                    <a:pt x="466" y="1006"/>
                  </a:cubicBezTo>
                  <a:cubicBezTo>
                    <a:pt x="471" y="1005"/>
                    <a:pt x="482" y="1010"/>
                    <a:pt x="490" y="1011"/>
                  </a:cubicBezTo>
                  <a:cubicBezTo>
                    <a:pt x="499" y="1013"/>
                    <a:pt x="509" y="1015"/>
                    <a:pt x="517" y="1014"/>
                  </a:cubicBezTo>
                  <a:cubicBezTo>
                    <a:pt x="526" y="1014"/>
                    <a:pt x="536" y="1013"/>
                    <a:pt x="543" y="1012"/>
                  </a:cubicBezTo>
                  <a:cubicBezTo>
                    <a:pt x="551" y="1011"/>
                    <a:pt x="562" y="1009"/>
                    <a:pt x="564" y="1011"/>
                  </a:cubicBezTo>
                  <a:cubicBezTo>
                    <a:pt x="566" y="1013"/>
                    <a:pt x="558" y="1021"/>
                    <a:pt x="557" y="1026"/>
                  </a:cubicBezTo>
                  <a:cubicBezTo>
                    <a:pt x="556" y="1030"/>
                    <a:pt x="554" y="1036"/>
                    <a:pt x="556" y="1040"/>
                  </a:cubicBezTo>
                  <a:cubicBezTo>
                    <a:pt x="559" y="1044"/>
                    <a:pt x="567" y="1046"/>
                    <a:pt x="573" y="1050"/>
                  </a:cubicBezTo>
                  <a:cubicBezTo>
                    <a:pt x="579" y="1054"/>
                    <a:pt x="578" y="1061"/>
                    <a:pt x="594" y="1063"/>
                  </a:cubicBezTo>
                  <a:cubicBezTo>
                    <a:pt x="609" y="1065"/>
                    <a:pt x="639" y="1059"/>
                    <a:pt x="662" y="1062"/>
                  </a:cubicBezTo>
                  <a:cubicBezTo>
                    <a:pt x="684" y="1065"/>
                    <a:pt x="711" y="1074"/>
                    <a:pt x="728" y="1079"/>
                  </a:cubicBezTo>
                  <a:cubicBezTo>
                    <a:pt x="745" y="1084"/>
                    <a:pt x="745" y="1091"/>
                    <a:pt x="766" y="1092"/>
                  </a:cubicBezTo>
                  <a:cubicBezTo>
                    <a:pt x="788" y="1093"/>
                    <a:pt x="836" y="1085"/>
                    <a:pt x="858" y="1087"/>
                  </a:cubicBezTo>
                  <a:cubicBezTo>
                    <a:pt x="880" y="1089"/>
                    <a:pt x="886" y="1100"/>
                    <a:pt x="898" y="1104"/>
                  </a:cubicBezTo>
                  <a:cubicBezTo>
                    <a:pt x="910" y="1108"/>
                    <a:pt x="918" y="1111"/>
                    <a:pt x="928" y="1112"/>
                  </a:cubicBezTo>
                  <a:cubicBezTo>
                    <a:pt x="939" y="1114"/>
                    <a:pt x="949" y="1114"/>
                    <a:pt x="961" y="1114"/>
                  </a:cubicBezTo>
                  <a:cubicBezTo>
                    <a:pt x="972" y="1114"/>
                    <a:pt x="991" y="1110"/>
                    <a:pt x="998" y="1112"/>
                  </a:cubicBezTo>
                  <a:cubicBezTo>
                    <a:pt x="1004" y="1114"/>
                    <a:pt x="1001" y="1123"/>
                    <a:pt x="1001" y="1127"/>
                  </a:cubicBezTo>
                  <a:cubicBezTo>
                    <a:pt x="1000" y="1130"/>
                    <a:pt x="996" y="1130"/>
                    <a:pt x="994" y="1133"/>
                  </a:cubicBezTo>
                  <a:cubicBezTo>
                    <a:pt x="991" y="1136"/>
                    <a:pt x="989" y="1141"/>
                    <a:pt x="984" y="1145"/>
                  </a:cubicBezTo>
                  <a:cubicBezTo>
                    <a:pt x="980" y="1149"/>
                    <a:pt x="968" y="1155"/>
                    <a:pt x="968" y="1158"/>
                  </a:cubicBezTo>
                  <a:cubicBezTo>
                    <a:pt x="967" y="1161"/>
                    <a:pt x="979" y="1159"/>
                    <a:pt x="984" y="1162"/>
                  </a:cubicBezTo>
                  <a:cubicBezTo>
                    <a:pt x="988" y="1166"/>
                    <a:pt x="988" y="1173"/>
                    <a:pt x="992" y="1178"/>
                  </a:cubicBezTo>
                  <a:cubicBezTo>
                    <a:pt x="997" y="1183"/>
                    <a:pt x="993" y="1192"/>
                    <a:pt x="996" y="1194"/>
                  </a:cubicBezTo>
                  <a:cubicBezTo>
                    <a:pt x="998" y="1196"/>
                    <a:pt x="1004" y="1192"/>
                    <a:pt x="1007" y="1189"/>
                  </a:cubicBezTo>
                  <a:cubicBezTo>
                    <a:pt x="1011" y="1186"/>
                    <a:pt x="1015" y="1180"/>
                    <a:pt x="1018" y="1178"/>
                  </a:cubicBezTo>
                  <a:cubicBezTo>
                    <a:pt x="1021" y="1177"/>
                    <a:pt x="1024" y="1178"/>
                    <a:pt x="1026" y="1180"/>
                  </a:cubicBezTo>
                  <a:cubicBezTo>
                    <a:pt x="1029" y="1182"/>
                    <a:pt x="1029" y="1191"/>
                    <a:pt x="1034" y="1193"/>
                  </a:cubicBezTo>
                  <a:cubicBezTo>
                    <a:pt x="1039" y="1195"/>
                    <a:pt x="1042" y="1195"/>
                    <a:pt x="1052" y="1195"/>
                  </a:cubicBezTo>
                  <a:cubicBezTo>
                    <a:pt x="1062" y="1195"/>
                    <a:pt x="1068" y="1202"/>
                    <a:pt x="1076" y="1201"/>
                  </a:cubicBezTo>
                  <a:cubicBezTo>
                    <a:pt x="1084" y="1201"/>
                    <a:pt x="1093" y="1197"/>
                    <a:pt x="1099" y="1194"/>
                  </a:cubicBezTo>
                  <a:cubicBezTo>
                    <a:pt x="1106" y="1190"/>
                    <a:pt x="1108" y="1185"/>
                    <a:pt x="1113" y="1182"/>
                  </a:cubicBezTo>
                  <a:cubicBezTo>
                    <a:pt x="1118" y="1179"/>
                    <a:pt x="1125" y="1188"/>
                    <a:pt x="1131" y="1186"/>
                  </a:cubicBezTo>
                  <a:cubicBezTo>
                    <a:pt x="1137" y="1182"/>
                    <a:pt x="1136" y="1167"/>
                    <a:pt x="1140" y="1162"/>
                  </a:cubicBezTo>
                  <a:cubicBezTo>
                    <a:pt x="1145" y="1158"/>
                    <a:pt x="1155" y="1163"/>
                    <a:pt x="1158" y="1157"/>
                  </a:cubicBezTo>
                  <a:cubicBezTo>
                    <a:pt x="1160" y="1151"/>
                    <a:pt x="1157" y="1137"/>
                    <a:pt x="1158" y="1130"/>
                  </a:cubicBezTo>
                  <a:cubicBezTo>
                    <a:pt x="1158" y="1122"/>
                    <a:pt x="1163" y="1121"/>
                    <a:pt x="1165" y="1116"/>
                  </a:cubicBezTo>
                  <a:cubicBezTo>
                    <a:pt x="1166" y="1112"/>
                    <a:pt x="1162" y="1108"/>
                    <a:pt x="1168" y="1102"/>
                  </a:cubicBezTo>
                  <a:cubicBezTo>
                    <a:pt x="1173" y="1096"/>
                    <a:pt x="1189" y="1086"/>
                    <a:pt x="1198" y="1079"/>
                  </a:cubicBezTo>
                  <a:cubicBezTo>
                    <a:pt x="1207" y="1072"/>
                    <a:pt x="1209" y="1069"/>
                    <a:pt x="1222" y="1061"/>
                  </a:cubicBezTo>
                  <a:cubicBezTo>
                    <a:pt x="1234" y="1054"/>
                    <a:pt x="1249" y="1045"/>
                    <a:pt x="1266" y="1036"/>
                  </a:cubicBezTo>
                  <a:cubicBezTo>
                    <a:pt x="1283" y="1026"/>
                    <a:pt x="1308" y="1014"/>
                    <a:pt x="1323" y="1005"/>
                  </a:cubicBezTo>
                  <a:cubicBezTo>
                    <a:pt x="1337" y="996"/>
                    <a:pt x="1351" y="992"/>
                    <a:pt x="1360" y="982"/>
                  </a:cubicBezTo>
                  <a:cubicBezTo>
                    <a:pt x="1369" y="973"/>
                    <a:pt x="1377" y="961"/>
                    <a:pt x="1383" y="947"/>
                  </a:cubicBezTo>
                  <a:cubicBezTo>
                    <a:pt x="1389" y="933"/>
                    <a:pt x="1388" y="917"/>
                    <a:pt x="1395" y="900"/>
                  </a:cubicBezTo>
                  <a:cubicBezTo>
                    <a:pt x="1401" y="882"/>
                    <a:pt x="1403" y="877"/>
                    <a:pt x="1408" y="865"/>
                  </a:cubicBezTo>
                  <a:cubicBezTo>
                    <a:pt x="1414" y="854"/>
                    <a:pt x="1423" y="839"/>
                    <a:pt x="1429" y="832"/>
                  </a:cubicBezTo>
                  <a:cubicBezTo>
                    <a:pt x="1435" y="824"/>
                    <a:pt x="1434" y="824"/>
                    <a:pt x="1446" y="820"/>
                  </a:cubicBezTo>
                  <a:cubicBezTo>
                    <a:pt x="1458" y="817"/>
                    <a:pt x="1486" y="814"/>
                    <a:pt x="1501" y="811"/>
                  </a:cubicBezTo>
                  <a:cubicBezTo>
                    <a:pt x="1516" y="809"/>
                    <a:pt x="1530" y="803"/>
                    <a:pt x="1538" y="804"/>
                  </a:cubicBezTo>
                  <a:cubicBezTo>
                    <a:pt x="1547" y="805"/>
                    <a:pt x="1551" y="814"/>
                    <a:pt x="1551" y="817"/>
                  </a:cubicBezTo>
                  <a:cubicBezTo>
                    <a:pt x="1551" y="821"/>
                    <a:pt x="1545" y="825"/>
                    <a:pt x="1541" y="827"/>
                  </a:cubicBezTo>
                  <a:cubicBezTo>
                    <a:pt x="1537" y="830"/>
                    <a:pt x="1531" y="828"/>
                    <a:pt x="1527" y="833"/>
                  </a:cubicBezTo>
                  <a:cubicBezTo>
                    <a:pt x="1522" y="839"/>
                    <a:pt x="1520" y="854"/>
                    <a:pt x="1512" y="859"/>
                  </a:cubicBezTo>
                  <a:cubicBezTo>
                    <a:pt x="1503" y="865"/>
                    <a:pt x="1485" y="866"/>
                    <a:pt x="1475" y="867"/>
                  </a:cubicBezTo>
                  <a:cubicBezTo>
                    <a:pt x="1466" y="867"/>
                    <a:pt x="1465" y="859"/>
                    <a:pt x="1458" y="860"/>
                  </a:cubicBezTo>
                  <a:cubicBezTo>
                    <a:pt x="1451" y="861"/>
                    <a:pt x="1442" y="860"/>
                    <a:pt x="1439" y="867"/>
                  </a:cubicBezTo>
                  <a:cubicBezTo>
                    <a:pt x="1435" y="873"/>
                    <a:pt x="1434" y="890"/>
                    <a:pt x="1435" y="900"/>
                  </a:cubicBezTo>
                  <a:cubicBezTo>
                    <a:pt x="1436" y="911"/>
                    <a:pt x="1453" y="942"/>
                    <a:pt x="1471" y="952"/>
                  </a:cubicBezTo>
                  <a:cubicBezTo>
                    <a:pt x="1488" y="961"/>
                    <a:pt x="1513" y="960"/>
                    <a:pt x="1541" y="959"/>
                  </a:cubicBezTo>
                  <a:cubicBezTo>
                    <a:pt x="1569" y="958"/>
                    <a:pt x="1609" y="950"/>
                    <a:pt x="1639" y="945"/>
                  </a:cubicBezTo>
                  <a:cubicBezTo>
                    <a:pt x="1670" y="941"/>
                    <a:pt x="1704" y="935"/>
                    <a:pt x="1723" y="930"/>
                  </a:cubicBezTo>
                  <a:cubicBezTo>
                    <a:pt x="1743" y="925"/>
                    <a:pt x="1745" y="919"/>
                    <a:pt x="1756" y="915"/>
                  </a:cubicBezTo>
                  <a:cubicBezTo>
                    <a:pt x="1766" y="911"/>
                    <a:pt x="1773" y="917"/>
                    <a:pt x="1786" y="907"/>
                  </a:cubicBezTo>
                  <a:cubicBezTo>
                    <a:pt x="1800" y="898"/>
                    <a:pt x="1824" y="876"/>
                    <a:pt x="1834" y="865"/>
                  </a:cubicBezTo>
                  <a:cubicBezTo>
                    <a:pt x="1845" y="855"/>
                    <a:pt x="1843" y="851"/>
                    <a:pt x="1851" y="843"/>
                  </a:cubicBezTo>
                  <a:cubicBezTo>
                    <a:pt x="1859" y="836"/>
                    <a:pt x="1875" y="823"/>
                    <a:pt x="1884" y="818"/>
                  </a:cubicBezTo>
                  <a:cubicBezTo>
                    <a:pt x="1894" y="814"/>
                    <a:pt x="1897" y="821"/>
                    <a:pt x="1907" y="818"/>
                  </a:cubicBezTo>
                  <a:cubicBezTo>
                    <a:pt x="1918" y="815"/>
                    <a:pt x="1925" y="801"/>
                    <a:pt x="1936" y="795"/>
                  </a:cubicBezTo>
                  <a:cubicBezTo>
                    <a:pt x="1947" y="789"/>
                    <a:pt x="1969" y="784"/>
                    <a:pt x="1979" y="780"/>
                  </a:cubicBezTo>
                  <a:cubicBezTo>
                    <a:pt x="1990" y="776"/>
                    <a:pt x="2001" y="769"/>
                    <a:pt x="2009" y="763"/>
                  </a:cubicBezTo>
                  <a:cubicBezTo>
                    <a:pt x="2017" y="756"/>
                    <a:pt x="2021" y="750"/>
                    <a:pt x="2029" y="739"/>
                  </a:cubicBezTo>
                  <a:cubicBezTo>
                    <a:pt x="2036" y="729"/>
                    <a:pt x="2035" y="717"/>
                    <a:pt x="2040" y="707"/>
                  </a:cubicBezTo>
                  <a:cubicBezTo>
                    <a:pt x="2045" y="697"/>
                    <a:pt x="2049" y="689"/>
                    <a:pt x="2059" y="680"/>
                  </a:cubicBezTo>
                  <a:cubicBezTo>
                    <a:pt x="2070" y="672"/>
                    <a:pt x="2090" y="664"/>
                    <a:pt x="2101" y="656"/>
                  </a:cubicBezTo>
                  <a:cubicBezTo>
                    <a:pt x="2111" y="647"/>
                    <a:pt x="2117" y="638"/>
                    <a:pt x="2126" y="626"/>
                  </a:cubicBezTo>
                  <a:cubicBezTo>
                    <a:pt x="2134" y="613"/>
                    <a:pt x="2140" y="604"/>
                    <a:pt x="2154" y="582"/>
                  </a:cubicBezTo>
                  <a:cubicBezTo>
                    <a:pt x="2168" y="559"/>
                    <a:pt x="2185" y="521"/>
                    <a:pt x="2199" y="501"/>
                  </a:cubicBezTo>
                  <a:cubicBezTo>
                    <a:pt x="2213" y="481"/>
                    <a:pt x="2221" y="489"/>
                    <a:pt x="2229" y="476"/>
                  </a:cubicBezTo>
                  <a:cubicBezTo>
                    <a:pt x="2237" y="464"/>
                    <a:pt x="2242" y="439"/>
                    <a:pt x="2247" y="425"/>
                  </a:cubicBezTo>
                  <a:cubicBezTo>
                    <a:pt x="2252" y="411"/>
                    <a:pt x="2254" y="402"/>
                    <a:pt x="2255" y="394"/>
                  </a:cubicBezTo>
                  <a:cubicBezTo>
                    <a:pt x="2256" y="385"/>
                    <a:pt x="2262" y="372"/>
                    <a:pt x="2259" y="367"/>
                  </a:cubicBezTo>
                  <a:cubicBezTo>
                    <a:pt x="2255" y="362"/>
                    <a:pt x="2241" y="365"/>
                    <a:pt x="2235" y="366"/>
                  </a:cubicBezTo>
                  <a:cubicBezTo>
                    <a:pt x="2229" y="367"/>
                    <a:pt x="2228" y="373"/>
                    <a:pt x="2222" y="374"/>
                  </a:cubicBezTo>
                  <a:cubicBezTo>
                    <a:pt x="2216" y="374"/>
                    <a:pt x="2203" y="380"/>
                    <a:pt x="2200" y="373"/>
                  </a:cubicBezTo>
                  <a:cubicBezTo>
                    <a:pt x="2198" y="366"/>
                    <a:pt x="2203" y="339"/>
                    <a:pt x="2208" y="332"/>
                  </a:cubicBezTo>
                  <a:cubicBezTo>
                    <a:pt x="2212" y="325"/>
                    <a:pt x="2214" y="342"/>
                    <a:pt x="2226" y="333"/>
                  </a:cubicBezTo>
                  <a:cubicBezTo>
                    <a:pt x="2238" y="323"/>
                    <a:pt x="2275" y="294"/>
                    <a:pt x="2283" y="276"/>
                  </a:cubicBezTo>
                  <a:cubicBezTo>
                    <a:pt x="2291" y="259"/>
                    <a:pt x="2276" y="239"/>
                    <a:pt x="2275" y="226"/>
                  </a:cubicBezTo>
                  <a:cubicBezTo>
                    <a:pt x="2275" y="214"/>
                    <a:pt x="2277" y="209"/>
                    <a:pt x="2280" y="203"/>
                  </a:cubicBezTo>
                  <a:cubicBezTo>
                    <a:pt x="2283" y="196"/>
                    <a:pt x="2272" y="189"/>
                    <a:pt x="2273" y="184"/>
                  </a:cubicBezTo>
                  <a:cubicBezTo>
                    <a:pt x="2275" y="179"/>
                    <a:pt x="2281" y="183"/>
                    <a:pt x="2288" y="178"/>
                  </a:cubicBezTo>
                  <a:cubicBezTo>
                    <a:pt x="2295" y="174"/>
                    <a:pt x="2307" y="159"/>
                    <a:pt x="2314" y="157"/>
                  </a:cubicBezTo>
                  <a:cubicBezTo>
                    <a:pt x="2322" y="155"/>
                    <a:pt x="2329" y="165"/>
                    <a:pt x="2336" y="165"/>
                  </a:cubicBezTo>
                  <a:cubicBezTo>
                    <a:pt x="2343" y="165"/>
                    <a:pt x="2351" y="164"/>
                    <a:pt x="2357" y="156"/>
                  </a:cubicBezTo>
                  <a:cubicBezTo>
                    <a:pt x="2362" y="149"/>
                    <a:pt x="2364" y="131"/>
                    <a:pt x="2367" y="121"/>
                  </a:cubicBezTo>
                  <a:cubicBezTo>
                    <a:pt x="2371" y="111"/>
                    <a:pt x="2375" y="116"/>
                    <a:pt x="2379" y="111"/>
                  </a:cubicBezTo>
                  <a:cubicBezTo>
                    <a:pt x="2382" y="105"/>
                    <a:pt x="2381" y="94"/>
                    <a:pt x="2382" y="87"/>
                  </a:cubicBezTo>
                  <a:cubicBezTo>
                    <a:pt x="2384" y="81"/>
                    <a:pt x="2378" y="75"/>
                    <a:pt x="2379" y="71"/>
                  </a:cubicBezTo>
                  <a:cubicBezTo>
                    <a:pt x="2379" y="66"/>
                    <a:pt x="2388" y="71"/>
                    <a:pt x="2392" y="67"/>
                  </a:cubicBezTo>
                  <a:cubicBezTo>
                    <a:pt x="2397" y="62"/>
                    <a:pt x="2400" y="47"/>
                    <a:pt x="2405" y="46"/>
                  </a:cubicBezTo>
                  <a:cubicBezTo>
                    <a:pt x="2411" y="45"/>
                    <a:pt x="2420" y="59"/>
                    <a:pt x="2427" y="60"/>
                  </a:cubicBezTo>
                  <a:cubicBezTo>
                    <a:pt x="2434" y="61"/>
                    <a:pt x="2441" y="55"/>
                    <a:pt x="2446" y="65"/>
                  </a:cubicBezTo>
                  <a:cubicBezTo>
                    <a:pt x="2450" y="75"/>
                    <a:pt x="2451" y="104"/>
                    <a:pt x="2453" y="121"/>
                  </a:cubicBezTo>
                  <a:cubicBezTo>
                    <a:pt x="2455" y="138"/>
                    <a:pt x="2455" y="158"/>
                    <a:pt x="2459" y="168"/>
                  </a:cubicBezTo>
                  <a:cubicBezTo>
                    <a:pt x="2463" y="177"/>
                    <a:pt x="2471" y="177"/>
                    <a:pt x="2477" y="177"/>
                  </a:cubicBezTo>
                  <a:cubicBezTo>
                    <a:pt x="2482" y="177"/>
                    <a:pt x="2486" y="147"/>
                    <a:pt x="2490" y="141"/>
                  </a:cubicBezTo>
                  <a:cubicBezTo>
                    <a:pt x="2495" y="136"/>
                    <a:pt x="2502" y="138"/>
                    <a:pt x="2506" y="139"/>
                  </a:cubicBezTo>
                  <a:cubicBezTo>
                    <a:pt x="2511" y="140"/>
                    <a:pt x="2512" y="146"/>
                    <a:pt x="2516" y="149"/>
                  </a:cubicBezTo>
                  <a:cubicBezTo>
                    <a:pt x="2519" y="151"/>
                    <a:pt x="2523" y="153"/>
                    <a:pt x="2526" y="156"/>
                  </a:cubicBezTo>
                  <a:cubicBezTo>
                    <a:pt x="2530" y="160"/>
                    <a:pt x="2540" y="171"/>
                    <a:pt x="2546" y="167"/>
                  </a:cubicBezTo>
                  <a:cubicBezTo>
                    <a:pt x="2551" y="163"/>
                    <a:pt x="2555" y="144"/>
                    <a:pt x="2559" y="134"/>
                  </a:cubicBezTo>
                  <a:cubicBezTo>
                    <a:pt x="2564" y="125"/>
                    <a:pt x="2571" y="120"/>
                    <a:pt x="2574" y="114"/>
                  </a:cubicBezTo>
                  <a:cubicBezTo>
                    <a:pt x="2577" y="107"/>
                    <a:pt x="2584" y="94"/>
                    <a:pt x="2576" y="91"/>
                  </a:cubicBezTo>
                  <a:cubicBezTo>
                    <a:pt x="2568" y="88"/>
                    <a:pt x="2541" y="92"/>
                    <a:pt x="2527" y="92"/>
                  </a:cubicBezTo>
                  <a:cubicBezTo>
                    <a:pt x="2514" y="93"/>
                    <a:pt x="2501" y="97"/>
                    <a:pt x="2495" y="95"/>
                  </a:cubicBezTo>
                  <a:cubicBezTo>
                    <a:pt x="2487" y="92"/>
                    <a:pt x="2485" y="84"/>
                    <a:pt x="2484" y="78"/>
                  </a:cubicBezTo>
                  <a:cubicBezTo>
                    <a:pt x="2483" y="73"/>
                    <a:pt x="2484" y="64"/>
                    <a:pt x="2488" y="55"/>
                  </a:cubicBezTo>
                  <a:cubicBezTo>
                    <a:pt x="2492" y="47"/>
                    <a:pt x="2499" y="35"/>
                    <a:pt x="2507" y="27"/>
                  </a:cubicBezTo>
                  <a:cubicBezTo>
                    <a:pt x="2516" y="19"/>
                    <a:pt x="2529" y="0"/>
                    <a:pt x="2539" y="0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792"/>
            <p:cNvSpPr/>
            <p:nvPr/>
          </p:nvSpPr>
          <p:spPr>
            <a:xfrm>
              <a:off x="2298600" y="4048920"/>
              <a:ext cx="980640" cy="566280"/>
            </a:xfrm>
            <a:custGeom>
              <a:avLst/>
              <a:gdLst/>
              <a:ahLst/>
              <a:rect l="l" t="t" r="r" b="b"/>
              <a:pathLst>
                <a:path w="583" h="337">
                  <a:moveTo>
                    <a:pt x="222" y="3"/>
                  </a:moveTo>
                  <a:cubicBezTo>
                    <a:pt x="227" y="0"/>
                    <a:pt x="229" y="2"/>
                    <a:pt x="232" y="5"/>
                  </a:cubicBezTo>
                  <a:cubicBezTo>
                    <a:pt x="234" y="7"/>
                    <a:pt x="233" y="16"/>
                    <a:pt x="236" y="20"/>
                  </a:cubicBezTo>
                  <a:cubicBezTo>
                    <a:pt x="240" y="24"/>
                    <a:pt x="247" y="27"/>
                    <a:pt x="249" y="32"/>
                  </a:cubicBezTo>
                  <a:cubicBezTo>
                    <a:pt x="252" y="37"/>
                    <a:pt x="251" y="47"/>
                    <a:pt x="253" y="52"/>
                  </a:cubicBezTo>
                  <a:cubicBezTo>
                    <a:pt x="254" y="56"/>
                    <a:pt x="253" y="58"/>
                    <a:pt x="258" y="60"/>
                  </a:cubicBezTo>
                  <a:cubicBezTo>
                    <a:pt x="262" y="62"/>
                    <a:pt x="272" y="64"/>
                    <a:pt x="279" y="64"/>
                  </a:cubicBezTo>
                  <a:cubicBezTo>
                    <a:pt x="285" y="64"/>
                    <a:pt x="290" y="60"/>
                    <a:pt x="296" y="59"/>
                  </a:cubicBezTo>
                  <a:cubicBezTo>
                    <a:pt x="302" y="57"/>
                    <a:pt x="309" y="56"/>
                    <a:pt x="316" y="57"/>
                  </a:cubicBezTo>
                  <a:cubicBezTo>
                    <a:pt x="323" y="57"/>
                    <a:pt x="330" y="61"/>
                    <a:pt x="338" y="62"/>
                  </a:cubicBezTo>
                  <a:cubicBezTo>
                    <a:pt x="346" y="63"/>
                    <a:pt x="356" y="67"/>
                    <a:pt x="364" y="63"/>
                  </a:cubicBezTo>
                  <a:cubicBezTo>
                    <a:pt x="371" y="58"/>
                    <a:pt x="379" y="43"/>
                    <a:pt x="382" y="35"/>
                  </a:cubicBezTo>
                  <a:cubicBezTo>
                    <a:pt x="385" y="28"/>
                    <a:pt x="378" y="20"/>
                    <a:pt x="383" y="18"/>
                  </a:cubicBezTo>
                  <a:cubicBezTo>
                    <a:pt x="387" y="16"/>
                    <a:pt x="399" y="23"/>
                    <a:pt x="407" y="23"/>
                  </a:cubicBezTo>
                  <a:cubicBezTo>
                    <a:pt x="415" y="24"/>
                    <a:pt x="424" y="23"/>
                    <a:pt x="431" y="21"/>
                  </a:cubicBezTo>
                  <a:cubicBezTo>
                    <a:pt x="439" y="19"/>
                    <a:pt x="445" y="9"/>
                    <a:pt x="452" y="10"/>
                  </a:cubicBezTo>
                  <a:cubicBezTo>
                    <a:pt x="459" y="11"/>
                    <a:pt x="466" y="22"/>
                    <a:pt x="474" y="25"/>
                  </a:cubicBezTo>
                  <a:cubicBezTo>
                    <a:pt x="482" y="29"/>
                    <a:pt x="492" y="29"/>
                    <a:pt x="499" y="31"/>
                  </a:cubicBezTo>
                  <a:cubicBezTo>
                    <a:pt x="506" y="33"/>
                    <a:pt x="512" y="32"/>
                    <a:pt x="517" y="37"/>
                  </a:cubicBezTo>
                  <a:cubicBezTo>
                    <a:pt x="522" y="41"/>
                    <a:pt x="527" y="51"/>
                    <a:pt x="531" y="57"/>
                  </a:cubicBezTo>
                  <a:cubicBezTo>
                    <a:pt x="536" y="62"/>
                    <a:pt x="538" y="66"/>
                    <a:pt x="543" y="70"/>
                  </a:cubicBezTo>
                  <a:cubicBezTo>
                    <a:pt x="548" y="74"/>
                    <a:pt x="554" y="78"/>
                    <a:pt x="560" y="82"/>
                  </a:cubicBezTo>
                  <a:cubicBezTo>
                    <a:pt x="565" y="85"/>
                    <a:pt x="573" y="85"/>
                    <a:pt x="575" y="90"/>
                  </a:cubicBezTo>
                  <a:cubicBezTo>
                    <a:pt x="578" y="96"/>
                    <a:pt x="575" y="107"/>
                    <a:pt x="574" y="114"/>
                  </a:cubicBezTo>
                  <a:cubicBezTo>
                    <a:pt x="574" y="121"/>
                    <a:pt x="571" y="125"/>
                    <a:pt x="572" y="130"/>
                  </a:cubicBezTo>
                  <a:cubicBezTo>
                    <a:pt x="574" y="135"/>
                    <a:pt x="582" y="139"/>
                    <a:pt x="582" y="147"/>
                  </a:cubicBezTo>
                  <a:cubicBezTo>
                    <a:pt x="583" y="154"/>
                    <a:pt x="578" y="169"/>
                    <a:pt x="575" y="176"/>
                  </a:cubicBezTo>
                  <a:cubicBezTo>
                    <a:pt x="572" y="183"/>
                    <a:pt x="567" y="183"/>
                    <a:pt x="565" y="188"/>
                  </a:cubicBezTo>
                  <a:cubicBezTo>
                    <a:pt x="563" y="192"/>
                    <a:pt x="569" y="196"/>
                    <a:pt x="563" y="201"/>
                  </a:cubicBezTo>
                  <a:cubicBezTo>
                    <a:pt x="558" y="206"/>
                    <a:pt x="546" y="215"/>
                    <a:pt x="534" y="218"/>
                  </a:cubicBezTo>
                  <a:cubicBezTo>
                    <a:pt x="521" y="221"/>
                    <a:pt x="503" y="213"/>
                    <a:pt x="490" y="218"/>
                  </a:cubicBezTo>
                  <a:cubicBezTo>
                    <a:pt x="477" y="223"/>
                    <a:pt x="466" y="236"/>
                    <a:pt x="456" y="246"/>
                  </a:cubicBezTo>
                  <a:cubicBezTo>
                    <a:pt x="447" y="256"/>
                    <a:pt x="438" y="268"/>
                    <a:pt x="433" y="277"/>
                  </a:cubicBezTo>
                  <a:cubicBezTo>
                    <a:pt x="427" y="286"/>
                    <a:pt x="426" y="296"/>
                    <a:pt x="424" y="299"/>
                  </a:cubicBezTo>
                  <a:cubicBezTo>
                    <a:pt x="421" y="303"/>
                    <a:pt x="421" y="302"/>
                    <a:pt x="419" y="298"/>
                  </a:cubicBezTo>
                  <a:cubicBezTo>
                    <a:pt x="417" y="293"/>
                    <a:pt x="418" y="289"/>
                    <a:pt x="415" y="279"/>
                  </a:cubicBezTo>
                  <a:cubicBezTo>
                    <a:pt x="412" y="270"/>
                    <a:pt x="406" y="250"/>
                    <a:pt x="402" y="240"/>
                  </a:cubicBezTo>
                  <a:cubicBezTo>
                    <a:pt x="397" y="229"/>
                    <a:pt x="394" y="222"/>
                    <a:pt x="387" y="216"/>
                  </a:cubicBezTo>
                  <a:cubicBezTo>
                    <a:pt x="380" y="210"/>
                    <a:pt x="366" y="207"/>
                    <a:pt x="360" y="204"/>
                  </a:cubicBezTo>
                  <a:cubicBezTo>
                    <a:pt x="354" y="201"/>
                    <a:pt x="359" y="198"/>
                    <a:pt x="351" y="197"/>
                  </a:cubicBezTo>
                  <a:cubicBezTo>
                    <a:pt x="343" y="196"/>
                    <a:pt x="325" y="197"/>
                    <a:pt x="313" y="199"/>
                  </a:cubicBezTo>
                  <a:cubicBezTo>
                    <a:pt x="300" y="201"/>
                    <a:pt x="287" y="208"/>
                    <a:pt x="274" y="211"/>
                  </a:cubicBezTo>
                  <a:cubicBezTo>
                    <a:pt x="262" y="214"/>
                    <a:pt x="247" y="215"/>
                    <a:pt x="239" y="216"/>
                  </a:cubicBezTo>
                  <a:cubicBezTo>
                    <a:pt x="231" y="217"/>
                    <a:pt x="230" y="214"/>
                    <a:pt x="226" y="219"/>
                  </a:cubicBezTo>
                  <a:cubicBezTo>
                    <a:pt x="222" y="224"/>
                    <a:pt x="222" y="239"/>
                    <a:pt x="215" y="247"/>
                  </a:cubicBezTo>
                  <a:cubicBezTo>
                    <a:pt x="208" y="255"/>
                    <a:pt x="196" y="263"/>
                    <a:pt x="187" y="267"/>
                  </a:cubicBezTo>
                  <a:cubicBezTo>
                    <a:pt x="178" y="272"/>
                    <a:pt x="169" y="270"/>
                    <a:pt x="163" y="274"/>
                  </a:cubicBezTo>
                  <a:cubicBezTo>
                    <a:pt x="157" y="278"/>
                    <a:pt x="154" y="284"/>
                    <a:pt x="152" y="291"/>
                  </a:cubicBezTo>
                  <a:cubicBezTo>
                    <a:pt x="150" y="298"/>
                    <a:pt x="153" y="310"/>
                    <a:pt x="152" y="317"/>
                  </a:cubicBezTo>
                  <a:cubicBezTo>
                    <a:pt x="151" y="324"/>
                    <a:pt x="150" y="331"/>
                    <a:pt x="147" y="334"/>
                  </a:cubicBezTo>
                  <a:cubicBezTo>
                    <a:pt x="144" y="337"/>
                    <a:pt x="138" y="337"/>
                    <a:pt x="133" y="335"/>
                  </a:cubicBezTo>
                  <a:cubicBezTo>
                    <a:pt x="128" y="333"/>
                    <a:pt x="124" y="325"/>
                    <a:pt x="120" y="323"/>
                  </a:cubicBezTo>
                  <a:cubicBezTo>
                    <a:pt x="115" y="320"/>
                    <a:pt x="110" y="319"/>
                    <a:pt x="107" y="320"/>
                  </a:cubicBezTo>
                  <a:cubicBezTo>
                    <a:pt x="103" y="320"/>
                    <a:pt x="102" y="327"/>
                    <a:pt x="100" y="327"/>
                  </a:cubicBezTo>
                  <a:cubicBezTo>
                    <a:pt x="97" y="326"/>
                    <a:pt x="96" y="318"/>
                    <a:pt x="91" y="315"/>
                  </a:cubicBezTo>
                  <a:cubicBezTo>
                    <a:pt x="87" y="311"/>
                    <a:pt x="75" y="310"/>
                    <a:pt x="73" y="305"/>
                  </a:cubicBezTo>
                  <a:cubicBezTo>
                    <a:pt x="71" y="301"/>
                    <a:pt x="74" y="292"/>
                    <a:pt x="78" y="287"/>
                  </a:cubicBezTo>
                  <a:cubicBezTo>
                    <a:pt x="82" y="283"/>
                    <a:pt x="93" y="283"/>
                    <a:pt x="97" y="280"/>
                  </a:cubicBezTo>
                  <a:cubicBezTo>
                    <a:pt x="100" y="277"/>
                    <a:pt x="105" y="271"/>
                    <a:pt x="101" y="268"/>
                  </a:cubicBezTo>
                  <a:cubicBezTo>
                    <a:pt x="97" y="266"/>
                    <a:pt x="81" y="267"/>
                    <a:pt x="72" y="267"/>
                  </a:cubicBezTo>
                  <a:cubicBezTo>
                    <a:pt x="63" y="268"/>
                    <a:pt x="53" y="271"/>
                    <a:pt x="47" y="270"/>
                  </a:cubicBezTo>
                  <a:cubicBezTo>
                    <a:pt x="41" y="269"/>
                    <a:pt x="38" y="265"/>
                    <a:pt x="37" y="262"/>
                  </a:cubicBezTo>
                  <a:cubicBezTo>
                    <a:pt x="37" y="259"/>
                    <a:pt x="41" y="255"/>
                    <a:pt x="43" y="251"/>
                  </a:cubicBezTo>
                  <a:cubicBezTo>
                    <a:pt x="45" y="246"/>
                    <a:pt x="50" y="242"/>
                    <a:pt x="49" y="239"/>
                  </a:cubicBezTo>
                  <a:cubicBezTo>
                    <a:pt x="47" y="235"/>
                    <a:pt x="37" y="233"/>
                    <a:pt x="35" y="229"/>
                  </a:cubicBezTo>
                  <a:cubicBezTo>
                    <a:pt x="34" y="226"/>
                    <a:pt x="36" y="220"/>
                    <a:pt x="40" y="217"/>
                  </a:cubicBezTo>
                  <a:cubicBezTo>
                    <a:pt x="44" y="214"/>
                    <a:pt x="56" y="214"/>
                    <a:pt x="59" y="211"/>
                  </a:cubicBezTo>
                  <a:cubicBezTo>
                    <a:pt x="63" y="208"/>
                    <a:pt x="63" y="203"/>
                    <a:pt x="61" y="199"/>
                  </a:cubicBezTo>
                  <a:cubicBezTo>
                    <a:pt x="59" y="196"/>
                    <a:pt x="47" y="189"/>
                    <a:pt x="49" y="189"/>
                  </a:cubicBezTo>
                  <a:cubicBezTo>
                    <a:pt x="50" y="188"/>
                    <a:pt x="68" y="197"/>
                    <a:pt x="72" y="196"/>
                  </a:cubicBezTo>
                  <a:cubicBezTo>
                    <a:pt x="76" y="195"/>
                    <a:pt x="73" y="189"/>
                    <a:pt x="74" y="185"/>
                  </a:cubicBezTo>
                  <a:cubicBezTo>
                    <a:pt x="74" y="181"/>
                    <a:pt x="78" y="177"/>
                    <a:pt x="78" y="172"/>
                  </a:cubicBezTo>
                  <a:cubicBezTo>
                    <a:pt x="77" y="168"/>
                    <a:pt x="72" y="163"/>
                    <a:pt x="69" y="159"/>
                  </a:cubicBezTo>
                  <a:cubicBezTo>
                    <a:pt x="66" y="155"/>
                    <a:pt x="59" y="152"/>
                    <a:pt x="58" y="146"/>
                  </a:cubicBezTo>
                  <a:cubicBezTo>
                    <a:pt x="57" y="140"/>
                    <a:pt x="61" y="130"/>
                    <a:pt x="60" y="125"/>
                  </a:cubicBezTo>
                  <a:cubicBezTo>
                    <a:pt x="60" y="120"/>
                    <a:pt x="60" y="118"/>
                    <a:pt x="56" y="116"/>
                  </a:cubicBezTo>
                  <a:cubicBezTo>
                    <a:pt x="51" y="115"/>
                    <a:pt x="43" y="116"/>
                    <a:pt x="35" y="116"/>
                  </a:cubicBezTo>
                  <a:cubicBezTo>
                    <a:pt x="26" y="117"/>
                    <a:pt x="19" y="119"/>
                    <a:pt x="15" y="119"/>
                  </a:cubicBezTo>
                  <a:cubicBezTo>
                    <a:pt x="10" y="119"/>
                    <a:pt x="0" y="118"/>
                    <a:pt x="7" y="116"/>
                  </a:cubicBezTo>
                  <a:cubicBezTo>
                    <a:pt x="14" y="115"/>
                    <a:pt x="39" y="111"/>
                    <a:pt x="49" y="109"/>
                  </a:cubicBezTo>
                  <a:cubicBezTo>
                    <a:pt x="58" y="107"/>
                    <a:pt x="68" y="104"/>
                    <a:pt x="76" y="101"/>
                  </a:cubicBezTo>
                  <a:cubicBezTo>
                    <a:pt x="84" y="99"/>
                    <a:pt x="97" y="94"/>
                    <a:pt x="103" y="91"/>
                  </a:cubicBezTo>
                  <a:cubicBezTo>
                    <a:pt x="110" y="88"/>
                    <a:pt x="111" y="85"/>
                    <a:pt x="116" y="84"/>
                  </a:cubicBezTo>
                  <a:cubicBezTo>
                    <a:pt x="121" y="82"/>
                    <a:pt x="128" y="83"/>
                    <a:pt x="134" y="81"/>
                  </a:cubicBezTo>
                  <a:cubicBezTo>
                    <a:pt x="140" y="79"/>
                    <a:pt x="149" y="77"/>
                    <a:pt x="153" y="71"/>
                  </a:cubicBezTo>
                  <a:cubicBezTo>
                    <a:pt x="158" y="66"/>
                    <a:pt x="158" y="53"/>
                    <a:pt x="160" y="47"/>
                  </a:cubicBezTo>
                  <a:cubicBezTo>
                    <a:pt x="163" y="42"/>
                    <a:pt x="163" y="40"/>
                    <a:pt x="167" y="37"/>
                  </a:cubicBezTo>
                  <a:cubicBezTo>
                    <a:pt x="172" y="33"/>
                    <a:pt x="182" y="29"/>
                    <a:pt x="188" y="27"/>
                  </a:cubicBezTo>
                  <a:cubicBezTo>
                    <a:pt x="194" y="24"/>
                    <a:pt x="199" y="26"/>
                    <a:pt x="204" y="22"/>
                  </a:cubicBezTo>
                  <a:cubicBezTo>
                    <a:pt x="210" y="18"/>
                    <a:pt x="218" y="6"/>
                    <a:pt x="222" y="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793"/>
            <p:cNvSpPr/>
            <p:nvPr/>
          </p:nvSpPr>
          <p:spPr>
            <a:xfrm>
              <a:off x="3311280" y="4093200"/>
              <a:ext cx="115200" cy="145800"/>
            </a:xfrm>
            <a:custGeom>
              <a:avLst/>
              <a:gdLst/>
              <a:ahLst/>
              <a:rect l="l" t="t" r="r" b="b"/>
              <a:pathLst>
                <a:path w="69" h="87">
                  <a:moveTo>
                    <a:pt x="4" y="42"/>
                  </a:moveTo>
                  <a:cubicBezTo>
                    <a:pt x="8" y="34"/>
                    <a:pt x="22" y="35"/>
                    <a:pt x="27" y="31"/>
                  </a:cubicBezTo>
                  <a:cubicBezTo>
                    <a:pt x="33" y="28"/>
                    <a:pt x="35" y="22"/>
                    <a:pt x="40" y="17"/>
                  </a:cubicBezTo>
                  <a:cubicBezTo>
                    <a:pt x="44" y="12"/>
                    <a:pt x="50" y="6"/>
                    <a:pt x="54" y="3"/>
                  </a:cubicBezTo>
                  <a:cubicBezTo>
                    <a:pt x="57" y="1"/>
                    <a:pt x="60" y="0"/>
                    <a:pt x="63" y="1"/>
                  </a:cubicBezTo>
                  <a:cubicBezTo>
                    <a:pt x="65" y="2"/>
                    <a:pt x="68" y="4"/>
                    <a:pt x="68" y="7"/>
                  </a:cubicBezTo>
                  <a:cubicBezTo>
                    <a:pt x="69" y="11"/>
                    <a:pt x="67" y="15"/>
                    <a:pt x="64" y="20"/>
                  </a:cubicBezTo>
                  <a:cubicBezTo>
                    <a:pt x="62" y="24"/>
                    <a:pt x="55" y="30"/>
                    <a:pt x="54" y="35"/>
                  </a:cubicBezTo>
                  <a:cubicBezTo>
                    <a:pt x="52" y="40"/>
                    <a:pt x="57" y="43"/>
                    <a:pt x="55" y="49"/>
                  </a:cubicBezTo>
                  <a:cubicBezTo>
                    <a:pt x="53" y="54"/>
                    <a:pt x="44" y="63"/>
                    <a:pt x="41" y="68"/>
                  </a:cubicBezTo>
                  <a:cubicBezTo>
                    <a:pt x="38" y="73"/>
                    <a:pt x="41" y="75"/>
                    <a:pt x="34" y="77"/>
                  </a:cubicBezTo>
                  <a:cubicBezTo>
                    <a:pt x="28" y="79"/>
                    <a:pt x="10" y="87"/>
                    <a:pt x="5" y="81"/>
                  </a:cubicBezTo>
                  <a:cubicBezTo>
                    <a:pt x="0" y="75"/>
                    <a:pt x="0" y="50"/>
                    <a:pt x="4" y="42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794"/>
            <p:cNvSpPr/>
            <p:nvPr/>
          </p:nvSpPr>
          <p:spPr>
            <a:xfrm>
              <a:off x="3171600" y="4032000"/>
              <a:ext cx="50400" cy="432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" y="0"/>
                  </a:moveTo>
                  <a:cubicBezTo>
                    <a:pt x="4" y="0"/>
                    <a:pt x="14" y="7"/>
                    <a:pt x="18" y="7"/>
                  </a:cubicBezTo>
                  <a:cubicBezTo>
                    <a:pt x="23" y="8"/>
                    <a:pt x="26" y="2"/>
                    <a:pt x="28" y="4"/>
                  </a:cubicBezTo>
                  <a:cubicBezTo>
                    <a:pt x="29" y="6"/>
                    <a:pt x="30" y="15"/>
                    <a:pt x="28" y="18"/>
                  </a:cubicBezTo>
                  <a:cubicBezTo>
                    <a:pt x="27" y="22"/>
                    <a:pt x="21" y="26"/>
                    <a:pt x="17" y="26"/>
                  </a:cubicBezTo>
                  <a:cubicBezTo>
                    <a:pt x="14" y="25"/>
                    <a:pt x="9" y="19"/>
                    <a:pt x="7" y="16"/>
                  </a:cubicBezTo>
                  <a:cubicBezTo>
                    <a:pt x="6" y="13"/>
                    <a:pt x="9" y="10"/>
                    <a:pt x="8" y="8"/>
                  </a:cubicBezTo>
                  <a:cubicBezTo>
                    <a:pt x="7" y="5"/>
                    <a:pt x="0" y="0"/>
                    <a:pt x="2" y="0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795"/>
            <p:cNvSpPr/>
            <p:nvPr/>
          </p:nvSpPr>
          <p:spPr>
            <a:xfrm>
              <a:off x="1403280" y="3861720"/>
              <a:ext cx="830520" cy="1136880"/>
            </a:xfrm>
            <a:custGeom>
              <a:avLst/>
              <a:gdLst/>
              <a:ahLst/>
              <a:rect l="l" t="t" r="r" b="b"/>
              <a:pathLst>
                <a:path w="494" h="676">
                  <a:moveTo>
                    <a:pt x="350" y="63"/>
                  </a:moveTo>
                  <a:cubicBezTo>
                    <a:pt x="349" y="55"/>
                    <a:pt x="350" y="52"/>
                    <a:pt x="351" y="47"/>
                  </a:cubicBezTo>
                  <a:cubicBezTo>
                    <a:pt x="353" y="42"/>
                    <a:pt x="358" y="36"/>
                    <a:pt x="358" y="32"/>
                  </a:cubicBezTo>
                  <a:cubicBezTo>
                    <a:pt x="359" y="29"/>
                    <a:pt x="358" y="28"/>
                    <a:pt x="354" y="25"/>
                  </a:cubicBezTo>
                  <a:cubicBezTo>
                    <a:pt x="349" y="23"/>
                    <a:pt x="339" y="20"/>
                    <a:pt x="333" y="17"/>
                  </a:cubicBezTo>
                  <a:cubicBezTo>
                    <a:pt x="328" y="14"/>
                    <a:pt x="324" y="12"/>
                    <a:pt x="320" y="10"/>
                  </a:cubicBezTo>
                  <a:cubicBezTo>
                    <a:pt x="316" y="7"/>
                    <a:pt x="313" y="3"/>
                    <a:pt x="310" y="2"/>
                  </a:cubicBezTo>
                  <a:cubicBezTo>
                    <a:pt x="307" y="0"/>
                    <a:pt x="306" y="0"/>
                    <a:pt x="303" y="2"/>
                  </a:cubicBezTo>
                  <a:cubicBezTo>
                    <a:pt x="299" y="3"/>
                    <a:pt x="294" y="7"/>
                    <a:pt x="289" y="9"/>
                  </a:cubicBezTo>
                  <a:cubicBezTo>
                    <a:pt x="285" y="11"/>
                    <a:pt x="281" y="13"/>
                    <a:pt x="276" y="15"/>
                  </a:cubicBezTo>
                  <a:cubicBezTo>
                    <a:pt x="271" y="16"/>
                    <a:pt x="264" y="15"/>
                    <a:pt x="260" y="17"/>
                  </a:cubicBezTo>
                  <a:cubicBezTo>
                    <a:pt x="256" y="19"/>
                    <a:pt x="257" y="26"/>
                    <a:pt x="254" y="28"/>
                  </a:cubicBezTo>
                  <a:cubicBezTo>
                    <a:pt x="251" y="29"/>
                    <a:pt x="247" y="25"/>
                    <a:pt x="243" y="27"/>
                  </a:cubicBezTo>
                  <a:cubicBezTo>
                    <a:pt x="239" y="28"/>
                    <a:pt x="233" y="33"/>
                    <a:pt x="228" y="35"/>
                  </a:cubicBezTo>
                  <a:cubicBezTo>
                    <a:pt x="222" y="36"/>
                    <a:pt x="214" y="36"/>
                    <a:pt x="210" y="35"/>
                  </a:cubicBezTo>
                  <a:cubicBezTo>
                    <a:pt x="206" y="33"/>
                    <a:pt x="204" y="29"/>
                    <a:pt x="202" y="25"/>
                  </a:cubicBezTo>
                  <a:cubicBezTo>
                    <a:pt x="199" y="22"/>
                    <a:pt x="201" y="15"/>
                    <a:pt x="197" y="13"/>
                  </a:cubicBezTo>
                  <a:cubicBezTo>
                    <a:pt x="192" y="12"/>
                    <a:pt x="181" y="14"/>
                    <a:pt x="175" y="16"/>
                  </a:cubicBezTo>
                  <a:cubicBezTo>
                    <a:pt x="170" y="17"/>
                    <a:pt x="165" y="19"/>
                    <a:pt x="162" y="22"/>
                  </a:cubicBezTo>
                  <a:cubicBezTo>
                    <a:pt x="160" y="24"/>
                    <a:pt x="160" y="27"/>
                    <a:pt x="161" y="31"/>
                  </a:cubicBezTo>
                  <a:cubicBezTo>
                    <a:pt x="162" y="35"/>
                    <a:pt x="168" y="41"/>
                    <a:pt x="166" y="46"/>
                  </a:cubicBezTo>
                  <a:cubicBezTo>
                    <a:pt x="165" y="50"/>
                    <a:pt x="159" y="55"/>
                    <a:pt x="153" y="57"/>
                  </a:cubicBezTo>
                  <a:cubicBezTo>
                    <a:pt x="147" y="58"/>
                    <a:pt x="135" y="57"/>
                    <a:pt x="129" y="54"/>
                  </a:cubicBezTo>
                  <a:cubicBezTo>
                    <a:pt x="123" y="51"/>
                    <a:pt x="114" y="41"/>
                    <a:pt x="114" y="41"/>
                  </a:cubicBezTo>
                  <a:cubicBezTo>
                    <a:pt x="110" y="38"/>
                    <a:pt x="110" y="36"/>
                    <a:pt x="106" y="35"/>
                  </a:cubicBezTo>
                  <a:cubicBezTo>
                    <a:pt x="103" y="34"/>
                    <a:pt x="98" y="35"/>
                    <a:pt x="95" y="35"/>
                  </a:cubicBezTo>
                  <a:cubicBezTo>
                    <a:pt x="91" y="35"/>
                    <a:pt x="87" y="34"/>
                    <a:pt x="85" y="36"/>
                  </a:cubicBezTo>
                  <a:cubicBezTo>
                    <a:pt x="84" y="38"/>
                    <a:pt x="85" y="49"/>
                    <a:pt x="85" y="49"/>
                  </a:cubicBezTo>
                  <a:cubicBezTo>
                    <a:pt x="85" y="53"/>
                    <a:pt x="86" y="58"/>
                    <a:pt x="85" y="61"/>
                  </a:cubicBezTo>
                  <a:cubicBezTo>
                    <a:pt x="84" y="64"/>
                    <a:pt x="83" y="65"/>
                    <a:pt x="81" y="67"/>
                  </a:cubicBezTo>
                  <a:cubicBezTo>
                    <a:pt x="80" y="69"/>
                    <a:pt x="79" y="74"/>
                    <a:pt x="78" y="75"/>
                  </a:cubicBezTo>
                  <a:cubicBezTo>
                    <a:pt x="77" y="77"/>
                    <a:pt x="78" y="78"/>
                    <a:pt x="77" y="78"/>
                  </a:cubicBezTo>
                  <a:cubicBezTo>
                    <a:pt x="76" y="77"/>
                    <a:pt x="73" y="73"/>
                    <a:pt x="72" y="70"/>
                  </a:cubicBezTo>
                  <a:cubicBezTo>
                    <a:pt x="71" y="68"/>
                    <a:pt x="71" y="67"/>
                    <a:pt x="68" y="65"/>
                  </a:cubicBezTo>
                  <a:cubicBezTo>
                    <a:pt x="66" y="62"/>
                    <a:pt x="60" y="59"/>
                    <a:pt x="59" y="55"/>
                  </a:cubicBezTo>
                  <a:cubicBezTo>
                    <a:pt x="57" y="51"/>
                    <a:pt x="61" y="43"/>
                    <a:pt x="59" y="42"/>
                  </a:cubicBezTo>
                  <a:cubicBezTo>
                    <a:pt x="57" y="41"/>
                    <a:pt x="49" y="47"/>
                    <a:pt x="45" y="48"/>
                  </a:cubicBezTo>
                  <a:cubicBezTo>
                    <a:pt x="40" y="49"/>
                    <a:pt x="33" y="48"/>
                    <a:pt x="30" y="50"/>
                  </a:cubicBezTo>
                  <a:cubicBezTo>
                    <a:pt x="28" y="52"/>
                    <a:pt x="32" y="57"/>
                    <a:pt x="29" y="60"/>
                  </a:cubicBezTo>
                  <a:cubicBezTo>
                    <a:pt x="26" y="63"/>
                    <a:pt x="14" y="64"/>
                    <a:pt x="11" y="68"/>
                  </a:cubicBezTo>
                  <a:cubicBezTo>
                    <a:pt x="8" y="72"/>
                    <a:pt x="11" y="85"/>
                    <a:pt x="11" y="85"/>
                  </a:cubicBezTo>
                  <a:cubicBezTo>
                    <a:pt x="11" y="90"/>
                    <a:pt x="9" y="95"/>
                    <a:pt x="11" y="98"/>
                  </a:cubicBezTo>
                  <a:cubicBezTo>
                    <a:pt x="13" y="101"/>
                    <a:pt x="21" y="101"/>
                    <a:pt x="25" y="104"/>
                  </a:cubicBezTo>
                  <a:cubicBezTo>
                    <a:pt x="28" y="107"/>
                    <a:pt x="32" y="114"/>
                    <a:pt x="35" y="117"/>
                  </a:cubicBezTo>
                  <a:cubicBezTo>
                    <a:pt x="39" y="120"/>
                    <a:pt x="42" y="120"/>
                    <a:pt x="46" y="123"/>
                  </a:cubicBezTo>
                  <a:cubicBezTo>
                    <a:pt x="49" y="126"/>
                    <a:pt x="54" y="132"/>
                    <a:pt x="57" y="135"/>
                  </a:cubicBezTo>
                  <a:cubicBezTo>
                    <a:pt x="60" y="137"/>
                    <a:pt x="60" y="135"/>
                    <a:pt x="64" y="137"/>
                  </a:cubicBezTo>
                  <a:cubicBezTo>
                    <a:pt x="67" y="139"/>
                    <a:pt x="73" y="140"/>
                    <a:pt x="76" y="145"/>
                  </a:cubicBezTo>
                  <a:cubicBezTo>
                    <a:pt x="78" y="150"/>
                    <a:pt x="80" y="162"/>
                    <a:pt x="79" y="167"/>
                  </a:cubicBezTo>
                  <a:cubicBezTo>
                    <a:pt x="78" y="172"/>
                    <a:pt x="73" y="172"/>
                    <a:pt x="70" y="176"/>
                  </a:cubicBezTo>
                  <a:cubicBezTo>
                    <a:pt x="67" y="180"/>
                    <a:pt x="64" y="188"/>
                    <a:pt x="61" y="191"/>
                  </a:cubicBezTo>
                  <a:cubicBezTo>
                    <a:pt x="59" y="193"/>
                    <a:pt x="57" y="193"/>
                    <a:pt x="54" y="191"/>
                  </a:cubicBezTo>
                  <a:cubicBezTo>
                    <a:pt x="52" y="188"/>
                    <a:pt x="48" y="181"/>
                    <a:pt x="47" y="176"/>
                  </a:cubicBezTo>
                  <a:cubicBezTo>
                    <a:pt x="46" y="172"/>
                    <a:pt x="48" y="169"/>
                    <a:pt x="47" y="164"/>
                  </a:cubicBezTo>
                  <a:cubicBezTo>
                    <a:pt x="46" y="160"/>
                    <a:pt x="45" y="154"/>
                    <a:pt x="42" y="150"/>
                  </a:cubicBezTo>
                  <a:cubicBezTo>
                    <a:pt x="40" y="146"/>
                    <a:pt x="33" y="144"/>
                    <a:pt x="30" y="141"/>
                  </a:cubicBezTo>
                  <a:cubicBezTo>
                    <a:pt x="28" y="137"/>
                    <a:pt x="27" y="131"/>
                    <a:pt x="26" y="128"/>
                  </a:cubicBezTo>
                  <a:cubicBezTo>
                    <a:pt x="25" y="124"/>
                    <a:pt x="26" y="118"/>
                    <a:pt x="25" y="119"/>
                  </a:cubicBezTo>
                  <a:cubicBezTo>
                    <a:pt x="23" y="120"/>
                    <a:pt x="21" y="129"/>
                    <a:pt x="18" y="135"/>
                  </a:cubicBezTo>
                  <a:cubicBezTo>
                    <a:pt x="17" y="140"/>
                    <a:pt x="14" y="147"/>
                    <a:pt x="13" y="151"/>
                  </a:cubicBezTo>
                  <a:cubicBezTo>
                    <a:pt x="11" y="156"/>
                    <a:pt x="8" y="159"/>
                    <a:pt x="8" y="163"/>
                  </a:cubicBezTo>
                  <a:cubicBezTo>
                    <a:pt x="7" y="168"/>
                    <a:pt x="10" y="174"/>
                    <a:pt x="10" y="179"/>
                  </a:cubicBezTo>
                  <a:cubicBezTo>
                    <a:pt x="11" y="183"/>
                    <a:pt x="9" y="185"/>
                    <a:pt x="11" y="191"/>
                  </a:cubicBezTo>
                  <a:cubicBezTo>
                    <a:pt x="13" y="196"/>
                    <a:pt x="19" y="206"/>
                    <a:pt x="22" y="211"/>
                  </a:cubicBezTo>
                  <a:cubicBezTo>
                    <a:pt x="25" y="215"/>
                    <a:pt x="28" y="214"/>
                    <a:pt x="29" y="218"/>
                  </a:cubicBezTo>
                  <a:cubicBezTo>
                    <a:pt x="31" y="222"/>
                    <a:pt x="31" y="230"/>
                    <a:pt x="30" y="234"/>
                  </a:cubicBezTo>
                  <a:cubicBezTo>
                    <a:pt x="30" y="239"/>
                    <a:pt x="26" y="243"/>
                    <a:pt x="25" y="246"/>
                  </a:cubicBezTo>
                  <a:cubicBezTo>
                    <a:pt x="23" y="250"/>
                    <a:pt x="21" y="253"/>
                    <a:pt x="20" y="257"/>
                  </a:cubicBezTo>
                  <a:cubicBezTo>
                    <a:pt x="19" y="261"/>
                    <a:pt x="20" y="268"/>
                    <a:pt x="20" y="268"/>
                  </a:cubicBezTo>
                  <a:cubicBezTo>
                    <a:pt x="20" y="271"/>
                    <a:pt x="18" y="275"/>
                    <a:pt x="20" y="275"/>
                  </a:cubicBezTo>
                  <a:cubicBezTo>
                    <a:pt x="21" y="275"/>
                    <a:pt x="27" y="272"/>
                    <a:pt x="29" y="269"/>
                  </a:cubicBezTo>
                  <a:cubicBezTo>
                    <a:pt x="32" y="266"/>
                    <a:pt x="32" y="259"/>
                    <a:pt x="34" y="255"/>
                  </a:cubicBezTo>
                  <a:cubicBezTo>
                    <a:pt x="36" y="251"/>
                    <a:pt x="37" y="249"/>
                    <a:pt x="41" y="245"/>
                  </a:cubicBezTo>
                  <a:cubicBezTo>
                    <a:pt x="45" y="242"/>
                    <a:pt x="54" y="236"/>
                    <a:pt x="59" y="233"/>
                  </a:cubicBezTo>
                  <a:cubicBezTo>
                    <a:pt x="64" y="231"/>
                    <a:pt x="66" y="230"/>
                    <a:pt x="71" y="229"/>
                  </a:cubicBezTo>
                  <a:cubicBezTo>
                    <a:pt x="75" y="227"/>
                    <a:pt x="81" y="227"/>
                    <a:pt x="85" y="226"/>
                  </a:cubicBezTo>
                  <a:cubicBezTo>
                    <a:pt x="89" y="226"/>
                    <a:pt x="90" y="225"/>
                    <a:pt x="92" y="226"/>
                  </a:cubicBezTo>
                  <a:cubicBezTo>
                    <a:pt x="94" y="228"/>
                    <a:pt x="95" y="231"/>
                    <a:pt x="96" y="234"/>
                  </a:cubicBezTo>
                  <a:cubicBezTo>
                    <a:pt x="96" y="238"/>
                    <a:pt x="96" y="245"/>
                    <a:pt x="96" y="250"/>
                  </a:cubicBezTo>
                  <a:cubicBezTo>
                    <a:pt x="96" y="255"/>
                    <a:pt x="96" y="260"/>
                    <a:pt x="97" y="264"/>
                  </a:cubicBezTo>
                  <a:cubicBezTo>
                    <a:pt x="98" y="268"/>
                    <a:pt x="96" y="272"/>
                    <a:pt x="99" y="274"/>
                  </a:cubicBezTo>
                  <a:cubicBezTo>
                    <a:pt x="103" y="276"/>
                    <a:pt x="112" y="276"/>
                    <a:pt x="118" y="275"/>
                  </a:cubicBezTo>
                  <a:cubicBezTo>
                    <a:pt x="124" y="274"/>
                    <a:pt x="132" y="272"/>
                    <a:pt x="136" y="268"/>
                  </a:cubicBezTo>
                  <a:cubicBezTo>
                    <a:pt x="140" y="264"/>
                    <a:pt x="139" y="257"/>
                    <a:pt x="141" y="252"/>
                  </a:cubicBezTo>
                  <a:cubicBezTo>
                    <a:pt x="143" y="248"/>
                    <a:pt x="146" y="245"/>
                    <a:pt x="148" y="241"/>
                  </a:cubicBezTo>
                  <a:cubicBezTo>
                    <a:pt x="150" y="236"/>
                    <a:pt x="153" y="230"/>
                    <a:pt x="152" y="225"/>
                  </a:cubicBezTo>
                  <a:cubicBezTo>
                    <a:pt x="151" y="220"/>
                    <a:pt x="146" y="214"/>
                    <a:pt x="142" y="211"/>
                  </a:cubicBezTo>
                  <a:cubicBezTo>
                    <a:pt x="139" y="207"/>
                    <a:pt x="134" y="205"/>
                    <a:pt x="130" y="204"/>
                  </a:cubicBezTo>
                  <a:cubicBezTo>
                    <a:pt x="127" y="202"/>
                    <a:pt x="123" y="204"/>
                    <a:pt x="122" y="201"/>
                  </a:cubicBezTo>
                  <a:cubicBezTo>
                    <a:pt x="120" y="198"/>
                    <a:pt x="121" y="192"/>
                    <a:pt x="122" y="186"/>
                  </a:cubicBezTo>
                  <a:cubicBezTo>
                    <a:pt x="123" y="180"/>
                    <a:pt x="124" y="171"/>
                    <a:pt x="125" y="166"/>
                  </a:cubicBezTo>
                  <a:cubicBezTo>
                    <a:pt x="127" y="160"/>
                    <a:pt x="127" y="154"/>
                    <a:pt x="130" y="151"/>
                  </a:cubicBezTo>
                  <a:cubicBezTo>
                    <a:pt x="134" y="148"/>
                    <a:pt x="142" y="151"/>
                    <a:pt x="146" y="149"/>
                  </a:cubicBezTo>
                  <a:cubicBezTo>
                    <a:pt x="149" y="147"/>
                    <a:pt x="149" y="143"/>
                    <a:pt x="153" y="142"/>
                  </a:cubicBezTo>
                  <a:cubicBezTo>
                    <a:pt x="156" y="141"/>
                    <a:pt x="164" y="140"/>
                    <a:pt x="167" y="143"/>
                  </a:cubicBezTo>
                  <a:cubicBezTo>
                    <a:pt x="170" y="146"/>
                    <a:pt x="171" y="152"/>
                    <a:pt x="173" y="157"/>
                  </a:cubicBezTo>
                  <a:cubicBezTo>
                    <a:pt x="175" y="163"/>
                    <a:pt x="180" y="170"/>
                    <a:pt x="181" y="175"/>
                  </a:cubicBezTo>
                  <a:cubicBezTo>
                    <a:pt x="182" y="180"/>
                    <a:pt x="181" y="185"/>
                    <a:pt x="180" y="188"/>
                  </a:cubicBezTo>
                  <a:cubicBezTo>
                    <a:pt x="179" y="191"/>
                    <a:pt x="175" y="190"/>
                    <a:pt x="175" y="193"/>
                  </a:cubicBezTo>
                  <a:cubicBezTo>
                    <a:pt x="176" y="196"/>
                    <a:pt x="179" y="203"/>
                    <a:pt x="181" y="208"/>
                  </a:cubicBezTo>
                  <a:cubicBezTo>
                    <a:pt x="184" y="214"/>
                    <a:pt x="189" y="222"/>
                    <a:pt x="191" y="226"/>
                  </a:cubicBezTo>
                  <a:cubicBezTo>
                    <a:pt x="193" y="230"/>
                    <a:pt x="194" y="229"/>
                    <a:pt x="194" y="233"/>
                  </a:cubicBezTo>
                  <a:cubicBezTo>
                    <a:pt x="195" y="237"/>
                    <a:pt x="195" y="246"/>
                    <a:pt x="194" y="250"/>
                  </a:cubicBezTo>
                  <a:cubicBezTo>
                    <a:pt x="194" y="254"/>
                    <a:pt x="192" y="255"/>
                    <a:pt x="191" y="258"/>
                  </a:cubicBezTo>
                  <a:cubicBezTo>
                    <a:pt x="189" y="261"/>
                    <a:pt x="186" y="265"/>
                    <a:pt x="186" y="268"/>
                  </a:cubicBezTo>
                  <a:cubicBezTo>
                    <a:pt x="186" y="271"/>
                    <a:pt x="190" y="273"/>
                    <a:pt x="188" y="276"/>
                  </a:cubicBezTo>
                  <a:cubicBezTo>
                    <a:pt x="186" y="280"/>
                    <a:pt x="178" y="285"/>
                    <a:pt x="174" y="289"/>
                  </a:cubicBezTo>
                  <a:cubicBezTo>
                    <a:pt x="170" y="293"/>
                    <a:pt x="166" y="298"/>
                    <a:pt x="162" y="301"/>
                  </a:cubicBezTo>
                  <a:cubicBezTo>
                    <a:pt x="159" y="305"/>
                    <a:pt x="157" y="307"/>
                    <a:pt x="154" y="311"/>
                  </a:cubicBezTo>
                  <a:cubicBezTo>
                    <a:pt x="151" y="315"/>
                    <a:pt x="149" y="321"/>
                    <a:pt x="147" y="326"/>
                  </a:cubicBezTo>
                  <a:cubicBezTo>
                    <a:pt x="145" y="331"/>
                    <a:pt x="144" y="338"/>
                    <a:pt x="143" y="343"/>
                  </a:cubicBezTo>
                  <a:cubicBezTo>
                    <a:pt x="143" y="347"/>
                    <a:pt x="144" y="350"/>
                    <a:pt x="142" y="352"/>
                  </a:cubicBezTo>
                  <a:cubicBezTo>
                    <a:pt x="140" y="355"/>
                    <a:pt x="135" y="358"/>
                    <a:pt x="131" y="359"/>
                  </a:cubicBezTo>
                  <a:cubicBezTo>
                    <a:pt x="127" y="361"/>
                    <a:pt x="123" y="358"/>
                    <a:pt x="118" y="361"/>
                  </a:cubicBezTo>
                  <a:cubicBezTo>
                    <a:pt x="114" y="363"/>
                    <a:pt x="111" y="373"/>
                    <a:pt x="106" y="376"/>
                  </a:cubicBezTo>
                  <a:cubicBezTo>
                    <a:pt x="102" y="379"/>
                    <a:pt x="95" y="375"/>
                    <a:pt x="91" y="377"/>
                  </a:cubicBezTo>
                  <a:cubicBezTo>
                    <a:pt x="87" y="379"/>
                    <a:pt x="85" y="385"/>
                    <a:pt x="81" y="387"/>
                  </a:cubicBezTo>
                  <a:cubicBezTo>
                    <a:pt x="78" y="388"/>
                    <a:pt x="74" y="385"/>
                    <a:pt x="71" y="387"/>
                  </a:cubicBezTo>
                  <a:cubicBezTo>
                    <a:pt x="68" y="388"/>
                    <a:pt x="65" y="389"/>
                    <a:pt x="64" y="394"/>
                  </a:cubicBezTo>
                  <a:cubicBezTo>
                    <a:pt x="62" y="399"/>
                    <a:pt x="63" y="409"/>
                    <a:pt x="61" y="417"/>
                  </a:cubicBezTo>
                  <a:cubicBezTo>
                    <a:pt x="60" y="423"/>
                    <a:pt x="54" y="436"/>
                    <a:pt x="54" y="436"/>
                  </a:cubicBezTo>
                  <a:cubicBezTo>
                    <a:pt x="52" y="442"/>
                    <a:pt x="50" y="450"/>
                    <a:pt x="47" y="455"/>
                  </a:cubicBezTo>
                  <a:cubicBezTo>
                    <a:pt x="44" y="459"/>
                    <a:pt x="38" y="462"/>
                    <a:pt x="35" y="465"/>
                  </a:cubicBezTo>
                  <a:cubicBezTo>
                    <a:pt x="32" y="469"/>
                    <a:pt x="29" y="473"/>
                    <a:pt x="28" y="476"/>
                  </a:cubicBezTo>
                  <a:cubicBezTo>
                    <a:pt x="27" y="479"/>
                    <a:pt x="24" y="480"/>
                    <a:pt x="27" y="482"/>
                  </a:cubicBezTo>
                  <a:cubicBezTo>
                    <a:pt x="30" y="483"/>
                    <a:pt x="42" y="481"/>
                    <a:pt x="45" y="484"/>
                  </a:cubicBezTo>
                  <a:cubicBezTo>
                    <a:pt x="48" y="487"/>
                    <a:pt x="45" y="494"/>
                    <a:pt x="45" y="500"/>
                  </a:cubicBezTo>
                  <a:cubicBezTo>
                    <a:pt x="44" y="505"/>
                    <a:pt x="42" y="513"/>
                    <a:pt x="41" y="518"/>
                  </a:cubicBezTo>
                  <a:cubicBezTo>
                    <a:pt x="41" y="522"/>
                    <a:pt x="42" y="525"/>
                    <a:pt x="41" y="528"/>
                  </a:cubicBezTo>
                  <a:cubicBezTo>
                    <a:pt x="41" y="531"/>
                    <a:pt x="38" y="534"/>
                    <a:pt x="37" y="537"/>
                  </a:cubicBezTo>
                  <a:cubicBezTo>
                    <a:pt x="37" y="539"/>
                    <a:pt x="37" y="541"/>
                    <a:pt x="36" y="544"/>
                  </a:cubicBezTo>
                  <a:cubicBezTo>
                    <a:pt x="36" y="546"/>
                    <a:pt x="37" y="548"/>
                    <a:pt x="34" y="551"/>
                  </a:cubicBezTo>
                  <a:cubicBezTo>
                    <a:pt x="31" y="553"/>
                    <a:pt x="23" y="557"/>
                    <a:pt x="18" y="559"/>
                  </a:cubicBezTo>
                  <a:cubicBezTo>
                    <a:pt x="14" y="561"/>
                    <a:pt x="9" y="562"/>
                    <a:pt x="7" y="564"/>
                  </a:cubicBezTo>
                  <a:cubicBezTo>
                    <a:pt x="4" y="566"/>
                    <a:pt x="3" y="568"/>
                    <a:pt x="2" y="571"/>
                  </a:cubicBezTo>
                  <a:cubicBezTo>
                    <a:pt x="1" y="574"/>
                    <a:pt x="0" y="580"/>
                    <a:pt x="1" y="584"/>
                  </a:cubicBezTo>
                  <a:cubicBezTo>
                    <a:pt x="2" y="588"/>
                    <a:pt x="1" y="590"/>
                    <a:pt x="7" y="594"/>
                  </a:cubicBezTo>
                  <a:cubicBezTo>
                    <a:pt x="13" y="597"/>
                    <a:pt x="30" y="599"/>
                    <a:pt x="37" y="603"/>
                  </a:cubicBezTo>
                  <a:cubicBezTo>
                    <a:pt x="45" y="607"/>
                    <a:pt x="49" y="613"/>
                    <a:pt x="52" y="616"/>
                  </a:cubicBezTo>
                  <a:cubicBezTo>
                    <a:pt x="55" y="619"/>
                    <a:pt x="56" y="621"/>
                    <a:pt x="58" y="623"/>
                  </a:cubicBezTo>
                  <a:cubicBezTo>
                    <a:pt x="59" y="626"/>
                    <a:pt x="58" y="629"/>
                    <a:pt x="61" y="631"/>
                  </a:cubicBezTo>
                  <a:cubicBezTo>
                    <a:pt x="64" y="632"/>
                    <a:pt x="73" y="633"/>
                    <a:pt x="77" y="632"/>
                  </a:cubicBezTo>
                  <a:cubicBezTo>
                    <a:pt x="81" y="630"/>
                    <a:pt x="85" y="627"/>
                    <a:pt x="86" y="622"/>
                  </a:cubicBezTo>
                  <a:cubicBezTo>
                    <a:pt x="88" y="617"/>
                    <a:pt x="86" y="609"/>
                    <a:pt x="85" y="603"/>
                  </a:cubicBezTo>
                  <a:cubicBezTo>
                    <a:pt x="84" y="597"/>
                    <a:pt x="80" y="591"/>
                    <a:pt x="78" y="586"/>
                  </a:cubicBezTo>
                  <a:cubicBezTo>
                    <a:pt x="76" y="581"/>
                    <a:pt x="75" y="577"/>
                    <a:pt x="76" y="573"/>
                  </a:cubicBezTo>
                  <a:cubicBezTo>
                    <a:pt x="76" y="568"/>
                    <a:pt x="79" y="563"/>
                    <a:pt x="80" y="559"/>
                  </a:cubicBezTo>
                  <a:cubicBezTo>
                    <a:pt x="81" y="555"/>
                    <a:pt x="80" y="552"/>
                    <a:pt x="83" y="550"/>
                  </a:cubicBezTo>
                  <a:cubicBezTo>
                    <a:pt x="86" y="547"/>
                    <a:pt x="96" y="547"/>
                    <a:pt x="99" y="546"/>
                  </a:cubicBezTo>
                  <a:cubicBezTo>
                    <a:pt x="103" y="545"/>
                    <a:pt x="102" y="545"/>
                    <a:pt x="104" y="542"/>
                  </a:cubicBezTo>
                  <a:cubicBezTo>
                    <a:pt x="106" y="539"/>
                    <a:pt x="105" y="532"/>
                    <a:pt x="111" y="528"/>
                  </a:cubicBezTo>
                  <a:cubicBezTo>
                    <a:pt x="117" y="524"/>
                    <a:pt x="131" y="520"/>
                    <a:pt x="139" y="520"/>
                  </a:cubicBezTo>
                  <a:cubicBezTo>
                    <a:pt x="146" y="520"/>
                    <a:pt x="152" y="526"/>
                    <a:pt x="156" y="529"/>
                  </a:cubicBezTo>
                  <a:cubicBezTo>
                    <a:pt x="160" y="533"/>
                    <a:pt x="162" y="539"/>
                    <a:pt x="162" y="542"/>
                  </a:cubicBezTo>
                  <a:cubicBezTo>
                    <a:pt x="163" y="546"/>
                    <a:pt x="163" y="550"/>
                    <a:pt x="160" y="552"/>
                  </a:cubicBezTo>
                  <a:cubicBezTo>
                    <a:pt x="157" y="554"/>
                    <a:pt x="149" y="557"/>
                    <a:pt x="144" y="557"/>
                  </a:cubicBezTo>
                  <a:cubicBezTo>
                    <a:pt x="140" y="556"/>
                    <a:pt x="135" y="549"/>
                    <a:pt x="131" y="548"/>
                  </a:cubicBezTo>
                  <a:cubicBezTo>
                    <a:pt x="127" y="546"/>
                    <a:pt x="123" y="547"/>
                    <a:pt x="121" y="548"/>
                  </a:cubicBezTo>
                  <a:cubicBezTo>
                    <a:pt x="119" y="549"/>
                    <a:pt x="119" y="552"/>
                    <a:pt x="121" y="554"/>
                  </a:cubicBezTo>
                  <a:cubicBezTo>
                    <a:pt x="122" y="557"/>
                    <a:pt x="128" y="561"/>
                    <a:pt x="129" y="564"/>
                  </a:cubicBezTo>
                  <a:cubicBezTo>
                    <a:pt x="130" y="567"/>
                    <a:pt x="127" y="570"/>
                    <a:pt x="127" y="575"/>
                  </a:cubicBezTo>
                  <a:cubicBezTo>
                    <a:pt x="127" y="579"/>
                    <a:pt x="129" y="586"/>
                    <a:pt x="129" y="591"/>
                  </a:cubicBezTo>
                  <a:cubicBezTo>
                    <a:pt x="129" y="597"/>
                    <a:pt x="131" y="603"/>
                    <a:pt x="129" y="607"/>
                  </a:cubicBezTo>
                  <a:cubicBezTo>
                    <a:pt x="127" y="611"/>
                    <a:pt x="122" y="612"/>
                    <a:pt x="119" y="615"/>
                  </a:cubicBezTo>
                  <a:cubicBezTo>
                    <a:pt x="118" y="619"/>
                    <a:pt x="119" y="626"/>
                    <a:pt x="119" y="631"/>
                  </a:cubicBezTo>
                  <a:cubicBezTo>
                    <a:pt x="118" y="636"/>
                    <a:pt x="119" y="639"/>
                    <a:pt x="116" y="645"/>
                  </a:cubicBezTo>
                  <a:cubicBezTo>
                    <a:pt x="113" y="651"/>
                    <a:pt x="102" y="655"/>
                    <a:pt x="97" y="660"/>
                  </a:cubicBezTo>
                  <a:cubicBezTo>
                    <a:pt x="92" y="665"/>
                    <a:pt x="86" y="672"/>
                    <a:pt x="86" y="674"/>
                  </a:cubicBezTo>
                  <a:cubicBezTo>
                    <a:pt x="87" y="676"/>
                    <a:pt x="96" y="673"/>
                    <a:pt x="103" y="673"/>
                  </a:cubicBezTo>
                  <a:cubicBezTo>
                    <a:pt x="110" y="673"/>
                    <a:pt x="120" y="676"/>
                    <a:pt x="130" y="673"/>
                  </a:cubicBezTo>
                  <a:cubicBezTo>
                    <a:pt x="140" y="670"/>
                    <a:pt x="151" y="666"/>
                    <a:pt x="160" y="661"/>
                  </a:cubicBezTo>
                  <a:cubicBezTo>
                    <a:pt x="168" y="656"/>
                    <a:pt x="194" y="656"/>
                    <a:pt x="199" y="651"/>
                  </a:cubicBezTo>
                  <a:cubicBezTo>
                    <a:pt x="205" y="645"/>
                    <a:pt x="185" y="634"/>
                    <a:pt x="186" y="627"/>
                  </a:cubicBezTo>
                  <a:cubicBezTo>
                    <a:pt x="187" y="621"/>
                    <a:pt x="200" y="614"/>
                    <a:pt x="206" y="612"/>
                  </a:cubicBezTo>
                  <a:cubicBezTo>
                    <a:pt x="211" y="610"/>
                    <a:pt x="216" y="613"/>
                    <a:pt x="221" y="614"/>
                  </a:cubicBezTo>
                  <a:cubicBezTo>
                    <a:pt x="225" y="616"/>
                    <a:pt x="228" y="618"/>
                    <a:pt x="233" y="622"/>
                  </a:cubicBezTo>
                  <a:cubicBezTo>
                    <a:pt x="237" y="626"/>
                    <a:pt x="244" y="635"/>
                    <a:pt x="248" y="638"/>
                  </a:cubicBezTo>
                  <a:cubicBezTo>
                    <a:pt x="252" y="640"/>
                    <a:pt x="254" y="638"/>
                    <a:pt x="256" y="636"/>
                  </a:cubicBezTo>
                  <a:cubicBezTo>
                    <a:pt x="258" y="634"/>
                    <a:pt x="259" y="628"/>
                    <a:pt x="261" y="624"/>
                  </a:cubicBezTo>
                  <a:cubicBezTo>
                    <a:pt x="263" y="621"/>
                    <a:pt x="265" y="617"/>
                    <a:pt x="267" y="614"/>
                  </a:cubicBezTo>
                  <a:cubicBezTo>
                    <a:pt x="269" y="611"/>
                    <a:pt x="271" y="611"/>
                    <a:pt x="275" y="608"/>
                  </a:cubicBezTo>
                  <a:cubicBezTo>
                    <a:pt x="279" y="605"/>
                    <a:pt x="285" y="599"/>
                    <a:pt x="289" y="595"/>
                  </a:cubicBezTo>
                  <a:cubicBezTo>
                    <a:pt x="293" y="590"/>
                    <a:pt x="296" y="585"/>
                    <a:pt x="299" y="580"/>
                  </a:cubicBezTo>
                  <a:cubicBezTo>
                    <a:pt x="302" y="576"/>
                    <a:pt x="304" y="570"/>
                    <a:pt x="307" y="565"/>
                  </a:cubicBezTo>
                  <a:cubicBezTo>
                    <a:pt x="310" y="560"/>
                    <a:pt x="314" y="557"/>
                    <a:pt x="316" y="551"/>
                  </a:cubicBezTo>
                  <a:cubicBezTo>
                    <a:pt x="318" y="545"/>
                    <a:pt x="317" y="535"/>
                    <a:pt x="319" y="528"/>
                  </a:cubicBezTo>
                  <a:cubicBezTo>
                    <a:pt x="321" y="522"/>
                    <a:pt x="325" y="517"/>
                    <a:pt x="329" y="511"/>
                  </a:cubicBezTo>
                  <a:cubicBezTo>
                    <a:pt x="332" y="505"/>
                    <a:pt x="338" y="499"/>
                    <a:pt x="342" y="491"/>
                  </a:cubicBezTo>
                  <a:cubicBezTo>
                    <a:pt x="346" y="483"/>
                    <a:pt x="350" y="470"/>
                    <a:pt x="354" y="463"/>
                  </a:cubicBezTo>
                  <a:cubicBezTo>
                    <a:pt x="357" y="456"/>
                    <a:pt x="358" y="455"/>
                    <a:pt x="362" y="450"/>
                  </a:cubicBezTo>
                  <a:cubicBezTo>
                    <a:pt x="365" y="444"/>
                    <a:pt x="371" y="437"/>
                    <a:pt x="375" y="432"/>
                  </a:cubicBezTo>
                  <a:cubicBezTo>
                    <a:pt x="379" y="427"/>
                    <a:pt x="382" y="421"/>
                    <a:pt x="386" y="418"/>
                  </a:cubicBezTo>
                  <a:cubicBezTo>
                    <a:pt x="389" y="414"/>
                    <a:pt x="390" y="413"/>
                    <a:pt x="394" y="412"/>
                  </a:cubicBezTo>
                  <a:cubicBezTo>
                    <a:pt x="398" y="410"/>
                    <a:pt x="405" y="412"/>
                    <a:pt x="407" y="408"/>
                  </a:cubicBezTo>
                  <a:cubicBezTo>
                    <a:pt x="409" y="405"/>
                    <a:pt x="408" y="395"/>
                    <a:pt x="408" y="390"/>
                  </a:cubicBezTo>
                  <a:cubicBezTo>
                    <a:pt x="408" y="385"/>
                    <a:pt x="403" y="381"/>
                    <a:pt x="407" y="378"/>
                  </a:cubicBezTo>
                  <a:cubicBezTo>
                    <a:pt x="411" y="376"/>
                    <a:pt x="425" y="379"/>
                    <a:pt x="431" y="377"/>
                  </a:cubicBezTo>
                  <a:cubicBezTo>
                    <a:pt x="437" y="375"/>
                    <a:pt x="438" y="371"/>
                    <a:pt x="443" y="368"/>
                  </a:cubicBezTo>
                  <a:cubicBezTo>
                    <a:pt x="447" y="365"/>
                    <a:pt x="453" y="361"/>
                    <a:pt x="457" y="359"/>
                  </a:cubicBezTo>
                  <a:cubicBezTo>
                    <a:pt x="461" y="357"/>
                    <a:pt x="462" y="358"/>
                    <a:pt x="464" y="356"/>
                  </a:cubicBezTo>
                  <a:cubicBezTo>
                    <a:pt x="466" y="354"/>
                    <a:pt x="470" y="350"/>
                    <a:pt x="471" y="347"/>
                  </a:cubicBezTo>
                  <a:cubicBezTo>
                    <a:pt x="472" y="345"/>
                    <a:pt x="468" y="343"/>
                    <a:pt x="471" y="342"/>
                  </a:cubicBezTo>
                  <a:cubicBezTo>
                    <a:pt x="475" y="340"/>
                    <a:pt x="488" y="342"/>
                    <a:pt x="491" y="340"/>
                  </a:cubicBezTo>
                  <a:cubicBezTo>
                    <a:pt x="494" y="339"/>
                    <a:pt x="492" y="333"/>
                    <a:pt x="489" y="331"/>
                  </a:cubicBezTo>
                  <a:cubicBezTo>
                    <a:pt x="486" y="329"/>
                    <a:pt x="476" y="330"/>
                    <a:pt x="471" y="328"/>
                  </a:cubicBezTo>
                  <a:cubicBezTo>
                    <a:pt x="467" y="327"/>
                    <a:pt x="463" y="324"/>
                    <a:pt x="462" y="321"/>
                  </a:cubicBezTo>
                  <a:cubicBezTo>
                    <a:pt x="461" y="318"/>
                    <a:pt x="461" y="313"/>
                    <a:pt x="464" y="309"/>
                  </a:cubicBezTo>
                  <a:cubicBezTo>
                    <a:pt x="467" y="306"/>
                    <a:pt x="477" y="305"/>
                    <a:pt x="481" y="302"/>
                  </a:cubicBezTo>
                  <a:cubicBezTo>
                    <a:pt x="484" y="300"/>
                    <a:pt x="487" y="298"/>
                    <a:pt x="487" y="295"/>
                  </a:cubicBezTo>
                  <a:cubicBezTo>
                    <a:pt x="486" y="292"/>
                    <a:pt x="481" y="288"/>
                    <a:pt x="480" y="283"/>
                  </a:cubicBezTo>
                  <a:cubicBezTo>
                    <a:pt x="477" y="279"/>
                    <a:pt x="477" y="274"/>
                    <a:pt x="475" y="270"/>
                  </a:cubicBezTo>
                  <a:cubicBezTo>
                    <a:pt x="473" y="267"/>
                    <a:pt x="468" y="266"/>
                    <a:pt x="468" y="263"/>
                  </a:cubicBezTo>
                  <a:cubicBezTo>
                    <a:pt x="467" y="260"/>
                    <a:pt x="472" y="258"/>
                    <a:pt x="474" y="253"/>
                  </a:cubicBezTo>
                  <a:cubicBezTo>
                    <a:pt x="475" y="249"/>
                    <a:pt x="479" y="241"/>
                    <a:pt x="478" y="236"/>
                  </a:cubicBezTo>
                  <a:cubicBezTo>
                    <a:pt x="477" y="231"/>
                    <a:pt x="469" y="229"/>
                    <a:pt x="468" y="225"/>
                  </a:cubicBezTo>
                  <a:cubicBezTo>
                    <a:pt x="466" y="221"/>
                    <a:pt x="471" y="215"/>
                    <a:pt x="468" y="211"/>
                  </a:cubicBezTo>
                  <a:cubicBezTo>
                    <a:pt x="464" y="206"/>
                    <a:pt x="449" y="202"/>
                    <a:pt x="445" y="198"/>
                  </a:cubicBezTo>
                  <a:cubicBezTo>
                    <a:pt x="441" y="194"/>
                    <a:pt x="440" y="189"/>
                    <a:pt x="441" y="188"/>
                  </a:cubicBezTo>
                  <a:cubicBezTo>
                    <a:pt x="443" y="186"/>
                    <a:pt x="452" y="187"/>
                    <a:pt x="454" y="185"/>
                  </a:cubicBezTo>
                  <a:cubicBezTo>
                    <a:pt x="456" y="183"/>
                    <a:pt x="457" y="179"/>
                    <a:pt x="460" y="179"/>
                  </a:cubicBezTo>
                  <a:cubicBezTo>
                    <a:pt x="463" y="178"/>
                    <a:pt x="468" y="182"/>
                    <a:pt x="471" y="180"/>
                  </a:cubicBezTo>
                  <a:cubicBezTo>
                    <a:pt x="473" y="179"/>
                    <a:pt x="477" y="173"/>
                    <a:pt x="477" y="168"/>
                  </a:cubicBezTo>
                  <a:cubicBezTo>
                    <a:pt x="478" y="163"/>
                    <a:pt x="475" y="156"/>
                    <a:pt x="474" y="151"/>
                  </a:cubicBezTo>
                  <a:cubicBezTo>
                    <a:pt x="472" y="146"/>
                    <a:pt x="469" y="142"/>
                    <a:pt x="468" y="138"/>
                  </a:cubicBezTo>
                  <a:cubicBezTo>
                    <a:pt x="466" y="135"/>
                    <a:pt x="468" y="134"/>
                    <a:pt x="464" y="131"/>
                  </a:cubicBezTo>
                  <a:cubicBezTo>
                    <a:pt x="460" y="129"/>
                    <a:pt x="449" y="124"/>
                    <a:pt x="444" y="123"/>
                  </a:cubicBezTo>
                  <a:cubicBezTo>
                    <a:pt x="438" y="123"/>
                    <a:pt x="434" y="128"/>
                    <a:pt x="431" y="130"/>
                  </a:cubicBezTo>
                  <a:cubicBezTo>
                    <a:pt x="429" y="132"/>
                    <a:pt x="430" y="134"/>
                    <a:pt x="428" y="137"/>
                  </a:cubicBezTo>
                  <a:cubicBezTo>
                    <a:pt x="426" y="139"/>
                    <a:pt x="422" y="142"/>
                    <a:pt x="418" y="143"/>
                  </a:cubicBezTo>
                  <a:cubicBezTo>
                    <a:pt x="413" y="144"/>
                    <a:pt x="406" y="144"/>
                    <a:pt x="400" y="141"/>
                  </a:cubicBezTo>
                  <a:cubicBezTo>
                    <a:pt x="394" y="138"/>
                    <a:pt x="389" y="129"/>
                    <a:pt x="384" y="125"/>
                  </a:cubicBezTo>
                  <a:cubicBezTo>
                    <a:pt x="379" y="120"/>
                    <a:pt x="374" y="119"/>
                    <a:pt x="370" y="116"/>
                  </a:cubicBezTo>
                  <a:cubicBezTo>
                    <a:pt x="367" y="113"/>
                    <a:pt x="367" y="110"/>
                    <a:pt x="364" y="106"/>
                  </a:cubicBezTo>
                  <a:cubicBezTo>
                    <a:pt x="362" y="103"/>
                    <a:pt x="357" y="100"/>
                    <a:pt x="355" y="94"/>
                  </a:cubicBezTo>
                  <a:cubicBezTo>
                    <a:pt x="352" y="89"/>
                    <a:pt x="351" y="71"/>
                    <a:pt x="350" y="6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796"/>
            <p:cNvSpPr/>
            <p:nvPr/>
          </p:nvSpPr>
          <p:spPr>
            <a:xfrm>
              <a:off x="3820680" y="3857040"/>
              <a:ext cx="161280" cy="143280"/>
            </a:xfrm>
            <a:custGeom>
              <a:avLst/>
              <a:gdLst/>
              <a:ahLst/>
              <a:rect l="l" t="t" r="r" b="b"/>
              <a:pathLst>
                <a:path w="96" h="85">
                  <a:moveTo>
                    <a:pt x="92" y="3"/>
                  </a:moveTo>
                  <a:cubicBezTo>
                    <a:pt x="88" y="0"/>
                    <a:pt x="69" y="1"/>
                    <a:pt x="61" y="3"/>
                  </a:cubicBezTo>
                  <a:cubicBezTo>
                    <a:pt x="53" y="5"/>
                    <a:pt x="48" y="11"/>
                    <a:pt x="45" y="16"/>
                  </a:cubicBezTo>
                  <a:cubicBezTo>
                    <a:pt x="42" y="22"/>
                    <a:pt x="43" y="32"/>
                    <a:pt x="41" y="37"/>
                  </a:cubicBezTo>
                  <a:cubicBezTo>
                    <a:pt x="39" y="42"/>
                    <a:pt x="36" y="46"/>
                    <a:pt x="32" y="49"/>
                  </a:cubicBezTo>
                  <a:cubicBezTo>
                    <a:pt x="28" y="52"/>
                    <a:pt x="19" y="50"/>
                    <a:pt x="15" y="53"/>
                  </a:cubicBezTo>
                  <a:cubicBezTo>
                    <a:pt x="10" y="56"/>
                    <a:pt x="7" y="62"/>
                    <a:pt x="5" y="67"/>
                  </a:cubicBezTo>
                  <a:cubicBezTo>
                    <a:pt x="3" y="72"/>
                    <a:pt x="0" y="81"/>
                    <a:pt x="1" y="83"/>
                  </a:cubicBezTo>
                  <a:cubicBezTo>
                    <a:pt x="3" y="85"/>
                    <a:pt x="9" y="80"/>
                    <a:pt x="13" y="78"/>
                  </a:cubicBezTo>
                  <a:cubicBezTo>
                    <a:pt x="18" y="77"/>
                    <a:pt x="20" y="76"/>
                    <a:pt x="26" y="75"/>
                  </a:cubicBezTo>
                  <a:cubicBezTo>
                    <a:pt x="31" y="74"/>
                    <a:pt x="40" y="75"/>
                    <a:pt x="48" y="73"/>
                  </a:cubicBezTo>
                  <a:cubicBezTo>
                    <a:pt x="56" y="71"/>
                    <a:pt x="68" y="66"/>
                    <a:pt x="75" y="63"/>
                  </a:cubicBezTo>
                  <a:cubicBezTo>
                    <a:pt x="81" y="60"/>
                    <a:pt x="84" y="56"/>
                    <a:pt x="86" y="52"/>
                  </a:cubicBezTo>
                  <a:cubicBezTo>
                    <a:pt x="88" y="49"/>
                    <a:pt x="87" y="45"/>
                    <a:pt x="87" y="41"/>
                  </a:cubicBezTo>
                  <a:cubicBezTo>
                    <a:pt x="86" y="36"/>
                    <a:pt x="85" y="31"/>
                    <a:pt x="85" y="25"/>
                  </a:cubicBezTo>
                  <a:cubicBezTo>
                    <a:pt x="86" y="18"/>
                    <a:pt x="96" y="7"/>
                    <a:pt x="92" y="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797"/>
            <p:cNvSpPr/>
            <p:nvPr/>
          </p:nvSpPr>
          <p:spPr>
            <a:xfrm>
              <a:off x="4923360" y="2934360"/>
              <a:ext cx="164880" cy="198000"/>
            </a:xfrm>
            <a:custGeom>
              <a:avLst/>
              <a:gdLst/>
              <a:ahLst/>
              <a:rect l="l" t="t" r="r" b="b"/>
              <a:pathLst>
                <a:path w="98" h="118">
                  <a:moveTo>
                    <a:pt x="69" y="9"/>
                  </a:moveTo>
                  <a:cubicBezTo>
                    <a:pt x="64" y="13"/>
                    <a:pt x="59" y="21"/>
                    <a:pt x="54" y="25"/>
                  </a:cubicBezTo>
                  <a:cubicBezTo>
                    <a:pt x="49" y="29"/>
                    <a:pt x="45" y="31"/>
                    <a:pt x="40" y="34"/>
                  </a:cubicBezTo>
                  <a:cubicBezTo>
                    <a:pt x="35" y="37"/>
                    <a:pt x="29" y="39"/>
                    <a:pt x="25" y="41"/>
                  </a:cubicBezTo>
                  <a:cubicBezTo>
                    <a:pt x="22" y="43"/>
                    <a:pt x="21" y="45"/>
                    <a:pt x="18" y="48"/>
                  </a:cubicBezTo>
                  <a:cubicBezTo>
                    <a:pt x="15" y="51"/>
                    <a:pt x="9" y="55"/>
                    <a:pt x="7" y="58"/>
                  </a:cubicBezTo>
                  <a:cubicBezTo>
                    <a:pt x="5" y="62"/>
                    <a:pt x="4" y="64"/>
                    <a:pt x="5" y="68"/>
                  </a:cubicBezTo>
                  <a:cubicBezTo>
                    <a:pt x="6" y="71"/>
                    <a:pt x="8" y="76"/>
                    <a:pt x="12" y="79"/>
                  </a:cubicBezTo>
                  <a:cubicBezTo>
                    <a:pt x="16" y="82"/>
                    <a:pt x="27" y="83"/>
                    <a:pt x="28" y="86"/>
                  </a:cubicBezTo>
                  <a:cubicBezTo>
                    <a:pt x="30" y="89"/>
                    <a:pt x="23" y="93"/>
                    <a:pt x="20" y="96"/>
                  </a:cubicBezTo>
                  <a:cubicBezTo>
                    <a:pt x="17" y="100"/>
                    <a:pt x="14" y="104"/>
                    <a:pt x="11" y="106"/>
                  </a:cubicBezTo>
                  <a:cubicBezTo>
                    <a:pt x="7" y="109"/>
                    <a:pt x="2" y="109"/>
                    <a:pt x="1" y="110"/>
                  </a:cubicBezTo>
                  <a:cubicBezTo>
                    <a:pt x="0" y="112"/>
                    <a:pt x="2" y="114"/>
                    <a:pt x="4" y="115"/>
                  </a:cubicBezTo>
                  <a:cubicBezTo>
                    <a:pt x="6" y="117"/>
                    <a:pt x="8" y="118"/>
                    <a:pt x="12" y="118"/>
                  </a:cubicBezTo>
                  <a:cubicBezTo>
                    <a:pt x="17" y="118"/>
                    <a:pt x="25" y="118"/>
                    <a:pt x="31" y="116"/>
                  </a:cubicBezTo>
                  <a:cubicBezTo>
                    <a:pt x="37" y="115"/>
                    <a:pt x="44" y="111"/>
                    <a:pt x="49" y="109"/>
                  </a:cubicBezTo>
                  <a:cubicBezTo>
                    <a:pt x="54" y="107"/>
                    <a:pt x="58" y="107"/>
                    <a:pt x="61" y="105"/>
                  </a:cubicBezTo>
                  <a:cubicBezTo>
                    <a:pt x="64" y="103"/>
                    <a:pt x="64" y="100"/>
                    <a:pt x="68" y="97"/>
                  </a:cubicBezTo>
                  <a:cubicBezTo>
                    <a:pt x="72" y="94"/>
                    <a:pt x="80" y="91"/>
                    <a:pt x="84" y="88"/>
                  </a:cubicBezTo>
                  <a:cubicBezTo>
                    <a:pt x="89" y="86"/>
                    <a:pt x="94" y="84"/>
                    <a:pt x="96" y="81"/>
                  </a:cubicBezTo>
                  <a:cubicBezTo>
                    <a:pt x="98" y="79"/>
                    <a:pt x="97" y="77"/>
                    <a:pt x="97" y="74"/>
                  </a:cubicBezTo>
                  <a:cubicBezTo>
                    <a:pt x="97" y="71"/>
                    <a:pt x="98" y="66"/>
                    <a:pt x="97" y="64"/>
                  </a:cubicBezTo>
                  <a:cubicBezTo>
                    <a:pt x="96" y="62"/>
                    <a:pt x="94" y="62"/>
                    <a:pt x="92" y="61"/>
                  </a:cubicBezTo>
                  <a:cubicBezTo>
                    <a:pt x="90" y="60"/>
                    <a:pt x="87" y="60"/>
                    <a:pt x="84" y="59"/>
                  </a:cubicBezTo>
                  <a:cubicBezTo>
                    <a:pt x="81" y="58"/>
                    <a:pt x="76" y="58"/>
                    <a:pt x="74" y="56"/>
                  </a:cubicBezTo>
                  <a:cubicBezTo>
                    <a:pt x="72" y="54"/>
                    <a:pt x="72" y="49"/>
                    <a:pt x="72" y="46"/>
                  </a:cubicBezTo>
                  <a:cubicBezTo>
                    <a:pt x="71" y="43"/>
                    <a:pt x="71" y="41"/>
                    <a:pt x="72" y="39"/>
                  </a:cubicBezTo>
                  <a:cubicBezTo>
                    <a:pt x="73" y="37"/>
                    <a:pt x="75" y="35"/>
                    <a:pt x="78" y="33"/>
                  </a:cubicBezTo>
                  <a:cubicBezTo>
                    <a:pt x="80" y="31"/>
                    <a:pt x="84" y="29"/>
                    <a:pt x="87" y="27"/>
                  </a:cubicBezTo>
                  <a:cubicBezTo>
                    <a:pt x="90" y="24"/>
                    <a:pt x="92" y="22"/>
                    <a:pt x="94" y="19"/>
                  </a:cubicBezTo>
                  <a:cubicBezTo>
                    <a:pt x="95" y="16"/>
                    <a:pt x="97" y="12"/>
                    <a:pt x="97" y="9"/>
                  </a:cubicBezTo>
                  <a:cubicBezTo>
                    <a:pt x="97" y="6"/>
                    <a:pt x="94" y="5"/>
                    <a:pt x="92" y="3"/>
                  </a:cubicBezTo>
                  <a:cubicBezTo>
                    <a:pt x="91" y="1"/>
                    <a:pt x="89" y="0"/>
                    <a:pt x="85" y="1"/>
                  </a:cubicBezTo>
                  <a:cubicBezTo>
                    <a:pt x="82" y="2"/>
                    <a:pt x="75" y="5"/>
                    <a:pt x="69" y="9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900"/>
            <p:cNvSpPr/>
            <p:nvPr/>
          </p:nvSpPr>
          <p:spPr>
            <a:xfrm>
              <a:off x="5095080" y="3178440"/>
              <a:ext cx="192960" cy="808920"/>
            </a:xfrm>
            <a:custGeom>
              <a:avLst/>
              <a:gdLst/>
              <a:ahLst/>
              <a:rect l="l" t="t" r="r" b="b"/>
              <a:pathLst>
                <a:path w="115" h="481">
                  <a:moveTo>
                    <a:pt x="88" y="0"/>
                  </a:moveTo>
                  <a:cubicBezTo>
                    <a:pt x="79" y="15"/>
                    <a:pt x="44" y="57"/>
                    <a:pt x="30" y="91"/>
                  </a:cubicBezTo>
                  <a:cubicBezTo>
                    <a:pt x="16" y="125"/>
                    <a:pt x="3" y="167"/>
                    <a:pt x="1" y="207"/>
                  </a:cubicBezTo>
                  <a:cubicBezTo>
                    <a:pt x="0" y="246"/>
                    <a:pt x="5" y="289"/>
                    <a:pt x="21" y="329"/>
                  </a:cubicBezTo>
                  <a:cubicBezTo>
                    <a:pt x="38" y="369"/>
                    <a:pt x="82" y="420"/>
                    <a:pt x="97" y="445"/>
                  </a:cubicBezTo>
                  <a:cubicBezTo>
                    <a:pt x="113" y="470"/>
                    <a:pt x="112" y="474"/>
                    <a:pt x="115" y="48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Oval 904"/>
            <p:cNvSpPr/>
            <p:nvPr/>
          </p:nvSpPr>
          <p:spPr>
            <a:xfrm>
              <a:off x="5120280" y="3754080"/>
              <a:ext cx="6732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901"/>
            <p:cNvSpPr/>
            <p:nvPr/>
          </p:nvSpPr>
          <p:spPr>
            <a:xfrm>
              <a:off x="5085000" y="3168360"/>
              <a:ext cx="219600" cy="824400"/>
            </a:xfrm>
            <a:custGeom>
              <a:avLst/>
              <a:gdLst/>
              <a:ahLst/>
              <a:rect l="l" t="t" r="r" b="b"/>
              <a:pathLst>
                <a:path w="131" h="490">
                  <a:moveTo>
                    <a:pt x="104" y="11"/>
                  </a:moveTo>
                  <a:lnTo>
                    <a:pt x="102" y="14"/>
                  </a:lnTo>
                  <a:lnTo>
                    <a:pt x="99" y="18"/>
                  </a:lnTo>
                  <a:lnTo>
                    <a:pt x="96" y="22"/>
                  </a:lnTo>
                  <a:lnTo>
                    <a:pt x="92" y="27"/>
                  </a:lnTo>
                  <a:lnTo>
                    <a:pt x="89" y="32"/>
                  </a:lnTo>
                  <a:lnTo>
                    <a:pt x="85" y="37"/>
                  </a:lnTo>
                  <a:lnTo>
                    <a:pt x="80" y="43"/>
                  </a:lnTo>
                  <a:lnTo>
                    <a:pt x="76" y="49"/>
                  </a:lnTo>
                  <a:lnTo>
                    <a:pt x="67" y="62"/>
                  </a:lnTo>
                  <a:lnTo>
                    <a:pt x="61" y="73"/>
                  </a:lnTo>
                  <a:lnTo>
                    <a:pt x="44" y="63"/>
                  </a:lnTo>
                  <a:lnTo>
                    <a:pt x="52" y="51"/>
                  </a:lnTo>
                  <a:lnTo>
                    <a:pt x="61" y="38"/>
                  </a:lnTo>
                  <a:lnTo>
                    <a:pt x="65" y="32"/>
                  </a:lnTo>
                  <a:lnTo>
                    <a:pt x="69" y="26"/>
                  </a:lnTo>
                  <a:lnTo>
                    <a:pt x="73" y="21"/>
                  </a:lnTo>
                  <a:lnTo>
                    <a:pt x="77" y="16"/>
                  </a:lnTo>
                  <a:lnTo>
                    <a:pt x="80" y="11"/>
                  </a:lnTo>
                  <a:lnTo>
                    <a:pt x="83" y="7"/>
                  </a:lnTo>
                  <a:lnTo>
                    <a:pt x="86" y="3"/>
                  </a:lnTo>
                  <a:lnTo>
                    <a:pt x="88" y="0"/>
                  </a:lnTo>
                  <a:lnTo>
                    <a:pt x="104" y="11"/>
                  </a:lnTo>
                  <a:close/>
                  <a:moveTo>
                    <a:pt x="38" y="123"/>
                  </a:moveTo>
                  <a:lnTo>
                    <a:pt x="36" y="126"/>
                  </a:lnTo>
                  <a:lnTo>
                    <a:pt x="32" y="140"/>
                  </a:lnTo>
                  <a:lnTo>
                    <a:pt x="27" y="155"/>
                  </a:lnTo>
                  <a:lnTo>
                    <a:pt x="24" y="169"/>
                  </a:lnTo>
                  <a:lnTo>
                    <a:pt x="21" y="184"/>
                  </a:lnTo>
                  <a:lnTo>
                    <a:pt x="20" y="194"/>
                  </a:lnTo>
                  <a:lnTo>
                    <a:pt x="1" y="192"/>
                  </a:lnTo>
                  <a:lnTo>
                    <a:pt x="2" y="180"/>
                  </a:lnTo>
                  <a:lnTo>
                    <a:pt x="5" y="165"/>
                  </a:lnTo>
                  <a:lnTo>
                    <a:pt x="9" y="149"/>
                  </a:lnTo>
                  <a:lnTo>
                    <a:pt x="13" y="134"/>
                  </a:lnTo>
                  <a:lnTo>
                    <a:pt x="18" y="120"/>
                  </a:lnTo>
                  <a:lnTo>
                    <a:pt x="20" y="116"/>
                  </a:lnTo>
                  <a:lnTo>
                    <a:pt x="38" y="123"/>
                  </a:lnTo>
                  <a:close/>
                  <a:moveTo>
                    <a:pt x="19" y="249"/>
                  </a:moveTo>
                  <a:lnTo>
                    <a:pt x="19" y="257"/>
                  </a:lnTo>
                  <a:lnTo>
                    <a:pt x="21" y="272"/>
                  </a:lnTo>
                  <a:lnTo>
                    <a:pt x="24" y="287"/>
                  </a:lnTo>
                  <a:lnTo>
                    <a:pt x="28" y="302"/>
                  </a:lnTo>
                  <a:lnTo>
                    <a:pt x="32" y="317"/>
                  </a:lnTo>
                  <a:lnTo>
                    <a:pt x="34" y="321"/>
                  </a:lnTo>
                  <a:lnTo>
                    <a:pt x="16" y="327"/>
                  </a:lnTo>
                  <a:lnTo>
                    <a:pt x="14" y="322"/>
                  </a:lnTo>
                  <a:lnTo>
                    <a:pt x="9" y="306"/>
                  </a:lnTo>
                  <a:lnTo>
                    <a:pt x="5" y="290"/>
                  </a:lnTo>
                  <a:lnTo>
                    <a:pt x="2" y="274"/>
                  </a:lnTo>
                  <a:lnTo>
                    <a:pt x="0" y="258"/>
                  </a:lnTo>
                  <a:lnTo>
                    <a:pt x="0" y="251"/>
                  </a:lnTo>
                  <a:lnTo>
                    <a:pt x="19" y="249"/>
                  </a:lnTo>
                  <a:close/>
                  <a:moveTo>
                    <a:pt x="59" y="369"/>
                  </a:moveTo>
                  <a:lnTo>
                    <a:pt x="64" y="377"/>
                  </a:lnTo>
                  <a:lnTo>
                    <a:pt x="75" y="393"/>
                  </a:lnTo>
                  <a:lnTo>
                    <a:pt x="86" y="408"/>
                  </a:lnTo>
                  <a:lnTo>
                    <a:pt x="91" y="415"/>
                  </a:lnTo>
                  <a:lnTo>
                    <a:pt x="96" y="422"/>
                  </a:lnTo>
                  <a:lnTo>
                    <a:pt x="101" y="428"/>
                  </a:lnTo>
                  <a:lnTo>
                    <a:pt x="103" y="431"/>
                  </a:lnTo>
                  <a:lnTo>
                    <a:pt x="87" y="442"/>
                  </a:lnTo>
                  <a:lnTo>
                    <a:pt x="86" y="439"/>
                  </a:lnTo>
                  <a:lnTo>
                    <a:pt x="81" y="433"/>
                  </a:lnTo>
                  <a:lnTo>
                    <a:pt x="76" y="426"/>
                  </a:lnTo>
                  <a:lnTo>
                    <a:pt x="70" y="419"/>
                  </a:lnTo>
                  <a:lnTo>
                    <a:pt x="59" y="404"/>
                  </a:lnTo>
                  <a:lnTo>
                    <a:pt x="48" y="387"/>
                  </a:lnTo>
                  <a:lnTo>
                    <a:pt x="43" y="380"/>
                  </a:lnTo>
                  <a:lnTo>
                    <a:pt x="59" y="369"/>
                  </a:lnTo>
                  <a:close/>
                  <a:moveTo>
                    <a:pt x="131" y="482"/>
                  </a:moveTo>
                  <a:lnTo>
                    <a:pt x="131" y="483"/>
                  </a:lnTo>
                  <a:lnTo>
                    <a:pt x="114" y="490"/>
                  </a:lnTo>
                  <a:lnTo>
                    <a:pt x="131" y="4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Oval 903"/>
            <p:cNvSpPr/>
            <p:nvPr/>
          </p:nvSpPr>
          <p:spPr>
            <a:xfrm>
              <a:off x="5218200" y="3153240"/>
              <a:ext cx="66960" cy="6588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Oval 905"/>
            <p:cNvSpPr/>
            <p:nvPr/>
          </p:nvSpPr>
          <p:spPr>
            <a:xfrm>
              <a:off x="5120280" y="3754080"/>
              <a:ext cx="67320" cy="6840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Oval 906"/>
            <p:cNvSpPr/>
            <p:nvPr/>
          </p:nvSpPr>
          <p:spPr>
            <a:xfrm>
              <a:off x="5268960" y="3957120"/>
              <a:ext cx="6588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840"/>
            <p:cNvSpPr/>
            <p:nvPr/>
          </p:nvSpPr>
          <p:spPr>
            <a:xfrm>
              <a:off x="4163760" y="3426120"/>
              <a:ext cx="675720" cy="216000"/>
            </a:xfrm>
            <a:custGeom>
              <a:avLst/>
              <a:gdLst/>
              <a:ahLst/>
              <a:rect l="l" t="t" r="r" b="b"/>
              <a:pathLst>
                <a:path w="402" h="128">
                  <a:moveTo>
                    <a:pt x="349" y="128"/>
                  </a:moveTo>
                  <a:cubicBezTo>
                    <a:pt x="351" y="119"/>
                    <a:pt x="352" y="88"/>
                    <a:pt x="358" y="76"/>
                  </a:cubicBezTo>
                  <a:cubicBezTo>
                    <a:pt x="364" y="65"/>
                    <a:pt x="378" y="63"/>
                    <a:pt x="386" y="57"/>
                  </a:cubicBezTo>
                  <a:cubicBezTo>
                    <a:pt x="392" y="52"/>
                    <a:pt x="399" y="49"/>
                    <a:pt x="401" y="41"/>
                  </a:cubicBezTo>
                  <a:cubicBezTo>
                    <a:pt x="402" y="34"/>
                    <a:pt x="401" y="18"/>
                    <a:pt x="395" y="12"/>
                  </a:cubicBezTo>
                  <a:cubicBezTo>
                    <a:pt x="388" y="5"/>
                    <a:pt x="378" y="0"/>
                    <a:pt x="361" y="1"/>
                  </a:cubicBezTo>
                  <a:cubicBezTo>
                    <a:pt x="345" y="2"/>
                    <a:pt x="332" y="10"/>
                    <a:pt x="295" y="17"/>
                  </a:cubicBezTo>
                  <a:cubicBezTo>
                    <a:pt x="257" y="24"/>
                    <a:pt x="214" y="34"/>
                    <a:pt x="173" y="41"/>
                  </a:cubicBezTo>
                  <a:cubicBezTo>
                    <a:pt x="133" y="48"/>
                    <a:pt x="76" y="50"/>
                    <a:pt x="53" y="57"/>
                  </a:cubicBezTo>
                  <a:cubicBezTo>
                    <a:pt x="4" y="68"/>
                    <a:pt x="9" y="81"/>
                    <a:pt x="0" y="84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841"/>
            <p:cNvSpPr/>
            <p:nvPr/>
          </p:nvSpPr>
          <p:spPr>
            <a:xfrm>
              <a:off x="4745520" y="3625560"/>
              <a:ext cx="403920" cy="165240"/>
            </a:xfrm>
            <a:custGeom>
              <a:avLst/>
              <a:gdLst/>
              <a:ahLst/>
              <a:rect l="l" t="t" r="r" b="b"/>
              <a:pathLst>
                <a:path w="240" h="99">
                  <a:moveTo>
                    <a:pt x="0" y="0"/>
                  </a:moveTo>
                  <a:cubicBezTo>
                    <a:pt x="6" y="21"/>
                    <a:pt x="11" y="41"/>
                    <a:pt x="28" y="54"/>
                  </a:cubicBezTo>
                  <a:cubicBezTo>
                    <a:pt x="44" y="68"/>
                    <a:pt x="77" y="72"/>
                    <a:pt x="102" y="79"/>
                  </a:cubicBezTo>
                  <a:cubicBezTo>
                    <a:pt x="127" y="85"/>
                    <a:pt x="154" y="87"/>
                    <a:pt x="177" y="91"/>
                  </a:cubicBezTo>
                  <a:cubicBezTo>
                    <a:pt x="200" y="94"/>
                    <a:pt x="220" y="96"/>
                    <a:pt x="240" y="99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Oval 874"/>
            <p:cNvSpPr/>
            <p:nvPr/>
          </p:nvSpPr>
          <p:spPr>
            <a:xfrm>
              <a:off x="4217040" y="3489480"/>
              <a:ext cx="65880" cy="66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Oval 875"/>
            <p:cNvSpPr/>
            <p:nvPr/>
          </p:nvSpPr>
          <p:spPr>
            <a:xfrm>
              <a:off x="4217040" y="3489480"/>
              <a:ext cx="65880" cy="66240"/>
            </a:xfrm>
            <a:prstGeom prst="ellipse">
              <a:avLst/>
            </a:prstGeom>
            <a:noFill/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876"/>
            <p:cNvSpPr/>
            <p:nvPr/>
          </p:nvSpPr>
          <p:spPr>
            <a:xfrm>
              <a:off x="4128120" y="3522600"/>
              <a:ext cx="66240" cy="6480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38"/>
                  </a:moveTo>
                  <a:lnTo>
                    <a:pt x="19" y="0"/>
                  </a:lnTo>
                  <a:lnTo>
                    <a:pt x="39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Freeform 877"/>
            <p:cNvSpPr/>
            <p:nvPr/>
          </p:nvSpPr>
          <p:spPr>
            <a:xfrm>
              <a:off x="4128120" y="3522600"/>
              <a:ext cx="66240" cy="6480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38"/>
                  </a:moveTo>
                  <a:lnTo>
                    <a:pt x="19" y="0"/>
                  </a:lnTo>
                  <a:lnTo>
                    <a:pt x="39" y="38"/>
                  </a:lnTo>
                  <a:lnTo>
                    <a:pt x="0" y="38"/>
                  </a:lnTo>
                  <a:close/>
                </a:path>
              </a:pathLst>
            </a:custGeom>
            <a:noFill/>
            <a:ln cap="sq"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Oval 1060"/>
            <p:cNvSpPr/>
            <p:nvPr/>
          </p:nvSpPr>
          <p:spPr>
            <a:xfrm>
              <a:off x="4717440" y="3577680"/>
              <a:ext cx="67320" cy="64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Freeform 908"/>
            <p:cNvSpPr/>
            <p:nvPr/>
          </p:nvSpPr>
          <p:spPr>
            <a:xfrm>
              <a:off x="6089760" y="1139400"/>
              <a:ext cx="502920" cy="495360"/>
            </a:xfrm>
            <a:custGeom>
              <a:avLst/>
              <a:gdLst/>
              <a:ahLst/>
              <a:rect l="l" t="t" r="r" b="b"/>
              <a:pathLst>
                <a:path w="300" h="294">
                  <a:moveTo>
                    <a:pt x="300" y="10"/>
                  </a:moveTo>
                  <a:cubicBezTo>
                    <a:pt x="290" y="8"/>
                    <a:pt x="268" y="0"/>
                    <a:pt x="241" y="3"/>
                  </a:cubicBezTo>
                  <a:cubicBezTo>
                    <a:pt x="214" y="5"/>
                    <a:pt x="166" y="15"/>
                    <a:pt x="138" y="24"/>
                  </a:cubicBezTo>
                  <a:cubicBezTo>
                    <a:pt x="110" y="33"/>
                    <a:pt x="92" y="36"/>
                    <a:pt x="71" y="55"/>
                  </a:cubicBezTo>
                  <a:cubicBezTo>
                    <a:pt x="49" y="74"/>
                    <a:pt x="20" y="114"/>
                    <a:pt x="10" y="141"/>
                  </a:cubicBezTo>
                  <a:cubicBezTo>
                    <a:pt x="0" y="167"/>
                    <a:pt x="5" y="192"/>
                    <a:pt x="12" y="214"/>
                  </a:cubicBezTo>
                  <a:cubicBezTo>
                    <a:pt x="19" y="236"/>
                    <a:pt x="47" y="258"/>
                    <a:pt x="54" y="271"/>
                  </a:cubicBezTo>
                  <a:cubicBezTo>
                    <a:pt x="62" y="285"/>
                    <a:pt x="57" y="291"/>
                    <a:pt x="57" y="294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Freeform 1099"/>
            <p:cNvSpPr/>
            <p:nvPr/>
          </p:nvSpPr>
          <p:spPr>
            <a:xfrm>
              <a:off x="6576120" y="1120680"/>
              <a:ext cx="65880" cy="662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0" y="19"/>
                  </a:move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39" y="9"/>
                    <a:pt x="39" y="19"/>
                  </a:cubicBezTo>
                  <a:cubicBezTo>
                    <a:pt x="39" y="31"/>
                    <a:pt x="31" y="39"/>
                    <a:pt x="20" y="39"/>
                  </a:cubicBezTo>
                  <a:cubicBezTo>
                    <a:pt x="9" y="39"/>
                    <a:pt x="0" y="31"/>
                    <a:pt x="0" y="19"/>
                  </a:cubicBez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Freeform 850"/>
            <p:cNvSpPr/>
            <p:nvPr/>
          </p:nvSpPr>
          <p:spPr>
            <a:xfrm>
              <a:off x="6045480" y="1612440"/>
              <a:ext cx="164880" cy="461160"/>
            </a:xfrm>
            <a:custGeom>
              <a:avLst/>
              <a:gdLst/>
              <a:ahLst/>
              <a:rect l="l" t="t" r="r" b="b"/>
              <a:pathLst>
                <a:path w="508" h="1444">
                  <a:moveTo>
                    <a:pt x="508" y="0"/>
                  </a:moveTo>
                  <a:cubicBezTo>
                    <a:pt x="442" y="33"/>
                    <a:pt x="198" y="93"/>
                    <a:pt x="114" y="215"/>
                  </a:cubicBezTo>
                  <a:cubicBezTo>
                    <a:pt x="35" y="329"/>
                    <a:pt x="7" y="565"/>
                    <a:pt x="4" y="730"/>
                  </a:cubicBezTo>
                  <a:cubicBezTo>
                    <a:pt x="0" y="894"/>
                    <a:pt x="78" y="1090"/>
                    <a:pt x="98" y="1201"/>
                  </a:cubicBezTo>
                  <a:lnTo>
                    <a:pt x="193" y="1444"/>
                  </a:ln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Oval 947"/>
            <p:cNvSpPr/>
            <p:nvPr/>
          </p:nvSpPr>
          <p:spPr>
            <a:xfrm>
              <a:off x="6154560" y="1577880"/>
              <a:ext cx="6336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Freeform 293"/>
            <p:cNvSpPr/>
            <p:nvPr/>
          </p:nvSpPr>
          <p:spPr>
            <a:xfrm>
              <a:off x="3644280" y="3844080"/>
              <a:ext cx="289800" cy="325080"/>
            </a:xfrm>
            <a:custGeom>
              <a:avLst/>
              <a:gdLst/>
              <a:ahLst/>
              <a:rect l="l" t="t" r="r" b="b"/>
              <a:pathLst>
                <a:path w="176" h="197">
                  <a:moveTo>
                    <a:pt x="176" y="0"/>
                  </a:moveTo>
                  <a:cubicBezTo>
                    <a:pt x="158" y="3"/>
                    <a:pt x="140" y="6"/>
                    <a:pt x="130" y="22"/>
                  </a:cubicBezTo>
                  <a:cubicBezTo>
                    <a:pt x="120" y="38"/>
                    <a:pt x="120" y="77"/>
                    <a:pt x="119" y="97"/>
                  </a:cubicBezTo>
                  <a:cubicBezTo>
                    <a:pt x="118" y="117"/>
                    <a:pt x="128" y="126"/>
                    <a:pt x="121" y="142"/>
                  </a:cubicBezTo>
                  <a:cubicBezTo>
                    <a:pt x="114" y="158"/>
                    <a:pt x="97" y="187"/>
                    <a:pt x="77" y="192"/>
                  </a:cubicBezTo>
                  <a:cubicBezTo>
                    <a:pt x="57" y="197"/>
                    <a:pt x="13" y="178"/>
                    <a:pt x="0" y="175"/>
                  </a:cubicBez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Freeform 844"/>
            <p:cNvSpPr/>
            <p:nvPr/>
          </p:nvSpPr>
          <p:spPr>
            <a:xfrm>
              <a:off x="1743480" y="3976200"/>
              <a:ext cx="59400" cy="376200"/>
            </a:xfrm>
            <a:custGeom>
              <a:avLst/>
              <a:gdLst/>
              <a:ahLst/>
              <a:rect l="l" t="t" r="r" b="b"/>
              <a:pathLst>
                <a:path w="35" h="224">
                  <a:moveTo>
                    <a:pt x="35" y="0"/>
                  </a:moveTo>
                  <a:cubicBezTo>
                    <a:pt x="34" y="8"/>
                    <a:pt x="27" y="29"/>
                    <a:pt x="24" y="48"/>
                  </a:cubicBezTo>
                  <a:cubicBezTo>
                    <a:pt x="20" y="68"/>
                    <a:pt x="15" y="97"/>
                    <a:pt x="15" y="118"/>
                  </a:cubicBezTo>
                  <a:cubicBezTo>
                    <a:pt x="15" y="138"/>
                    <a:pt x="26" y="156"/>
                    <a:pt x="24" y="174"/>
                  </a:cubicBezTo>
                  <a:cubicBezTo>
                    <a:pt x="21" y="192"/>
                    <a:pt x="5" y="214"/>
                    <a:pt x="0" y="224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Freeform 814"/>
            <p:cNvSpPr/>
            <p:nvPr/>
          </p:nvSpPr>
          <p:spPr>
            <a:xfrm>
              <a:off x="1569600" y="4372560"/>
              <a:ext cx="182880" cy="336600"/>
            </a:xfrm>
            <a:custGeom>
              <a:avLst/>
              <a:gdLst/>
              <a:ahLst/>
              <a:rect l="l" t="t" r="r" b="b"/>
              <a:pathLst>
                <a:path w="109" h="200">
                  <a:moveTo>
                    <a:pt x="109" y="0"/>
                  </a:moveTo>
                  <a:cubicBezTo>
                    <a:pt x="105" y="4"/>
                    <a:pt x="88" y="21"/>
                    <a:pt x="79" y="32"/>
                  </a:cubicBezTo>
                  <a:cubicBezTo>
                    <a:pt x="69" y="42"/>
                    <a:pt x="65" y="47"/>
                    <a:pt x="53" y="61"/>
                  </a:cubicBezTo>
                  <a:cubicBezTo>
                    <a:pt x="41" y="76"/>
                    <a:pt x="16" y="99"/>
                    <a:pt x="8" y="117"/>
                  </a:cubicBezTo>
                  <a:cubicBezTo>
                    <a:pt x="0" y="135"/>
                    <a:pt x="8" y="155"/>
                    <a:pt x="8" y="167"/>
                  </a:cubicBezTo>
                  <a:cubicBezTo>
                    <a:pt x="8" y="180"/>
                    <a:pt x="18" y="196"/>
                    <a:pt x="19" y="200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Oval 1129"/>
            <p:cNvSpPr/>
            <p:nvPr/>
          </p:nvSpPr>
          <p:spPr>
            <a:xfrm>
              <a:off x="1572120" y="4677480"/>
              <a:ext cx="6840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Oval 1139"/>
            <p:cNvSpPr/>
            <p:nvPr/>
          </p:nvSpPr>
          <p:spPr>
            <a:xfrm>
              <a:off x="1718280" y="4334400"/>
              <a:ext cx="6588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845"/>
            <p:cNvSpPr/>
            <p:nvPr/>
          </p:nvSpPr>
          <p:spPr>
            <a:xfrm>
              <a:off x="3906000" y="3560760"/>
              <a:ext cx="261360" cy="251280"/>
            </a:xfrm>
            <a:custGeom>
              <a:avLst/>
              <a:gdLst/>
              <a:ahLst/>
              <a:rect l="l" t="t" r="r" b="b"/>
              <a:pathLst>
                <a:path w="156" h="149">
                  <a:moveTo>
                    <a:pt x="0" y="149"/>
                  </a:moveTo>
                  <a:cubicBezTo>
                    <a:pt x="15" y="135"/>
                    <a:pt x="65" y="81"/>
                    <a:pt x="90" y="56"/>
                  </a:cubicBezTo>
                  <a:cubicBezTo>
                    <a:pt x="116" y="31"/>
                    <a:pt x="119" y="30"/>
                    <a:pt x="156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Oval 872"/>
            <p:cNvSpPr/>
            <p:nvPr/>
          </p:nvSpPr>
          <p:spPr>
            <a:xfrm>
              <a:off x="3876480" y="3803760"/>
              <a:ext cx="67320" cy="69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Freeform 803"/>
            <p:cNvSpPr/>
            <p:nvPr/>
          </p:nvSpPr>
          <p:spPr>
            <a:xfrm>
              <a:off x="5267880" y="2629800"/>
              <a:ext cx="952560" cy="1463400"/>
            </a:xfrm>
            <a:custGeom>
              <a:avLst/>
              <a:gdLst/>
              <a:ahLst/>
              <a:rect l="l" t="t" r="r" b="b"/>
              <a:pathLst>
                <a:path w="567" h="869">
                  <a:moveTo>
                    <a:pt x="567" y="0"/>
                  </a:moveTo>
                  <a:lnTo>
                    <a:pt x="18" y="808"/>
                  </a:lnTo>
                  <a:lnTo>
                    <a:pt x="0" y="869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Freeform 806"/>
            <p:cNvSpPr/>
            <p:nvPr/>
          </p:nvSpPr>
          <p:spPr>
            <a:xfrm>
              <a:off x="5263920" y="2623320"/>
              <a:ext cx="965160" cy="1423800"/>
            </a:xfrm>
            <a:custGeom>
              <a:avLst/>
              <a:gdLst/>
              <a:ahLst/>
              <a:rect l="l" t="t" r="r" b="b"/>
              <a:pathLst>
                <a:path w="3020" h="4450">
                  <a:moveTo>
                    <a:pt x="3020" y="57"/>
                  </a:moveTo>
                  <a:lnTo>
                    <a:pt x="2795" y="388"/>
                  </a:lnTo>
                  <a:lnTo>
                    <a:pt x="2713" y="331"/>
                  </a:lnTo>
                  <a:lnTo>
                    <a:pt x="2937" y="0"/>
                  </a:lnTo>
                  <a:lnTo>
                    <a:pt x="3020" y="57"/>
                  </a:lnTo>
                  <a:close/>
                  <a:moveTo>
                    <a:pt x="2627" y="636"/>
                  </a:moveTo>
                  <a:lnTo>
                    <a:pt x="2402" y="967"/>
                  </a:lnTo>
                  <a:lnTo>
                    <a:pt x="2320" y="911"/>
                  </a:lnTo>
                  <a:lnTo>
                    <a:pt x="2544" y="580"/>
                  </a:lnTo>
                  <a:lnTo>
                    <a:pt x="2627" y="636"/>
                  </a:lnTo>
                  <a:close/>
                  <a:moveTo>
                    <a:pt x="2234" y="1215"/>
                  </a:moveTo>
                  <a:lnTo>
                    <a:pt x="2009" y="1546"/>
                  </a:lnTo>
                  <a:lnTo>
                    <a:pt x="1927" y="1490"/>
                  </a:lnTo>
                  <a:lnTo>
                    <a:pt x="2151" y="1159"/>
                  </a:lnTo>
                  <a:lnTo>
                    <a:pt x="2234" y="1215"/>
                  </a:lnTo>
                  <a:close/>
                  <a:moveTo>
                    <a:pt x="1841" y="1794"/>
                  </a:moveTo>
                  <a:lnTo>
                    <a:pt x="1616" y="2125"/>
                  </a:lnTo>
                  <a:lnTo>
                    <a:pt x="1534" y="2069"/>
                  </a:lnTo>
                  <a:lnTo>
                    <a:pt x="1758" y="1738"/>
                  </a:lnTo>
                  <a:lnTo>
                    <a:pt x="1841" y="1794"/>
                  </a:lnTo>
                  <a:close/>
                  <a:moveTo>
                    <a:pt x="1448" y="2374"/>
                  </a:moveTo>
                  <a:lnTo>
                    <a:pt x="1223" y="2705"/>
                  </a:lnTo>
                  <a:lnTo>
                    <a:pt x="1141" y="2649"/>
                  </a:lnTo>
                  <a:lnTo>
                    <a:pt x="1365" y="2318"/>
                  </a:lnTo>
                  <a:lnTo>
                    <a:pt x="1448" y="2374"/>
                  </a:lnTo>
                  <a:close/>
                  <a:moveTo>
                    <a:pt x="1055" y="2953"/>
                  </a:moveTo>
                  <a:lnTo>
                    <a:pt x="830" y="3284"/>
                  </a:lnTo>
                  <a:lnTo>
                    <a:pt x="748" y="3228"/>
                  </a:lnTo>
                  <a:lnTo>
                    <a:pt x="972" y="2897"/>
                  </a:lnTo>
                  <a:lnTo>
                    <a:pt x="1055" y="2953"/>
                  </a:lnTo>
                  <a:close/>
                  <a:moveTo>
                    <a:pt x="662" y="3532"/>
                  </a:moveTo>
                  <a:lnTo>
                    <a:pt x="437" y="3863"/>
                  </a:lnTo>
                  <a:lnTo>
                    <a:pt x="355" y="3807"/>
                  </a:lnTo>
                  <a:lnTo>
                    <a:pt x="579" y="3476"/>
                  </a:lnTo>
                  <a:lnTo>
                    <a:pt x="662" y="3532"/>
                  </a:lnTo>
                  <a:close/>
                  <a:moveTo>
                    <a:pt x="269" y="4112"/>
                  </a:moveTo>
                  <a:lnTo>
                    <a:pt x="134" y="4310"/>
                  </a:lnTo>
                  <a:lnTo>
                    <a:pt x="141" y="4296"/>
                  </a:lnTo>
                  <a:lnTo>
                    <a:pt x="96" y="4450"/>
                  </a:lnTo>
                  <a:lnTo>
                    <a:pt x="0" y="4422"/>
                  </a:lnTo>
                  <a:lnTo>
                    <a:pt x="45" y="4268"/>
                  </a:lnTo>
                  <a:cubicBezTo>
                    <a:pt x="47" y="4263"/>
                    <a:pt x="49" y="4258"/>
                    <a:pt x="52" y="4254"/>
                  </a:cubicBezTo>
                  <a:lnTo>
                    <a:pt x="186" y="4055"/>
                  </a:lnTo>
                  <a:lnTo>
                    <a:pt x="269" y="41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Oval 871"/>
            <p:cNvSpPr/>
            <p:nvPr/>
          </p:nvSpPr>
          <p:spPr>
            <a:xfrm>
              <a:off x="6210360" y="2572560"/>
              <a:ext cx="6480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Oval 907"/>
            <p:cNvSpPr/>
            <p:nvPr/>
          </p:nvSpPr>
          <p:spPr>
            <a:xfrm>
              <a:off x="5268960" y="3957120"/>
              <a:ext cx="65880" cy="684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Freeform 830"/>
            <p:cNvSpPr/>
            <p:nvPr/>
          </p:nvSpPr>
          <p:spPr>
            <a:xfrm>
              <a:off x="6107400" y="2063160"/>
              <a:ext cx="204480" cy="142200"/>
            </a:xfrm>
            <a:custGeom>
              <a:avLst/>
              <a:gdLst/>
              <a:ahLst/>
              <a:rect l="l" t="t" r="r" b="b"/>
              <a:pathLst>
                <a:path w="122" h="84">
                  <a:moveTo>
                    <a:pt x="0" y="0"/>
                  </a:moveTo>
                  <a:cubicBezTo>
                    <a:pt x="11" y="2"/>
                    <a:pt x="49" y="8"/>
                    <a:pt x="65" y="14"/>
                  </a:cubicBezTo>
                  <a:cubicBezTo>
                    <a:pt x="81" y="20"/>
                    <a:pt x="85" y="25"/>
                    <a:pt x="95" y="37"/>
                  </a:cubicBezTo>
                  <a:cubicBezTo>
                    <a:pt x="104" y="48"/>
                    <a:pt x="118" y="76"/>
                    <a:pt x="122" y="84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Freeform 831"/>
            <p:cNvSpPr/>
            <p:nvPr/>
          </p:nvSpPr>
          <p:spPr>
            <a:xfrm>
              <a:off x="6233040" y="2200680"/>
              <a:ext cx="77400" cy="411120"/>
            </a:xfrm>
            <a:custGeom>
              <a:avLst/>
              <a:gdLst/>
              <a:ahLst/>
              <a:rect l="l" t="t" r="r" b="b"/>
              <a:pathLst>
                <a:path w="46" h="245">
                  <a:moveTo>
                    <a:pt x="46" y="0"/>
                  </a:moveTo>
                  <a:cubicBezTo>
                    <a:pt x="45" y="13"/>
                    <a:pt x="44" y="56"/>
                    <a:pt x="43" y="76"/>
                  </a:cubicBezTo>
                  <a:cubicBezTo>
                    <a:pt x="42" y="97"/>
                    <a:pt x="43" y="104"/>
                    <a:pt x="40" y="122"/>
                  </a:cubicBezTo>
                  <a:cubicBezTo>
                    <a:pt x="37" y="141"/>
                    <a:pt x="31" y="165"/>
                    <a:pt x="24" y="185"/>
                  </a:cubicBezTo>
                  <a:cubicBezTo>
                    <a:pt x="18" y="205"/>
                    <a:pt x="9" y="225"/>
                    <a:pt x="0" y="245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Oval 869"/>
            <p:cNvSpPr/>
            <p:nvPr/>
          </p:nvSpPr>
          <p:spPr>
            <a:xfrm>
              <a:off x="6080760" y="2040480"/>
              <a:ext cx="6588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Oval 867"/>
            <p:cNvSpPr/>
            <p:nvPr/>
          </p:nvSpPr>
          <p:spPr>
            <a:xfrm>
              <a:off x="6275160" y="2173680"/>
              <a:ext cx="65880" cy="684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817280" y="3830040"/>
              <a:ext cx="3459240" cy="424080"/>
              <a:chOff x="1817280" y="3830040"/>
              <a:chExt cx="3459240" cy="424080"/>
            </a:xfrm>
          </p:grpSpPr>
          <p:sp>
            <p:nvSpPr>
              <p:cNvPr id="329" name="Freeform 804"/>
              <p:cNvSpPr/>
              <p:nvPr/>
            </p:nvSpPr>
            <p:spPr>
              <a:xfrm>
                <a:off x="1824480" y="3841200"/>
                <a:ext cx="3446280" cy="399960"/>
              </a:xfrm>
              <a:custGeom>
                <a:avLst/>
                <a:gdLst/>
                <a:ahLst/>
                <a:rect l="l" t="t" r="r" b="b"/>
                <a:pathLst>
                  <a:path w="2049" h="237">
                    <a:moveTo>
                      <a:pt x="0" y="73"/>
                    </a:moveTo>
                    <a:cubicBezTo>
                      <a:pt x="11" y="67"/>
                      <a:pt x="43" y="51"/>
                      <a:pt x="69" y="39"/>
                    </a:cubicBezTo>
                    <a:cubicBezTo>
                      <a:pt x="96" y="27"/>
                      <a:pt x="127" y="6"/>
                      <a:pt x="157" y="3"/>
                    </a:cubicBezTo>
                    <a:cubicBezTo>
                      <a:pt x="187" y="0"/>
                      <a:pt x="221" y="17"/>
                      <a:pt x="252" y="21"/>
                    </a:cubicBezTo>
                    <a:cubicBezTo>
                      <a:pt x="282" y="25"/>
                      <a:pt x="295" y="31"/>
                      <a:pt x="344" y="28"/>
                    </a:cubicBezTo>
                    <a:cubicBezTo>
                      <a:pt x="393" y="25"/>
                      <a:pt x="482" y="0"/>
                      <a:pt x="546" y="3"/>
                    </a:cubicBezTo>
                    <a:cubicBezTo>
                      <a:pt x="611" y="6"/>
                      <a:pt x="672" y="37"/>
                      <a:pt x="733" y="48"/>
                    </a:cubicBezTo>
                    <a:cubicBezTo>
                      <a:pt x="794" y="59"/>
                      <a:pt x="863" y="55"/>
                      <a:pt x="911" y="66"/>
                    </a:cubicBezTo>
                    <a:cubicBezTo>
                      <a:pt x="959" y="77"/>
                      <a:pt x="993" y="99"/>
                      <a:pt x="1021" y="116"/>
                    </a:cubicBezTo>
                    <a:cubicBezTo>
                      <a:pt x="1049" y="133"/>
                      <a:pt x="1061" y="162"/>
                      <a:pt x="1077" y="170"/>
                    </a:cubicBezTo>
                    <a:cubicBezTo>
                      <a:pt x="1093" y="179"/>
                      <a:pt x="1074" y="173"/>
                      <a:pt x="1115" y="163"/>
                    </a:cubicBezTo>
                    <a:cubicBezTo>
                      <a:pt x="1156" y="154"/>
                      <a:pt x="1272" y="112"/>
                      <a:pt x="1327" y="116"/>
                    </a:cubicBezTo>
                    <a:cubicBezTo>
                      <a:pt x="1381" y="120"/>
                      <a:pt x="1406" y="165"/>
                      <a:pt x="1444" y="184"/>
                    </a:cubicBezTo>
                    <a:cubicBezTo>
                      <a:pt x="1481" y="203"/>
                      <a:pt x="1518" y="221"/>
                      <a:pt x="1552" y="229"/>
                    </a:cubicBezTo>
                    <a:cubicBezTo>
                      <a:pt x="1585" y="237"/>
                      <a:pt x="1608" y="237"/>
                      <a:pt x="1646" y="234"/>
                    </a:cubicBezTo>
                    <a:cubicBezTo>
                      <a:pt x="1684" y="230"/>
                      <a:pt x="1736" y="214"/>
                      <a:pt x="1781" y="207"/>
                    </a:cubicBezTo>
                    <a:cubicBezTo>
                      <a:pt x="1826" y="199"/>
                      <a:pt x="1874" y="196"/>
                      <a:pt x="1918" y="186"/>
                    </a:cubicBezTo>
                    <a:cubicBezTo>
                      <a:pt x="1963" y="176"/>
                      <a:pt x="2022" y="156"/>
                      <a:pt x="2049" y="148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Freeform 805"/>
              <p:cNvSpPr/>
              <p:nvPr/>
            </p:nvSpPr>
            <p:spPr>
              <a:xfrm>
                <a:off x="1817280" y="3830040"/>
                <a:ext cx="3459240" cy="424080"/>
              </a:xfrm>
              <a:custGeom>
                <a:avLst/>
                <a:gdLst/>
                <a:ahLst/>
                <a:rect l="l" t="t" r="r" b="b"/>
                <a:pathLst>
                  <a:path w="2057" h="252">
                    <a:moveTo>
                      <a:pt x="0" y="72"/>
                    </a:moveTo>
                    <a:lnTo>
                      <a:pt x="3" y="71"/>
                    </a:lnTo>
                    <a:lnTo>
                      <a:pt x="5" y="69"/>
                    </a:lnTo>
                    <a:lnTo>
                      <a:pt x="9" y="67"/>
                    </a:lnTo>
                    <a:lnTo>
                      <a:pt x="12" y="66"/>
                    </a:lnTo>
                    <a:lnTo>
                      <a:pt x="16" y="64"/>
                    </a:lnTo>
                    <a:lnTo>
                      <a:pt x="20" y="61"/>
                    </a:lnTo>
                    <a:lnTo>
                      <a:pt x="30" y="57"/>
                    </a:lnTo>
                    <a:lnTo>
                      <a:pt x="40" y="52"/>
                    </a:lnTo>
                    <a:lnTo>
                      <a:pt x="50" y="47"/>
                    </a:lnTo>
                    <a:lnTo>
                      <a:pt x="60" y="42"/>
                    </a:lnTo>
                    <a:lnTo>
                      <a:pt x="69" y="38"/>
                    </a:lnTo>
                    <a:lnTo>
                      <a:pt x="77" y="55"/>
                    </a:lnTo>
                    <a:lnTo>
                      <a:pt x="68" y="59"/>
                    </a:lnTo>
                    <a:lnTo>
                      <a:pt x="58" y="64"/>
                    </a:lnTo>
                    <a:lnTo>
                      <a:pt x="48" y="69"/>
                    </a:lnTo>
                    <a:lnTo>
                      <a:pt x="38" y="74"/>
                    </a:lnTo>
                    <a:lnTo>
                      <a:pt x="29" y="78"/>
                    </a:lnTo>
                    <a:lnTo>
                      <a:pt x="25" y="81"/>
                    </a:lnTo>
                    <a:lnTo>
                      <a:pt x="21" y="82"/>
                    </a:lnTo>
                    <a:lnTo>
                      <a:pt x="17" y="84"/>
                    </a:lnTo>
                    <a:lnTo>
                      <a:pt x="14" y="86"/>
                    </a:lnTo>
                    <a:lnTo>
                      <a:pt x="11" y="87"/>
                    </a:lnTo>
                    <a:lnTo>
                      <a:pt x="9" y="89"/>
                    </a:lnTo>
                    <a:lnTo>
                      <a:pt x="0" y="72"/>
                    </a:lnTo>
                    <a:close/>
                    <a:moveTo>
                      <a:pt x="120" y="13"/>
                    </a:moveTo>
                    <a:lnTo>
                      <a:pt x="124" y="11"/>
                    </a:lnTo>
                    <a:lnTo>
                      <a:pt x="136" y="6"/>
                    </a:lnTo>
                    <a:lnTo>
                      <a:pt x="142" y="4"/>
                    </a:lnTo>
                    <a:lnTo>
                      <a:pt x="148" y="3"/>
                    </a:lnTo>
                    <a:lnTo>
                      <a:pt x="155" y="1"/>
                    </a:lnTo>
                    <a:lnTo>
                      <a:pt x="161" y="0"/>
                    </a:lnTo>
                    <a:lnTo>
                      <a:pt x="167" y="0"/>
                    </a:lnTo>
                    <a:lnTo>
                      <a:pt x="174" y="0"/>
                    </a:lnTo>
                    <a:lnTo>
                      <a:pt x="180" y="1"/>
                    </a:lnTo>
                    <a:lnTo>
                      <a:pt x="186" y="1"/>
                    </a:lnTo>
                    <a:lnTo>
                      <a:pt x="199" y="4"/>
                    </a:lnTo>
                    <a:lnTo>
                      <a:pt x="200" y="4"/>
                    </a:lnTo>
                    <a:lnTo>
                      <a:pt x="196" y="23"/>
                    </a:lnTo>
                    <a:lnTo>
                      <a:pt x="195" y="23"/>
                    </a:lnTo>
                    <a:lnTo>
                      <a:pt x="184" y="20"/>
                    </a:lnTo>
                    <a:lnTo>
                      <a:pt x="179" y="20"/>
                    </a:lnTo>
                    <a:lnTo>
                      <a:pt x="173" y="19"/>
                    </a:lnTo>
                    <a:lnTo>
                      <a:pt x="168" y="19"/>
                    </a:lnTo>
                    <a:lnTo>
                      <a:pt x="163" y="19"/>
                    </a:lnTo>
                    <a:lnTo>
                      <a:pt x="158" y="20"/>
                    </a:lnTo>
                    <a:lnTo>
                      <a:pt x="153" y="21"/>
                    </a:lnTo>
                    <a:lnTo>
                      <a:pt x="148" y="22"/>
                    </a:lnTo>
                    <a:lnTo>
                      <a:pt x="143" y="24"/>
                    </a:lnTo>
                    <a:lnTo>
                      <a:pt x="132" y="28"/>
                    </a:lnTo>
                    <a:lnTo>
                      <a:pt x="128" y="30"/>
                    </a:lnTo>
                    <a:lnTo>
                      <a:pt x="120" y="13"/>
                    </a:lnTo>
                    <a:close/>
                    <a:moveTo>
                      <a:pt x="255" y="18"/>
                    </a:moveTo>
                    <a:lnTo>
                      <a:pt x="258" y="19"/>
                    </a:lnTo>
                    <a:lnTo>
                      <a:pt x="263" y="19"/>
                    </a:lnTo>
                    <a:lnTo>
                      <a:pt x="269" y="20"/>
                    </a:lnTo>
                    <a:lnTo>
                      <a:pt x="279" y="22"/>
                    </a:lnTo>
                    <a:lnTo>
                      <a:pt x="288" y="23"/>
                    </a:lnTo>
                    <a:lnTo>
                      <a:pt x="297" y="25"/>
                    </a:lnTo>
                    <a:lnTo>
                      <a:pt x="302" y="25"/>
                    </a:lnTo>
                    <a:lnTo>
                      <a:pt x="307" y="26"/>
                    </a:lnTo>
                    <a:lnTo>
                      <a:pt x="313" y="26"/>
                    </a:lnTo>
                    <a:lnTo>
                      <a:pt x="318" y="26"/>
                    </a:lnTo>
                    <a:lnTo>
                      <a:pt x="325" y="26"/>
                    </a:lnTo>
                    <a:lnTo>
                      <a:pt x="329" y="26"/>
                    </a:lnTo>
                    <a:lnTo>
                      <a:pt x="329" y="45"/>
                    </a:lnTo>
                    <a:lnTo>
                      <a:pt x="325" y="45"/>
                    </a:lnTo>
                    <a:lnTo>
                      <a:pt x="318" y="45"/>
                    </a:lnTo>
                    <a:lnTo>
                      <a:pt x="311" y="45"/>
                    </a:lnTo>
                    <a:lnTo>
                      <a:pt x="306" y="44"/>
                    </a:lnTo>
                    <a:lnTo>
                      <a:pt x="300" y="44"/>
                    </a:lnTo>
                    <a:lnTo>
                      <a:pt x="295" y="43"/>
                    </a:lnTo>
                    <a:lnTo>
                      <a:pt x="285" y="42"/>
                    </a:lnTo>
                    <a:lnTo>
                      <a:pt x="276" y="41"/>
                    </a:lnTo>
                    <a:lnTo>
                      <a:pt x="266" y="39"/>
                    </a:lnTo>
                    <a:lnTo>
                      <a:pt x="261" y="38"/>
                    </a:lnTo>
                    <a:lnTo>
                      <a:pt x="255" y="37"/>
                    </a:lnTo>
                    <a:lnTo>
                      <a:pt x="252" y="37"/>
                    </a:lnTo>
                    <a:lnTo>
                      <a:pt x="255" y="18"/>
                    </a:lnTo>
                    <a:close/>
                    <a:moveTo>
                      <a:pt x="384" y="21"/>
                    </a:moveTo>
                    <a:lnTo>
                      <a:pt x="390" y="20"/>
                    </a:lnTo>
                    <a:lnTo>
                      <a:pt x="403" y="18"/>
                    </a:lnTo>
                    <a:lnTo>
                      <a:pt x="416" y="15"/>
                    </a:lnTo>
                    <a:lnTo>
                      <a:pt x="429" y="13"/>
                    </a:lnTo>
                    <a:lnTo>
                      <a:pt x="443" y="11"/>
                    </a:lnTo>
                    <a:lnTo>
                      <a:pt x="459" y="8"/>
                    </a:lnTo>
                    <a:lnTo>
                      <a:pt x="462" y="27"/>
                    </a:lnTo>
                    <a:lnTo>
                      <a:pt x="446" y="29"/>
                    </a:lnTo>
                    <a:lnTo>
                      <a:pt x="432" y="32"/>
                    </a:lnTo>
                    <a:lnTo>
                      <a:pt x="419" y="34"/>
                    </a:lnTo>
                    <a:lnTo>
                      <a:pt x="406" y="36"/>
                    </a:lnTo>
                    <a:lnTo>
                      <a:pt x="393" y="39"/>
                    </a:lnTo>
                    <a:lnTo>
                      <a:pt x="387" y="40"/>
                    </a:lnTo>
                    <a:lnTo>
                      <a:pt x="384" y="21"/>
                    </a:lnTo>
                    <a:close/>
                    <a:moveTo>
                      <a:pt x="516" y="1"/>
                    </a:moveTo>
                    <a:lnTo>
                      <a:pt x="525" y="1"/>
                    </a:lnTo>
                    <a:lnTo>
                      <a:pt x="539" y="0"/>
                    </a:lnTo>
                    <a:lnTo>
                      <a:pt x="551" y="0"/>
                    </a:lnTo>
                    <a:lnTo>
                      <a:pt x="564" y="1"/>
                    </a:lnTo>
                    <a:lnTo>
                      <a:pt x="576" y="3"/>
                    </a:lnTo>
                    <a:lnTo>
                      <a:pt x="589" y="5"/>
                    </a:lnTo>
                    <a:lnTo>
                      <a:pt x="595" y="6"/>
                    </a:lnTo>
                    <a:lnTo>
                      <a:pt x="591" y="25"/>
                    </a:lnTo>
                    <a:lnTo>
                      <a:pt x="586" y="24"/>
                    </a:lnTo>
                    <a:lnTo>
                      <a:pt x="574" y="22"/>
                    </a:lnTo>
                    <a:lnTo>
                      <a:pt x="563" y="20"/>
                    </a:lnTo>
                    <a:lnTo>
                      <a:pt x="551" y="19"/>
                    </a:lnTo>
                    <a:lnTo>
                      <a:pt x="539" y="19"/>
                    </a:lnTo>
                    <a:lnTo>
                      <a:pt x="527" y="19"/>
                    </a:lnTo>
                    <a:lnTo>
                      <a:pt x="518" y="20"/>
                    </a:lnTo>
                    <a:lnTo>
                      <a:pt x="516" y="1"/>
                    </a:lnTo>
                    <a:close/>
                    <a:moveTo>
                      <a:pt x="650" y="21"/>
                    </a:moveTo>
                    <a:lnTo>
                      <a:pt x="672" y="28"/>
                    </a:lnTo>
                    <a:lnTo>
                      <a:pt x="695" y="35"/>
                    </a:lnTo>
                    <a:lnTo>
                      <a:pt x="706" y="38"/>
                    </a:lnTo>
                    <a:lnTo>
                      <a:pt x="717" y="41"/>
                    </a:lnTo>
                    <a:lnTo>
                      <a:pt x="723" y="42"/>
                    </a:lnTo>
                    <a:lnTo>
                      <a:pt x="718" y="61"/>
                    </a:lnTo>
                    <a:lnTo>
                      <a:pt x="713" y="60"/>
                    </a:lnTo>
                    <a:lnTo>
                      <a:pt x="701" y="56"/>
                    </a:lnTo>
                    <a:lnTo>
                      <a:pt x="689" y="53"/>
                    </a:lnTo>
                    <a:lnTo>
                      <a:pt x="666" y="46"/>
                    </a:lnTo>
                    <a:lnTo>
                      <a:pt x="645" y="39"/>
                    </a:lnTo>
                    <a:lnTo>
                      <a:pt x="650" y="21"/>
                    </a:lnTo>
                    <a:close/>
                    <a:moveTo>
                      <a:pt x="778" y="51"/>
                    </a:moveTo>
                    <a:lnTo>
                      <a:pt x="785" y="51"/>
                    </a:lnTo>
                    <a:lnTo>
                      <a:pt x="809" y="53"/>
                    </a:lnTo>
                    <a:lnTo>
                      <a:pt x="832" y="54"/>
                    </a:lnTo>
                    <a:lnTo>
                      <a:pt x="853" y="56"/>
                    </a:lnTo>
                    <a:lnTo>
                      <a:pt x="852" y="75"/>
                    </a:lnTo>
                    <a:lnTo>
                      <a:pt x="831" y="73"/>
                    </a:lnTo>
                    <a:lnTo>
                      <a:pt x="808" y="72"/>
                    </a:lnTo>
                    <a:lnTo>
                      <a:pt x="784" y="70"/>
                    </a:lnTo>
                    <a:lnTo>
                      <a:pt x="776" y="70"/>
                    </a:lnTo>
                    <a:lnTo>
                      <a:pt x="778" y="51"/>
                    </a:lnTo>
                    <a:close/>
                    <a:moveTo>
                      <a:pt x="911" y="63"/>
                    </a:moveTo>
                    <a:lnTo>
                      <a:pt x="918" y="64"/>
                    </a:lnTo>
                    <a:lnTo>
                      <a:pt x="927" y="66"/>
                    </a:lnTo>
                    <a:lnTo>
                      <a:pt x="936" y="69"/>
                    </a:lnTo>
                    <a:lnTo>
                      <a:pt x="944" y="72"/>
                    </a:lnTo>
                    <a:lnTo>
                      <a:pt x="952" y="75"/>
                    </a:lnTo>
                    <a:lnTo>
                      <a:pt x="968" y="81"/>
                    </a:lnTo>
                    <a:lnTo>
                      <a:pt x="982" y="87"/>
                    </a:lnTo>
                    <a:lnTo>
                      <a:pt x="985" y="89"/>
                    </a:lnTo>
                    <a:lnTo>
                      <a:pt x="977" y="106"/>
                    </a:lnTo>
                    <a:lnTo>
                      <a:pt x="974" y="105"/>
                    </a:lnTo>
                    <a:lnTo>
                      <a:pt x="961" y="98"/>
                    </a:lnTo>
                    <a:lnTo>
                      <a:pt x="946" y="92"/>
                    </a:lnTo>
                    <a:lnTo>
                      <a:pt x="938" y="90"/>
                    </a:lnTo>
                    <a:lnTo>
                      <a:pt x="930" y="87"/>
                    </a:lnTo>
                    <a:lnTo>
                      <a:pt x="922" y="85"/>
                    </a:lnTo>
                    <a:lnTo>
                      <a:pt x="914" y="83"/>
                    </a:lnTo>
                    <a:lnTo>
                      <a:pt x="907" y="81"/>
                    </a:lnTo>
                    <a:lnTo>
                      <a:pt x="911" y="63"/>
                    </a:lnTo>
                    <a:close/>
                    <a:moveTo>
                      <a:pt x="1035" y="118"/>
                    </a:moveTo>
                    <a:lnTo>
                      <a:pt x="1036" y="119"/>
                    </a:lnTo>
                    <a:lnTo>
                      <a:pt x="1041" y="123"/>
                    </a:lnTo>
                    <a:lnTo>
                      <a:pt x="1046" y="127"/>
                    </a:lnTo>
                    <a:lnTo>
                      <a:pt x="1051" y="131"/>
                    </a:lnTo>
                    <a:lnTo>
                      <a:pt x="1059" y="139"/>
                    </a:lnTo>
                    <a:lnTo>
                      <a:pt x="1066" y="148"/>
                    </a:lnTo>
                    <a:lnTo>
                      <a:pt x="1072" y="155"/>
                    </a:lnTo>
                    <a:lnTo>
                      <a:pt x="1075" y="159"/>
                    </a:lnTo>
                    <a:lnTo>
                      <a:pt x="1078" y="162"/>
                    </a:lnTo>
                    <a:lnTo>
                      <a:pt x="1080" y="164"/>
                    </a:lnTo>
                    <a:lnTo>
                      <a:pt x="1083" y="167"/>
                    </a:lnTo>
                    <a:lnTo>
                      <a:pt x="1085" y="168"/>
                    </a:lnTo>
                    <a:lnTo>
                      <a:pt x="1087" y="170"/>
                    </a:lnTo>
                    <a:lnTo>
                      <a:pt x="1089" y="170"/>
                    </a:lnTo>
                    <a:lnTo>
                      <a:pt x="1080" y="187"/>
                    </a:lnTo>
                    <a:lnTo>
                      <a:pt x="1077" y="186"/>
                    </a:lnTo>
                    <a:lnTo>
                      <a:pt x="1073" y="183"/>
                    </a:lnTo>
                    <a:lnTo>
                      <a:pt x="1070" y="181"/>
                    </a:lnTo>
                    <a:lnTo>
                      <a:pt x="1067" y="178"/>
                    </a:lnTo>
                    <a:lnTo>
                      <a:pt x="1063" y="174"/>
                    </a:lnTo>
                    <a:lnTo>
                      <a:pt x="1060" y="171"/>
                    </a:lnTo>
                    <a:lnTo>
                      <a:pt x="1057" y="167"/>
                    </a:lnTo>
                    <a:lnTo>
                      <a:pt x="1051" y="160"/>
                    </a:lnTo>
                    <a:lnTo>
                      <a:pt x="1045" y="152"/>
                    </a:lnTo>
                    <a:lnTo>
                      <a:pt x="1038" y="145"/>
                    </a:lnTo>
                    <a:lnTo>
                      <a:pt x="1034" y="141"/>
                    </a:lnTo>
                    <a:lnTo>
                      <a:pt x="1030" y="138"/>
                    </a:lnTo>
                    <a:lnTo>
                      <a:pt x="1026" y="134"/>
                    </a:lnTo>
                    <a:lnTo>
                      <a:pt x="1025" y="134"/>
                    </a:lnTo>
                    <a:lnTo>
                      <a:pt x="1035" y="118"/>
                    </a:lnTo>
                    <a:close/>
                    <a:moveTo>
                      <a:pt x="1136" y="157"/>
                    </a:moveTo>
                    <a:lnTo>
                      <a:pt x="1136" y="157"/>
                    </a:lnTo>
                    <a:lnTo>
                      <a:pt x="1142" y="155"/>
                    </a:lnTo>
                    <a:lnTo>
                      <a:pt x="1148" y="153"/>
                    </a:lnTo>
                    <a:lnTo>
                      <a:pt x="1154" y="152"/>
                    </a:lnTo>
                    <a:lnTo>
                      <a:pt x="1160" y="150"/>
                    </a:lnTo>
                    <a:lnTo>
                      <a:pt x="1174" y="146"/>
                    </a:lnTo>
                    <a:lnTo>
                      <a:pt x="1188" y="142"/>
                    </a:lnTo>
                    <a:lnTo>
                      <a:pt x="1203" y="137"/>
                    </a:lnTo>
                    <a:lnTo>
                      <a:pt x="1209" y="136"/>
                    </a:lnTo>
                    <a:lnTo>
                      <a:pt x="1214" y="154"/>
                    </a:lnTo>
                    <a:lnTo>
                      <a:pt x="1208" y="155"/>
                    </a:lnTo>
                    <a:lnTo>
                      <a:pt x="1194" y="160"/>
                    </a:lnTo>
                    <a:lnTo>
                      <a:pt x="1179" y="164"/>
                    </a:lnTo>
                    <a:lnTo>
                      <a:pt x="1166" y="168"/>
                    </a:lnTo>
                    <a:lnTo>
                      <a:pt x="1159" y="170"/>
                    </a:lnTo>
                    <a:lnTo>
                      <a:pt x="1153" y="172"/>
                    </a:lnTo>
                    <a:lnTo>
                      <a:pt x="1147" y="174"/>
                    </a:lnTo>
                    <a:lnTo>
                      <a:pt x="1142" y="175"/>
                    </a:lnTo>
                    <a:lnTo>
                      <a:pt x="1141" y="175"/>
                    </a:lnTo>
                    <a:lnTo>
                      <a:pt x="1136" y="157"/>
                    </a:lnTo>
                    <a:close/>
                    <a:moveTo>
                      <a:pt x="1264" y="121"/>
                    </a:moveTo>
                    <a:lnTo>
                      <a:pt x="1265" y="121"/>
                    </a:lnTo>
                    <a:lnTo>
                      <a:pt x="1279" y="118"/>
                    </a:lnTo>
                    <a:lnTo>
                      <a:pt x="1294" y="116"/>
                    </a:lnTo>
                    <a:lnTo>
                      <a:pt x="1307" y="114"/>
                    </a:lnTo>
                    <a:lnTo>
                      <a:pt x="1314" y="114"/>
                    </a:lnTo>
                    <a:lnTo>
                      <a:pt x="1320" y="113"/>
                    </a:lnTo>
                    <a:lnTo>
                      <a:pt x="1326" y="113"/>
                    </a:lnTo>
                    <a:lnTo>
                      <a:pt x="1332" y="114"/>
                    </a:lnTo>
                    <a:lnTo>
                      <a:pt x="1343" y="115"/>
                    </a:lnTo>
                    <a:lnTo>
                      <a:pt x="1344" y="115"/>
                    </a:lnTo>
                    <a:lnTo>
                      <a:pt x="1340" y="134"/>
                    </a:lnTo>
                    <a:lnTo>
                      <a:pt x="1331" y="133"/>
                    </a:lnTo>
                    <a:lnTo>
                      <a:pt x="1326" y="132"/>
                    </a:lnTo>
                    <a:lnTo>
                      <a:pt x="1321" y="132"/>
                    </a:lnTo>
                    <a:lnTo>
                      <a:pt x="1316" y="133"/>
                    </a:lnTo>
                    <a:lnTo>
                      <a:pt x="1310" y="133"/>
                    </a:lnTo>
                    <a:lnTo>
                      <a:pt x="1297" y="135"/>
                    </a:lnTo>
                    <a:lnTo>
                      <a:pt x="1283" y="137"/>
                    </a:lnTo>
                    <a:lnTo>
                      <a:pt x="1269" y="140"/>
                    </a:lnTo>
                    <a:lnTo>
                      <a:pt x="1264" y="121"/>
                    </a:lnTo>
                    <a:close/>
                    <a:moveTo>
                      <a:pt x="1399" y="141"/>
                    </a:moveTo>
                    <a:lnTo>
                      <a:pt x="1402" y="144"/>
                    </a:lnTo>
                    <a:lnTo>
                      <a:pt x="1416" y="155"/>
                    </a:lnTo>
                    <a:lnTo>
                      <a:pt x="1428" y="166"/>
                    </a:lnTo>
                    <a:lnTo>
                      <a:pt x="1435" y="171"/>
                    </a:lnTo>
                    <a:lnTo>
                      <a:pt x="1441" y="175"/>
                    </a:lnTo>
                    <a:lnTo>
                      <a:pt x="1447" y="179"/>
                    </a:lnTo>
                    <a:lnTo>
                      <a:pt x="1453" y="183"/>
                    </a:lnTo>
                    <a:lnTo>
                      <a:pt x="1458" y="185"/>
                    </a:lnTo>
                    <a:lnTo>
                      <a:pt x="1449" y="202"/>
                    </a:lnTo>
                    <a:lnTo>
                      <a:pt x="1444" y="199"/>
                    </a:lnTo>
                    <a:lnTo>
                      <a:pt x="1437" y="195"/>
                    </a:lnTo>
                    <a:lnTo>
                      <a:pt x="1429" y="191"/>
                    </a:lnTo>
                    <a:lnTo>
                      <a:pt x="1423" y="186"/>
                    </a:lnTo>
                    <a:lnTo>
                      <a:pt x="1416" y="180"/>
                    </a:lnTo>
                    <a:lnTo>
                      <a:pt x="1404" y="170"/>
                    </a:lnTo>
                    <a:lnTo>
                      <a:pt x="1391" y="159"/>
                    </a:lnTo>
                    <a:lnTo>
                      <a:pt x="1387" y="156"/>
                    </a:lnTo>
                    <a:lnTo>
                      <a:pt x="1399" y="141"/>
                    </a:lnTo>
                    <a:close/>
                    <a:moveTo>
                      <a:pt x="1509" y="209"/>
                    </a:moveTo>
                    <a:lnTo>
                      <a:pt x="1521" y="215"/>
                    </a:lnTo>
                    <a:lnTo>
                      <a:pt x="1534" y="220"/>
                    </a:lnTo>
                    <a:lnTo>
                      <a:pt x="1547" y="224"/>
                    </a:lnTo>
                    <a:lnTo>
                      <a:pt x="1559" y="227"/>
                    </a:lnTo>
                    <a:lnTo>
                      <a:pt x="1571" y="230"/>
                    </a:lnTo>
                    <a:lnTo>
                      <a:pt x="1579" y="231"/>
                    </a:lnTo>
                    <a:lnTo>
                      <a:pt x="1576" y="250"/>
                    </a:lnTo>
                    <a:lnTo>
                      <a:pt x="1567" y="249"/>
                    </a:lnTo>
                    <a:lnTo>
                      <a:pt x="1554" y="246"/>
                    </a:lnTo>
                    <a:lnTo>
                      <a:pt x="1541" y="242"/>
                    </a:lnTo>
                    <a:lnTo>
                      <a:pt x="1527" y="237"/>
                    </a:lnTo>
                    <a:lnTo>
                      <a:pt x="1514" y="232"/>
                    </a:lnTo>
                    <a:lnTo>
                      <a:pt x="1501" y="227"/>
                    </a:lnTo>
                    <a:lnTo>
                      <a:pt x="1509" y="209"/>
                    </a:lnTo>
                    <a:close/>
                    <a:moveTo>
                      <a:pt x="1634" y="233"/>
                    </a:moveTo>
                    <a:lnTo>
                      <a:pt x="1637" y="233"/>
                    </a:lnTo>
                    <a:lnTo>
                      <a:pt x="1643" y="232"/>
                    </a:lnTo>
                    <a:lnTo>
                      <a:pt x="1650" y="231"/>
                    </a:lnTo>
                    <a:lnTo>
                      <a:pt x="1657" y="231"/>
                    </a:lnTo>
                    <a:lnTo>
                      <a:pt x="1665" y="230"/>
                    </a:lnTo>
                    <a:lnTo>
                      <a:pt x="1680" y="227"/>
                    </a:lnTo>
                    <a:lnTo>
                      <a:pt x="1697" y="223"/>
                    </a:lnTo>
                    <a:lnTo>
                      <a:pt x="1707" y="221"/>
                    </a:lnTo>
                    <a:lnTo>
                      <a:pt x="1712" y="240"/>
                    </a:lnTo>
                    <a:lnTo>
                      <a:pt x="1701" y="242"/>
                    </a:lnTo>
                    <a:lnTo>
                      <a:pt x="1684" y="246"/>
                    </a:lnTo>
                    <a:lnTo>
                      <a:pt x="1667" y="248"/>
                    </a:lnTo>
                    <a:lnTo>
                      <a:pt x="1660" y="250"/>
                    </a:lnTo>
                    <a:lnTo>
                      <a:pt x="1652" y="250"/>
                    </a:lnTo>
                    <a:lnTo>
                      <a:pt x="1645" y="251"/>
                    </a:lnTo>
                    <a:lnTo>
                      <a:pt x="1638" y="252"/>
                    </a:lnTo>
                    <a:lnTo>
                      <a:pt x="1635" y="252"/>
                    </a:lnTo>
                    <a:lnTo>
                      <a:pt x="1634" y="233"/>
                    </a:lnTo>
                    <a:close/>
                    <a:moveTo>
                      <a:pt x="1763" y="209"/>
                    </a:moveTo>
                    <a:lnTo>
                      <a:pt x="1767" y="208"/>
                    </a:lnTo>
                    <a:lnTo>
                      <a:pt x="1784" y="205"/>
                    </a:lnTo>
                    <a:lnTo>
                      <a:pt x="1802" y="202"/>
                    </a:lnTo>
                    <a:lnTo>
                      <a:pt x="1819" y="199"/>
                    </a:lnTo>
                    <a:lnTo>
                      <a:pt x="1839" y="197"/>
                    </a:lnTo>
                    <a:lnTo>
                      <a:pt x="1841" y="216"/>
                    </a:lnTo>
                    <a:lnTo>
                      <a:pt x="1821" y="218"/>
                    </a:lnTo>
                    <a:lnTo>
                      <a:pt x="1804" y="221"/>
                    </a:lnTo>
                    <a:lnTo>
                      <a:pt x="1788" y="223"/>
                    </a:lnTo>
                    <a:lnTo>
                      <a:pt x="1771" y="226"/>
                    </a:lnTo>
                    <a:lnTo>
                      <a:pt x="1767" y="227"/>
                    </a:lnTo>
                    <a:lnTo>
                      <a:pt x="1763" y="209"/>
                    </a:lnTo>
                    <a:close/>
                    <a:moveTo>
                      <a:pt x="1895" y="189"/>
                    </a:moveTo>
                    <a:lnTo>
                      <a:pt x="1905" y="187"/>
                    </a:lnTo>
                    <a:lnTo>
                      <a:pt x="1921" y="184"/>
                    </a:lnTo>
                    <a:lnTo>
                      <a:pt x="1930" y="182"/>
                    </a:lnTo>
                    <a:lnTo>
                      <a:pt x="1938" y="180"/>
                    </a:lnTo>
                    <a:lnTo>
                      <a:pt x="1956" y="175"/>
                    </a:lnTo>
                    <a:lnTo>
                      <a:pt x="1968" y="172"/>
                    </a:lnTo>
                    <a:lnTo>
                      <a:pt x="1973" y="190"/>
                    </a:lnTo>
                    <a:lnTo>
                      <a:pt x="1961" y="194"/>
                    </a:lnTo>
                    <a:lnTo>
                      <a:pt x="1943" y="198"/>
                    </a:lnTo>
                    <a:lnTo>
                      <a:pt x="1934" y="201"/>
                    </a:lnTo>
                    <a:lnTo>
                      <a:pt x="1925" y="203"/>
                    </a:lnTo>
                    <a:lnTo>
                      <a:pt x="1908" y="206"/>
                    </a:lnTo>
                    <a:lnTo>
                      <a:pt x="1898" y="208"/>
                    </a:lnTo>
                    <a:lnTo>
                      <a:pt x="1895" y="189"/>
                    </a:lnTo>
                    <a:close/>
                    <a:moveTo>
                      <a:pt x="2022" y="155"/>
                    </a:moveTo>
                    <a:lnTo>
                      <a:pt x="2025" y="154"/>
                    </a:lnTo>
                    <a:lnTo>
                      <a:pt x="2033" y="152"/>
                    </a:lnTo>
                    <a:lnTo>
                      <a:pt x="2039" y="150"/>
                    </a:lnTo>
                    <a:lnTo>
                      <a:pt x="2045" y="148"/>
                    </a:lnTo>
                    <a:lnTo>
                      <a:pt x="2051" y="146"/>
                    </a:lnTo>
                    <a:lnTo>
                      <a:pt x="2057" y="164"/>
                    </a:lnTo>
                    <a:lnTo>
                      <a:pt x="2051" y="166"/>
                    </a:lnTo>
                    <a:lnTo>
                      <a:pt x="2045" y="168"/>
                    </a:lnTo>
                    <a:lnTo>
                      <a:pt x="2038" y="170"/>
                    </a:lnTo>
                    <a:lnTo>
                      <a:pt x="2031" y="172"/>
                    </a:lnTo>
                    <a:lnTo>
                      <a:pt x="2028" y="173"/>
                    </a:lnTo>
                    <a:lnTo>
                      <a:pt x="2022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1" name="Oval 1126"/>
            <p:cNvSpPr/>
            <p:nvPr/>
          </p:nvSpPr>
          <p:spPr>
            <a:xfrm>
              <a:off x="1780560" y="3945960"/>
              <a:ext cx="6840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Oval 863"/>
            <p:cNvSpPr/>
            <p:nvPr/>
          </p:nvSpPr>
          <p:spPr>
            <a:xfrm>
              <a:off x="5242320" y="4048920"/>
              <a:ext cx="66960" cy="64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Oval 1131"/>
            <p:cNvSpPr/>
            <p:nvPr/>
          </p:nvSpPr>
          <p:spPr>
            <a:xfrm>
              <a:off x="3607200" y="4092120"/>
              <a:ext cx="6624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Freeform 821"/>
            <p:cNvSpPr/>
            <p:nvPr/>
          </p:nvSpPr>
          <p:spPr>
            <a:xfrm>
              <a:off x="1626480" y="4025880"/>
              <a:ext cx="162720" cy="63360"/>
            </a:xfrm>
            <a:custGeom>
              <a:avLst/>
              <a:gdLst/>
              <a:ahLst/>
              <a:rect l="l" t="t" r="r" b="b"/>
              <a:pathLst>
                <a:path w="1021" h="400">
                  <a:moveTo>
                    <a:pt x="859" y="343"/>
                  </a:moveTo>
                  <a:lnTo>
                    <a:pt x="859" y="343"/>
                  </a:lnTo>
                  <a:cubicBezTo>
                    <a:pt x="767" y="351"/>
                    <a:pt x="685" y="282"/>
                    <a:pt x="678" y="189"/>
                  </a:cubicBezTo>
                  <a:cubicBezTo>
                    <a:pt x="670" y="97"/>
                    <a:pt x="739" y="16"/>
                    <a:pt x="831" y="8"/>
                  </a:cubicBezTo>
                  <a:lnTo>
                    <a:pt x="832" y="8"/>
                  </a:lnTo>
                  <a:cubicBezTo>
                    <a:pt x="924" y="0"/>
                    <a:pt x="1005" y="69"/>
                    <a:pt x="1013" y="162"/>
                  </a:cubicBezTo>
                  <a:cubicBezTo>
                    <a:pt x="1021" y="254"/>
                    <a:pt x="952" y="335"/>
                    <a:pt x="859" y="343"/>
                  </a:cubicBezTo>
                  <a:close/>
                  <a:moveTo>
                    <a:pt x="188" y="392"/>
                  </a:moveTo>
                  <a:lnTo>
                    <a:pt x="187" y="392"/>
                  </a:lnTo>
                  <a:cubicBezTo>
                    <a:pt x="95" y="400"/>
                    <a:pt x="14" y="330"/>
                    <a:pt x="7" y="238"/>
                  </a:cubicBezTo>
                  <a:cubicBezTo>
                    <a:pt x="0" y="145"/>
                    <a:pt x="69" y="64"/>
                    <a:pt x="162" y="57"/>
                  </a:cubicBezTo>
                  <a:cubicBezTo>
                    <a:pt x="255" y="50"/>
                    <a:pt x="335" y="120"/>
                    <a:pt x="342" y="212"/>
                  </a:cubicBezTo>
                  <a:cubicBezTo>
                    <a:pt x="350" y="305"/>
                    <a:pt x="280" y="385"/>
                    <a:pt x="188" y="392"/>
                  </a:cubicBezTo>
                  <a:close/>
                </a:path>
              </a:pathLst>
            </a:custGeom>
            <a:solidFill>
              <a:srgbClr val="ff5050"/>
            </a:solidFill>
            <a:ln w="0">
              <a:solidFill>
                <a:srgbClr val="ff5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Oval 1111"/>
            <p:cNvSpPr/>
            <p:nvPr/>
          </p:nvSpPr>
          <p:spPr>
            <a:xfrm>
              <a:off x="1747440" y="4025880"/>
              <a:ext cx="67320" cy="662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1438920" y="4039920"/>
              <a:ext cx="178560" cy="230400"/>
              <a:chOff x="1438920" y="4039920"/>
              <a:chExt cx="178560" cy="230400"/>
            </a:xfrm>
          </p:grpSpPr>
          <p:sp>
            <p:nvSpPr>
              <p:cNvPr id="337" name="Freeform 813"/>
              <p:cNvSpPr/>
              <p:nvPr/>
            </p:nvSpPr>
            <p:spPr>
              <a:xfrm>
                <a:off x="1476720" y="4059720"/>
                <a:ext cx="110160" cy="172440"/>
              </a:xfrm>
              <a:custGeom>
                <a:avLst/>
                <a:gdLst/>
                <a:ahLst/>
                <a:rect l="l" t="t" r="r" b="b"/>
                <a:pathLst>
                  <a:path w="65" h="103">
                    <a:moveTo>
                      <a:pt x="65" y="0"/>
                    </a:moveTo>
                    <a:cubicBezTo>
                      <a:pt x="49" y="22"/>
                      <a:pt x="16" y="81"/>
                      <a:pt x="0" y="103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Oval 1109"/>
              <p:cNvSpPr/>
              <p:nvPr/>
            </p:nvSpPr>
            <p:spPr>
              <a:xfrm>
                <a:off x="1551600" y="4039920"/>
                <a:ext cx="65880" cy="6840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Oval 1113"/>
              <p:cNvSpPr/>
              <p:nvPr/>
            </p:nvSpPr>
            <p:spPr>
              <a:xfrm>
                <a:off x="1438920" y="4203360"/>
                <a:ext cx="67320" cy="6696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1D86-E1FA-4411-84D6-F9E6B2AC454A}" type="slidenum">
              <a:t>8</a:t>
            </a:fld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360" y="11556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在来線を活用し工事費</a:t>
            </a: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1/5</a:t>
            </a: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に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2560" y="83628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新幹線と直通運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貨物列車のため三線または四線軌条に 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踏切事故防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障害物検知と信号の連動、遮断強度の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高速走行を徹底的に指向した車両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超低床・低車高・小断面とし空力特性を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曲線の速度向上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カントこう上、車体傾斜、緩和曲線延伸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超高頻度運行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有人自動運転により運転人件費を抑制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5393-09BA-4BD9-A28D-AB192C61CFE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08:44:56Z</dcterms:created>
  <dc:creator>abe@LRT.co.jp</dc:creator>
  <dc:description/>
  <dc:language>en-US</dc:language>
  <cp:lastModifiedBy> </cp:lastModifiedBy>
  <cp:lastPrinted>2002-11-08T14:14:22Z</cp:lastPrinted>
  <dcterms:modified xsi:type="dcterms:W3CDTF">2020-05-23T06:14:59Z</dcterms:modified>
  <cp:revision>199</cp:revision>
  <dc:subject/>
  <dc:title>JREA講演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BS\乗合タクシー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