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6DBB-3B95-4B13-B945-3AA122F36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C368-AE63-4F6C-A139-745CEC981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7D53-47D6-4826-9CA2-24660C743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5C3F-8D17-4F05-9447-CD9D6AF1E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9194-87E9-464E-96F0-177FE7D70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C217-FAD2-4A87-803D-60B0CEA12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984D-2AC5-4098-A4C1-10B011816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3D9A-650B-49B8-8835-6C9E45D8B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07C1-AB48-484E-8648-5C740916C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1C46-FBD3-43D9-A908-DC3FC4CD3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CB11-F8B5-4991-A2B6-5BCDC66F3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E3D4-76C8-4E81-9B66-D52D95637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7C95-D785-4192-9E1E-47CBED68BC53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アフターコロナ時代に求められる</a:t>
            </a:r>
            <a:br>
              <a:rPr sz="4400"/>
            </a:b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4400"/>
            </a:br>
            <a:endParaRPr b="1" lang="en-US" sz="4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38602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br>
              <a:rPr sz="32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 部　 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20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3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43700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前後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以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強 ⇒ １時間半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フル規格では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以降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38AB-27A7-4955-A49B-E668656B89E0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（在来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により工事費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の延伸も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9F7D-712E-4770-BF35-FAAAEBC302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ACD4-323F-48C7-80AE-5F66E769D0C4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5C25-64F3-46D8-9C8C-E5BB677A5780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５．貨物新幹線（旅客新幹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旅客用の新幹線ネットワークを貨物でも活用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速達性の向上、自然災害への強靭性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アフターコロナ時代は地方－大都市の物流増大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線路容量が逼迫している区間以外に展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初期は函館－大宮ｰ新潟・白山、野中－鹿児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函館・久喜・白山・野中に在来線との積替え基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門型クレーンによりコンテナを数分で積替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青函トンネルの有効活用に貢献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の速度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・貨物の速度差解消により線路容量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F4E3-68FE-4B30-AF38-1D2D70EFDE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4135320" y="4076640"/>
            <a:ext cx="1230480" cy="1073520"/>
            <a:chOff x="4135320" y="4076640"/>
            <a:chExt cx="1230480" cy="1073520"/>
          </a:xfrm>
        </p:grpSpPr>
        <p:sp>
          <p:nvSpPr>
            <p:cNvPr id="354" name="Freeform 840"/>
            <p:cNvSpPr/>
            <p:nvPr/>
          </p:nvSpPr>
          <p:spPr>
            <a:xfrm>
              <a:off x="4135320" y="4541760"/>
              <a:ext cx="843120" cy="270000"/>
            </a:xfrm>
            <a:custGeom>
              <a:avLst/>
              <a:gdLst/>
              <a:ahLst/>
              <a:rect l="l" t="t" r="r" b="b"/>
              <a:pathLst>
                <a:path w="531" h="170">
                  <a:moveTo>
                    <a:pt x="461" y="170"/>
                  </a:moveTo>
                  <a:cubicBezTo>
                    <a:pt x="464" y="158"/>
                    <a:pt x="465" y="117"/>
                    <a:pt x="473" y="101"/>
                  </a:cubicBezTo>
                  <a:cubicBezTo>
                    <a:pt x="481" y="86"/>
                    <a:pt x="499" y="84"/>
                    <a:pt x="510" y="76"/>
                  </a:cubicBezTo>
                  <a:cubicBezTo>
                    <a:pt x="518" y="69"/>
                    <a:pt x="527" y="65"/>
                    <a:pt x="530" y="54"/>
                  </a:cubicBezTo>
                  <a:cubicBezTo>
                    <a:pt x="531" y="45"/>
                    <a:pt x="530" y="24"/>
                    <a:pt x="522" y="16"/>
                  </a:cubicBezTo>
                  <a:cubicBezTo>
                    <a:pt x="512" y="7"/>
                    <a:pt x="499" y="0"/>
                    <a:pt x="477" y="1"/>
                  </a:cubicBezTo>
                  <a:cubicBezTo>
                    <a:pt x="456" y="3"/>
                    <a:pt x="438" y="13"/>
                    <a:pt x="389" y="23"/>
                  </a:cubicBezTo>
                  <a:cubicBezTo>
                    <a:pt x="339" y="32"/>
                    <a:pt x="276" y="47"/>
                    <a:pt x="228" y="54"/>
                  </a:cubicBezTo>
                  <a:cubicBezTo>
                    <a:pt x="180" y="61"/>
                    <a:pt x="138" y="53"/>
                    <a:pt x="100" y="64"/>
                  </a:cubicBezTo>
                  <a:cubicBezTo>
                    <a:pt x="62" y="75"/>
                    <a:pt x="21" y="109"/>
                    <a:pt x="0" y="121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841"/>
            <p:cNvSpPr/>
            <p:nvPr/>
          </p:nvSpPr>
          <p:spPr>
            <a:xfrm>
              <a:off x="4861080" y="4791240"/>
              <a:ext cx="504720" cy="20628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970"/>
            <p:cNvSpPr/>
            <p:nvPr/>
          </p:nvSpPr>
          <p:spPr>
            <a:xfrm>
              <a:off x="4481640" y="407664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194000" y="4600440"/>
              <a:ext cx="369000" cy="357840"/>
              <a:chOff x="4194000" y="4600440"/>
              <a:chExt cx="369000" cy="357840"/>
            </a:xfrm>
          </p:grpSpPr>
          <p:sp>
            <p:nvSpPr>
              <p:cNvPr id="358" name="Rectangle 926"/>
              <p:cNvSpPr/>
              <p:nvPr/>
            </p:nvSpPr>
            <p:spPr>
              <a:xfrm>
                <a:off x="425736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金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円/楕円 176"/>
              <p:cNvSpPr/>
              <p:nvPr/>
            </p:nvSpPr>
            <p:spPr>
              <a:xfrm>
                <a:off x="4194000" y="4600440"/>
                <a:ext cx="122400" cy="123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601880" y="4724280"/>
              <a:ext cx="330480" cy="425880"/>
              <a:chOff x="4601880" y="4724280"/>
              <a:chExt cx="330480" cy="425880"/>
            </a:xfrm>
          </p:grpSpPr>
          <p:sp>
            <p:nvSpPr>
              <p:cNvPr id="361" name="円/楕円 163"/>
              <p:cNvSpPr/>
              <p:nvPr/>
            </p:nvSpPr>
            <p:spPr>
              <a:xfrm>
                <a:off x="4807080" y="472428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926"/>
              <p:cNvSpPr/>
              <p:nvPr/>
            </p:nvSpPr>
            <p:spPr>
              <a:xfrm>
                <a:off x="4601880" y="484488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長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798"/>
          <p:cNvGrpSpPr/>
          <p:nvPr/>
        </p:nvGrpSpPr>
        <p:grpSpPr>
          <a:xfrm>
            <a:off x="684360" y="404640"/>
            <a:ext cx="8359200" cy="6101640"/>
            <a:chOff x="684360" y="404640"/>
            <a:chExt cx="8359200" cy="6101640"/>
          </a:xfrm>
        </p:grpSpPr>
        <p:sp>
          <p:nvSpPr>
            <p:cNvPr id="364" name="Freeform 790"/>
            <p:cNvSpPr/>
            <p:nvPr/>
          </p:nvSpPr>
          <p:spPr>
            <a:xfrm>
              <a:off x="6390360" y="404640"/>
              <a:ext cx="2653200" cy="211572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791"/>
            <p:cNvSpPr/>
            <p:nvPr/>
          </p:nvSpPr>
          <p:spPr>
            <a:xfrm>
              <a:off x="1432800" y="2497320"/>
              <a:ext cx="5604840" cy="355932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792"/>
            <p:cNvSpPr/>
            <p:nvPr/>
          </p:nvSpPr>
          <p:spPr>
            <a:xfrm>
              <a:off x="1802880" y="5319360"/>
              <a:ext cx="1225800" cy="70776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793"/>
            <p:cNvSpPr/>
            <p:nvPr/>
          </p:nvSpPr>
          <p:spPr>
            <a:xfrm>
              <a:off x="3068640" y="5374080"/>
              <a:ext cx="144720" cy="18216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794"/>
            <p:cNvSpPr/>
            <p:nvPr/>
          </p:nvSpPr>
          <p:spPr>
            <a:xfrm>
              <a:off x="2894040" y="5298120"/>
              <a:ext cx="62640" cy="547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795"/>
            <p:cNvSpPr/>
            <p:nvPr/>
          </p:nvSpPr>
          <p:spPr>
            <a:xfrm>
              <a:off x="684360" y="5086080"/>
              <a:ext cx="1038240" cy="142020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796"/>
            <p:cNvSpPr/>
            <p:nvPr/>
          </p:nvSpPr>
          <p:spPr>
            <a:xfrm>
              <a:off x="3705480" y="5079600"/>
              <a:ext cx="201600" cy="17856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797"/>
            <p:cNvSpPr/>
            <p:nvPr/>
          </p:nvSpPr>
          <p:spPr>
            <a:xfrm>
              <a:off x="5082480" y="3925800"/>
              <a:ext cx="205920" cy="24804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Freeform 876"/>
          <p:cNvSpPr/>
          <p:nvPr/>
        </p:nvSpPr>
        <p:spPr>
          <a:xfrm>
            <a:off x="4089240" y="4662360"/>
            <a:ext cx="82800" cy="8100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38"/>
                </a:moveTo>
                <a:lnTo>
                  <a:pt x="19" y="0"/>
                </a:lnTo>
                <a:lnTo>
                  <a:pt x="39" y="38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63440" y="2116080"/>
            <a:ext cx="2210760" cy="735120"/>
            <a:chOff x="5563440" y="2116080"/>
            <a:chExt cx="2210760" cy="735120"/>
          </a:xfrm>
        </p:grpSpPr>
        <p:sp>
          <p:nvSpPr>
            <p:cNvPr id="374" name="Freeform 850"/>
            <p:cNvSpPr/>
            <p:nvPr/>
          </p:nvSpPr>
          <p:spPr>
            <a:xfrm>
              <a:off x="6485040" y="2274840"/>
              <a:ext cx="206280" cy="5763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926"/>
            <p:cNvSpPr/>
            <p:nvPr/>
          </p:nvSpPr>
          <p:spPr>
            <a:xfrm>
              <a:off x="5563440" y="2333520"/>
              <a:ext cx="69336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海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632640" y="2116080"/>
              <a:ext cx="1141560" cy="305280"/>
              <a:chOff x="6632640" y="2116080"/>
              <a:chExt cx="1141560" cy="305280"/>
            </a:xfrm>
          </p:grpSpPr>
          <p:sp>
            <p:nvSpPr>
              <p:cNvPr id="377" name="円/楕円 160"/>
              <p:cNvSpPr/>
              <p:nvPr/>
            </p:nvSpPr>
            <p:spPr>
              <a:xfrm>
                <a:off x="6632640" y="2224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926"/>
              <p:cNvSpPr/>
              <p:nvPr/>
            </p:nvSpPr>
            <p:spPr>
              <a:xfrm>
                <a:off x="7011360" y="211608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函館北斗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231160" y="3701880"/>
            <a:ext cx="752400" cy="1541520"/>
            <a:chOff x="5231160" y="3701880"/>
            <a:chExt cx="752400" cy="1541520"/>
          </a:xfrm>
        </p:grpSpPr>
        <p:sp>
          <p:nvSpPr>
            <p:cNvPr id="380" name="Freeform 900"/>
            <p:cNvSpPr/>
            <p:nvPr/>
          </p:nvSpPr>
          <p:spPr>
            <a:xfrm>
              <a:off x="5297400" y="4232160"/>
              <a:ext cx="241560" cy="101124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970"/>
            <p:cNvSpPr/>
            <p:nvPr/>
          </p:nvSpPr>
          <p:spPr>
            <a:xfrm>
              <a:off x="5231160" y="3701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上越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308560" y="4653000"/>
              <a:ext cx="386280" cy="414360"/>
              <a:chOff x="5308560" y="4653000"/>
              <a:chExt cx="386280" cy="414360"/>
            </a:xfrm>
          </p:grpSpPr>
          <p:sp>
            <p:nvSpPr>
              <p:cNvPr id="383" name="円/楕円 163"/>
              <p:cNvSpPr/>
              <p:nvPr/>
            </p:nvSpPr>
            <p:spPr>
              <a:xfrm>
                <a:off x="5308560" y="494172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926"/>
              <p:cNvSpPr/>
              <p:nvPr/>
            </p:nvSpPr>
            <p:spPr>
              <a:xfrm>
                <a:off x="538920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高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421240" y="4076640"/>
              <a:ext cx="562320" cy="305280"/>
              <a:chOff x="5421240" y="4076640"/>
              <a:chExt cx="562320" cy="305280"/>
            </a:xfrm>
          </p:grpSpPr>
          <p:sp>
            <p:nvSpPr>
              <p:cNvPr id="386" name="円/楕円 167"/>
              <p:cNvSpPr/>
              <p:nvPr/>
            </p:nvSpPr>
            <p:spPr>
              <a:xfrm>
                <a:off x="5421240" y="4165560"/>
                <a:ext cx="1303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926"/>
              <p:cNvSpPr/>
              <p:nvPr/>
            </p:nvSpPr>
            <p:spPr>
              <a:xfrm>
                <a:off x="5677920" y="40766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49640" y="5230800"/>
            <a:ext cx="961920" cy="1240200"/>
            <a:chOff x="449640" y="5230800"/>
            <a:chExt cx="961920" cy="1240200"/>
          </a:xfrm>
        </p:grpSpPr>
        <p:sp>
          <p:nvSpPr>
            <p:cNvPr id="389" name="Freeform 844"/>
            <p:cNvSpPr/>
            <p:nvPr/>
          </p:nvSpPr>
          <p:spPr>
            <a:xfrm>
              <a:off x="1096920" y="5230800"/>
              <a:ext cx="98640" cy="515880"/>
            </a:xfrm>
            <a:custGeom>
              <a:avLst/>
              <a:gdLst/>
              <a:ahLst/>
              <a:rect l="l" t="t" r="r" b="b"/>
              <a:pathLst>
                <a:path w="62" h="325">
                  <a:moveTo>
                    <a:pt x="62" y="0"/>
                  </a:moveTo>
                  <a:cubicBezTo>
                    <a:pt x="61" y="11"/>
                    <a:pt x="51" y="38"/>
                    <a:pt x="47" y="63"/>
                  </a:cubicBezTo>
                  <a:cubicBezTo>
                    <a:pt x="42" y="90"/>
                    <a:pt x="35" y="128"/>
                    <a:pt x="35" y="156"/>
                  </a:cubicBezTo>
                  <a:cubicBezTo>
                    <a:pt x="35" y="182"/>
                    <a:pt x="53" y="202"/>
                    <a:pt x="47" y="230"/>
                  </a:cubicBezTo>
                  <a:cubicBezTo>
                    <a:pt x="41" y="258"/>
                    <a:pt x="10" y="305"/>
                    <a:pt x="0" y="32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814"/>
            <p:cNvSpPr/>
            <p:nvPr/>
          </p:nvSpPr>
          <p:spPr>
            <a:xfrm>
              <a:off x="892080" y="5724360"/>
              <a:ext cx="228600" cy="42084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926"/>
            <p:cNvSpPr/>
            <p:nvPr/>
          </p:nvSpPr>
          <p:spPr>
            <a:xfrm>
              <a:off x="449640" y="5357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九州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48720" y="6124680"/>
              <a:ext cx="762840" cy="346320"/>
              <a:chOff x="648720" y="6124680"/>
              <a:chExt cx="762840" cy="346320"/>
            </a:xfrm>
          </p:grpSpPr>
          <p:sp>
            <p:nvSpPr>
              <p:cNvPr id="393" name="円/楕円 181"/>
              <p:cNvSpPr/>
              <p:nvPr/>
            </p:nvSpPr>
            <p:spPr>
              <a:xfrm>
                <a:off x="898560" y="61246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926"/>
              <p:cNvSpPr/>
              <p:nvPr/>
            </p:nvSpPr>
            <p:spPr>
              <a:xfrm>
                <a:off x="648720" y="616572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鹿児島中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928080" y="4565520"/>
            <a:ext cx="2831400" cy="1184760"/>
            <a:chOff x="928080" y="4565520"/>
            <a:chExt cx="2831400" cy="1184760"/>
          </a:xfrm>
        </p:grpSpPr>
        <p:sp>
          <p:nvSpPr>
            <p:cNvPr id="396" name="Freeform 804"/>
            <p:cNvSpPr/>
            <p:nvPr/>
          </p:nvSpPr>
          <p:spPr>
            <a:xfrm>
              <a:off x="1211400" y="5060880"/>
              <a:ext cx="2278080" cy="358920"/>
            </a:xfrm>
            <a:custGeom>
              <a:avLst/>
              <a:gdLst/>
              <a:ahLst/>
              <a:rect l="l" t="t" r="r" b="b"/>
              <a:pathLst>
                <a:path w="1435" h="226">
                  <a:moveTo>
                    <a:pt x="0" y="97"/>
                  </a:moveTo>
                  <a:cubicBezTo>
                    <a:pt x="15" y="89"/>
                    <a:pt x="57" y="68"/>
                    <a:pt x="91" y="52"/>
                  </a:cubicBezTo>
                  <a:cubicBezTo>
                    <a:pt x="127" y="36"/>
                    <a:pt x="168" y="8"/>
                    <a:pt x="208" y="4"/>
                  </a:cubicBezTo>
                  <a:cubicBezTo>
                    <a:pt x="248" y="0"/>
                    <a:pt x="293" y="23"/>
                    <a:pt x="334" y="28"/>
                  </a:cubicBezTo>
                  <a:cubicBezTo>
                    <a:pt x="373" y="33"/>
                    <a:pt x="391" y="41"/>
                    <a:pt x="455" y="37"/>
                  </a:cubicBezTo>
                  <a:cubicBezTo>
                    <a:pt x="520" y="33"/>
                    <a:pt x="638" y="0"/>
                    <a:pt x="723" y="4"/>
                  </a:cubicBezTo>
                  <a:cubicBezTo>
                    <a:pt x="809" y="8"/>
                    <a:pt x="890" y="49"/>
                    <a:pt x="971" y="64"/>
                  </a:cubicBezTo>
                  <a:cubicBezTo>
                    <a:pt x="1051" y="78"/>
                    <a:pt x="1143" y="73"/>
                    <a:pt x="1206" y="88"/>
                  </a:cubicBezTo>
                  <a:cubicBezTo>
                    <a:pt x="1270" y="102"/>
                    <a:pt x="1314" y="131"/>
                    <a:pt x="1352" y="154"/>
                  </a:cubicBezTo>
                  <a:cubicBezTo>
                    <a:pt x="1390" y="177"/>
                    <a:pt x="1418" y="211"/>
                    <a:pt x="1435" y="22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926"/>
            <p:cNvSpPr/>
            <p:nvPr/>
          </p:nvSpPr>
          <p:spPr>
            <a:xfrm>
              <a:off x="2249640" y="4565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山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301560" y="5396040"/>
              <a:ext cx="457920" cy="354240"/>
              <a:chOff x="3301560" y="5396040"/>
              <a:chExt cx="457920" cy="354240"/>
            </a:xfrm>
          </p:grpSpPr>
          <p:sp>
            <p:nvSpPr>
              <p:cNvPr id="399" name="円/楕円 173"/>
              <p:cNvSpPr/>
              <p:nvPr/>
            </p:nvSpPr>
            <p:spPr>
              <a:xfrm>
                <a:off x="3462480" y="539604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926"/>
              <p:cNvSpPr/>
              <p:nvPr/>
            </p:nvSpPr>
            <p:spPr>
              <a:xfrm>
                <a:off x="3301560" y="544500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大阪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28080" y="4869000"/>
              <a:ext cx="305640" cy="396720"/>
              <a:chOff x="928080" y="4869000"/>
              <a:chExt cx="305640" cy="396720"/>
            </a:xfrm>
          </p:grpSpPr>
          <p:sp>
            <p:nvSpPr>
              <p:cNvPr id="402" name="円/楕円 185"/>
              <p:cNvSpPr/>
              <p:nvPr/>
            </p:nvSpPr>
            <p:spPr>
              <a:xfrm>
                <a:off x="1139760" y="51832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926"/>
              <p:cNvSpPr/>
              <p:nvPr/>
            </p:nvSpPr>
            <p:spPr>
              <a:xfrm>
                <a:off x="928080" y="4869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博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936440" y="5051520"/>
              <a:ext cx="305640" cy="394200"/>
              <a:chOff x="1936440" y="5051520"/>
              <a:chExt cx="305640" cy="394200"/>
            </a:xfrm>
          </p:grpSpPr>
          <p:sp>
            <p:nvSpPr>
              <p:cNvPr id="405" name="円/楕円 185"/>
              <p:cNvSpPr/>
              <p:nvPr/>
            </p:nvSpPr>
            <p:spPr>
              <a:xfrm>
                <a:off x="2075040" y="50515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926"/>
              <p:cNvSpPr/>
              <p:nvPr/>
            </p:nvSpPr>
            <p:spPr>
              <a:xfrm>
                <a:off x="1936440" y="51404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広島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3798360" y="4378320"/>
            <a:ext cx="390960" cy="419040"/>
            <a:chOff x="3798360" y="4378320"/>
            <a:chExt cx="390960" cy="419040"/>
          </a:xfrm>
        </p:grpSpPr>
        <p:sp>
          <p:nvSpPr>
            <p:cNvPr id="408" name="円/楕円 176"/>
            <p:cNvSpPr/>
            <p:nvPr/>
          </p:nvSpPr>
          <p:spPr>
            <a:xfrm>
              <a:off x="4067280" y="4673520"/>
              <a:ext cx="12204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926"/>
            <p:cNvSpPr/>
            <p:nvPr/>
          </p:nvSpPr>
          <p:spPr>
            <a:xfrm>
              <a:off x="3798360" y="43783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白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406680" y="5013360"/>
            <a:ext cx="343440" cy="406440"/>
            <a:chOff x="3406680" y="5013360"/>
            <a:chExt cx="343440" cy="406440"/>
          </a:xfrm>
        </p:grpSpPr>
        <p:sp>
          <p:nvSpPr>
            <p:cNvPr id="411" name="円/楕円 173"/>
            <p:cNvSpPr/>
            <p:nvPr/>
          </p:nvSpPr>
          <p:spPr>
            <a:xfrm>
              <a:off x="3406680" y="5337000"/>
              <a:ext cx="8280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926"/>
            <p:cNvSpPr/>
            <p:nvPr/>
          </p:nvSpPr>
          <p:spPr>
            <a:xfrm>
              <a:off x="3444480" y="50133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野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貨物新幹線ネットワーク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3880" y="2565360"/>
            <a:ext cx="1905840" cy="3024720"/>
            <a:chOff x="5393880" y="2565360"/>
            <a:chExt cx="1905840" cy="3024720"/>
          </a:xfrm>
        </p:grpSpPr>
        <p:sp>
          <p:nvSpPr>
            <p:cNvPr id="415" name="Freeform 803"/>
            <p:cNvSpPr/>
            <p:nvPr/>
          </p:nvSpPr>
          <p:spPr>
            <a:xfrm>
              <a:off x="5562720" y="3546360"/>
              <a:ext cx="1141200" cy="175428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830"/>
            <p:cNvSpPr/>
            <p:nvPr/>
          </p:nvSpPr>
          <p:spPr>
            <a:xfrm>
              <a:off x="6562800" y="2838600"/>
              <a:ext cx="255600" cy="17748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831"/>
            <p:cNvSpPr/>
            <p:nvPr/>
          </p:nvSpPr>
          <p:spPr>
            <a:xfrm>
              <a:off x="6719760" y="3009960"/>
              <a:ext cx="96840" cy="51444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1022"/>
            <p:cNvSpPr/>
            <p:nvPr/>
          </p:nvSpPr>
          <p:spPr>
            <a:xfrm>
              <a:off x="6569280" y="3773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東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521400" y="2565360"/>
              <a:ext cx="778320" cy="341280"/>
              <a:chOff x="6521400" y="2565360"/>
              <a:chExt cx="778320" cy="341280"/>
            </a:xfrm>
          </p:grpSpPr>
          <p:sp>
            <p:nvSpPr>
              <p:cNvPr id="420" name="円/楕円 159"/>
              <p:cNvSpPr/>
              <p:nvPr/>
            </p:nvSpPr>
            <p:spPr>
              <a:xfrm>
                <a:off x="6521400" y="2781360"/>
                <a:ext cx="12564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Rectangle 926"/>
              <p:cNvSpPr/>
              <p:nvPr/>
            </p:nvSpPr>
            <p:spPr>
              <a:xfrm>
                <a:off x="6841800" y="256536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青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659640" y="3357720"/>
              <a:ext cx="547920" cy="305280"/>
              <a:chOff x="6659640" y="3357720"/>
              <a:chExt cx="547920" cy="305280"/>
            </a:xfrm>
          </p:grpSpPr>
          <p:sp>
            <p:nvSpPr>
              <p:cNvPr id="423" name="円/楕円 170"/>
              <p:cNvSpPr/>
              <p:nvPr/>
            </p:nvSpPr>
            <p:spPr>
              <a:xfrm>
                <a:off x="6659640" y="3448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Rectangle 926"/>
              <p:cNvSpPr/>
              <p:nvPr/>
            </p:nvSpPr>
            <p:spPr>
              <a:xfrm>
                <a:off x="6901920" y="3357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盛岡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6170760" y="4149720"/>
              <a:ext cx="463680" cy="359280"/>
              <a:chOff x="6170760" y="4149720"/>
              <a:chExt cx="463680" cy="359280"/>
            </a:xfrm>
          </p:grpSpPr>
          <p:sp>
            <p:nvSpPr>
              <p:cNvPr id="426" name="円/楕円 169"/>
              <p:cNvSpPr/>
              <p:nvPr/>
            </p:nvSpPr>
            <p:spPr>
              <a:xfrm>
                <a:off x="6170760" y="4149720"/>
                <a:ext cx="12996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Rectangle 926"/>
              <p:cNvSpPr/>
              <p:nvPr/>
            </p:nvSpPr>
            <p:spPr>
              <a:xfrm>
                <a:off x="6328800" y="4203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仙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393880" y="5197320"/>
              <a:ext cx="305640" cy="392760"/>
              <a:chOff x="5393880" y="5197320"/>
              <a:chExt cx="305640" cy="392760"/>
            </a:xfrm>
          </p:grpSpPr>
          <p:sp>
            <p:nvSpPr>
              <p:cNvPr id="429" name="円/楕円 165"/>
              <p:cNvSpPr/>
              <p:nvPr/>
            </p:nvSpPr>
            <p:spPr>
              <a:xfrm>
                <a:off x="5499000" y="5197320"/>
                <a:ext cx="12564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926"/>
              <p:cNvSpPr/>
              <p:nvPr/>
            </p:nvSpPr>
            <p:spPr>
              <a:xfrm>
                <a:off x="5393880" y="52848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大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5564160" y="4995720"/>
            <a:ext cx="562320" cy="305280"/>
            <a:chOff x="5564160" y="4995720"/>
            <a:chExt cx="562320" cy="305280"/>
          </a:xfrm>
        </p:grpSpPr>
        <p:sp>
          <p:nvSpPr>
            <p:cNvPr id="432" name="Rectangle 926"/>
            <p:cNvSpPr/>
            <p:nvPr/>
          </p:nvSpPr>
          <p:spPr>
            <a:xfrm>
              <a:off x="5820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久喜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円/楕円 169"/>
            <p:cNvSpPr/>
            <p:nvPr/>
          </p:nvSpPr>
          <p:spPr>
            <a:xfrm>
              <a:off x="5564160" y="5076720"/>
              <a:ext cx="13032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88C9-C742-4E08-BF96-44E798CCC395}" type="slidenum">
              <a:t>1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開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国の交通利便が格段に向上、国内回帰の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後の国外から地方への大転換を下支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3EE7-7A7F-4195-AAB2-BDA61BEDC5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を機に機運醸成を期待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B9D3-5646-4954-BAD1-629A1D5B6A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社会発展に大きく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コロナ後は鉄道イノベーション実現チャン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露戦争後、第二次大戦後、中曽根改革に次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絶対に実現する覚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0B93-84D3-44B3-B449-297E1D430161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５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の災いを転じて福と為した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3D48-E569-4085-A438-8658C08CE8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感染症クラスターのリスク、増発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1EA7-EA57-4947-BD85-3CFCD349EA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9D6F-6C93-4A86-9561-4308A7EA7CBB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感染症リスク回避のニーズが顕在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満員電車解消の資金手当ての重要性が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右図の方式で簡便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6000" y="4233960"/>
            <a:ext cx="3889440" cy="272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02E-FCDD-49A3-BCA1-C9649F97E781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68D9-F0FA-472F-9B9D-71AA4C9B438A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5EDE-E318-4D37-8CF1-8E097893EE50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⇒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FDCA-ED50-4F9A-8C8B-F49BF96FD0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4172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4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3EB5-E2F8-4FF0-9CE1-DDE211A087BD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EE65-0F98-41DC-9459-FD9A666429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5-23T06:14:59Z</dcterms:modified>
  <cp:revision>199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