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93FE-7DC2-4D8E-A811-9BFCCDE3F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82F7-ECE7-4C9B-9A9F-898174EE4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7FDE-C915-4008-9486-317E84204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66F5-4B11-49D8-806E-F98549316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217F-0473-4776-8D4A-3F8063D1E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9CB6-61E2-492A-A394-932CAF069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9534-38CF-4A6D-A981-E66B75A3C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32EC-324E-4078-A7F1-8A9B3F0C5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F732-A40D-4623-AB7A-9E196B251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A3B2-96A1-4B80-931B-92BE4D17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1DBB-3C02-493C-A4E3-C1B433FE3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81CF-AE4B-4FEA-AED0-0358653B9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658-EECF-4A0D-99D0-6252660876B7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02392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日本の未来を拓く</a:t>
            </a:r>
            <a:br>
              <a:rPr sz="5400"/>
            </a:b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5400"/>
            </a:br>
            <a:endParaRPr b="1" lang="en-US" sz="5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405288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HGSｺﾞｼｯｸE"/>
              </a:rPr>
              <a:t>代表取締役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社長</a:t>
            </a:r>
            <a:br>
              <a:rPr sz="28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　部　　　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19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12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50864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4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09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 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早くて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の見込み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272D-514F-4918-9770-3AF8296352B5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で工事費は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延伸し横浜ＩＲ会場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B751-100E-4795-974E-770D1597E8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4E4-48E1-46CB-8370-A3D9E425A614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7002-318A-4AEF-8E5A-EDF83D1AF899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拓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生活利便が圧倒的に向上、地方創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総合し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全体の生産性が向上し、人口増へ転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D50E-87FB-4BC1-8CF9-90C88D0487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86DB-497C-4CAD-95E9-5AE919EED9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見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道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、大きく社会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に残っていたら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イノベーション構想を取りまとめる余裕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、絶対に実現する覚悟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当座はコンサル、近未来は実業で稼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60FD-E4AA-4FBE-9D69-49D515AA918F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４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7466-8DCA-4308-85E3-89A5638E91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非効率な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”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過疎”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CDD2-ABE1-465F-A99A-F21741C898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7F3B-DD74-4588-8929-1B90C20F3B1A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跳ね上げ式座席と</a:t>
            </a:r>
            <a:br>
              <a:rPr sz="3200"/>
            </a:b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ＩＣカード読取り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3722760"/>
            <a:ext cx="4105440" cy="2874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59A2-2A30-4CDF-BFAA-AE5F839DC3BF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A2F3-208E-4590-80EC-DCF4A6B6BBE1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132B-2F0B-4C15-966D-1560362F3953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＝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B59F-1104-4807-8E96-D431664D06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6584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2578-166C-479F-9481-1A2FB12847B3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64DB-1A3F-4C09-B5F4-0FA114E7C7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4-25T07:58:09Z</dcterms:modified>
  <cp:revision>197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